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jpeg" ContentType="image/jpeg"/>
  <Override PartName="/ppt/media/image38.png" ContentType="image/png"/>
  <Override PartName="/ppt/media/image42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8.png" ContentType="image/png"/>
  <Override PartName="/ppt/media/image23.jpeg" ContentType="image/jpeg"/>
  <Override PartName="/ppt/media/image85.png" ContentType="image/png"/>
  <Override PartName="/ppt/media/image37.png" ContentType="image/png"/>
  <Override PartName="/ppt/media/image34.jpeg" ContentType="image/jpeg"/>
  <Override PartName="/ppt/media/image21.png" ContentType="image/png"/>
  <Override PartName="/ppt/media/image22.png" ContentType="image/png"/>
  <Override PartName="/ppt/media/image59.png" ContentType="image/png"/>
  <Override PartName="/ppt/media/image49.png" ContentType="image/png"/>
  <Override PartName="/ppt/media/image12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15.jpeg" ContentType="image/jpeg"/>
  <Override PartName="/ppt/media/image65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16.jpeg" ContentType="image/jpeg"/>
  <Override PartName="/ppt/media/image88.png" ContentType="image/png"/>
  <Override PartName="/ppt/media/image76.png" ContentType="image/png"/>
  <Override PartName="/ppt/media/image87.png" ContentType="image/png"/>
  <Override PartName="/ppt/media/image79.png" ContentType="image/png"/>
  <Override PartName="/ppt/media/image78.png" ContentType="image/png"/>
  <Override PartName="/ppt/media/image75.png" ContentType="image/png"/>
  <Override PartName="/ppt/media/image74.jpeg" ContentType="image/jpe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31.png" ContentType="image/png"/>
  <Override PartName="/ppt/media/image11.png" ContentType="image/png"/>
  <Override PartName="/ppt/media/image48.png" ContentType="image/png"/>
  <Override PartName="/ppt/media/image90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14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4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84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</p:sldIdLst>
  <p:sldSz cx="10691813" cy="755967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1"/>
          </p:nvPr>
        </p:nvSpPr>
        <p:spPr>
          <a:xfrm>
            <a:off x="38574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949F1-7930-491A-B766-C1DC68695B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Img"/>
          </p:nvPr>
        </p:nvSpPr>
        <p:spPr>
          <a:xfrm>
            <a:off x="767880" y="745920"/>
            <a:ext cx="527076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100" spc="-1" strike="noStrike">
                <a:solidFill>
                  <a:srgbClr val="54585a"/>
                </a:solidFill>
                <a:latin typeface="游ゴシック"/>
              </a:rPr>
              <a:t>Click to move the slide</a:t>
            </a: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ftr" idx="2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 type="sldNum" idx="3"/>
          </p:nvPr>
        </p:nvSpPr>
        <p:spPr>
          <a:xfrm>
            <a:off x="38574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2663A-025E-4306-A200-FB7AA2F4E0E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768240" y="746280"/>
            <a:ext cx="5270760" cy="37256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スライド番号プレースホルダー 3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85E9A-1CD6-4D5A-ADA0-CAD24447BE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768240" y="746280"/>
            <a:ext cx="5270760" cy="37256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スライド番号プレースホルダー 3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4187E-9366-435D-85D6-D2934A6DFB6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4600" y="1500840"/>
            <a:ext cx="9622440" cy="49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6560" indent="0" algn="ctr">
              <a:spcBef>
                <a:spcPts val="374"/>
              </a:spcBef>
              <a:buNone/>
              <a:tabLst>
                <a:tab algn="l" pos="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6560" algn="ctr">
              <a:spcBef>
                <a:spcPts val="374"/>
              </a:spcBef>
              <a:tabLst>
                <a:tab algn="l" pos="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34600" y="1500840"/>
            <a:ext cx="9622440" cy="49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6560" indent="0" algn="ctr">
              <a:spcBef>
                <a:spcPts val="374"/>
              </a:spcBef>
              <a:buNone/>
              <a:tabLst>
                <a:tab algn="l" pos="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4600" y="1500840"/>
            <a:ext cx="9622440" cy="49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6560" indent="0" algn="ctr">
              <a:spcBef>
                <a:spcPts val="374"/>
              </a:spcBef>
              <a:buNone/>
              <a:tabLst>
                <a:tab algn="l" pos="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6560" algn="ctr">
              <a:spcBef>
                <a:spcPts val="374"/>
              </a:spcBef>
              <a:tabLst>
                <a:tab algn="l" pos="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4600" y="1500840"/>
            <a:ext cx="9622440" cy="49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6560" indent="0" algn="ctr">
              <a:spcBef>
                <a:spcPts val="374"/>
              </a:spcBef>
              <a:buNone/>
              <a:tabLst>
                <a:tab algn="l" pos="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6560" algn="ctr">
              <a:spcBef>
                <a:spcPts val="374"/>
              </a:spcBef>
              <a:tabLst>
                <a:tab algn="l" pos="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34600" y="1500840"/>
            <a:ext cx="9622440" cy="49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6560" indent="0" algn="ctr">
              <a:spcBef>
                <a:spcPts val="374"/>
              </a:spcBef>
              <a:buNone/>
              <a:tabLst>
                <a:tab algn="l" pos="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6560" algn="ctr">
              <a:spcBef>
                <a:spcPts val="374"/>
              </a:spcBef>
              <a:tabLst>
                <a:tab algn="l" pos="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6560" algn="ctr">
              <a:spcBef>
                <a:spcPts val="374"/>
              </a:spcBef>
              <a:tabLst>
                <a:tab algn="l" pos="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4600" y="1500840"/>
            <a:ext cx="9622440" cy="49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6560" indent="0" algn="ctr">
              <a:spcBef>
                <a:spcPts val="374"/>
              </a:spcBef>
              <a:buNone/>
              <a:tabLst>
                <a:tab algn="l" pos="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6560" algn="ctr">
              <a:spcBef>
                <a:spcPts val="374"/>
              </a:spcBef>
              <a:tabLst>
                <a:tab algn="l" pos="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534600" y="1500840"/>
            <a:ext cx="9622440" cy="49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6560" indent="0" algn="ctr">
              <a:spcBef>
                <a:spcPts val="374"/>
              </a:spcBef>
              <a:buNone/>
              <a:tabLst>
                <a:tab algn="l" pos="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6560" algn="ctr">
              <a:spcBef>
                <a:spcPts val="374"/>
              </a:spcBef>
              <a:tabLst>
                <a:tab algn="l" pos="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534600" y="1500840"/>
            <a:ext cx="9622440" cy="49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6560" indent="0" algn="ctr">
              <a:spcBef>
                <a:spcPts val="374"/>
              </a:spcBef>
              <a:buNone/>
              <a:tabLst>
                <a:tab algn="l" pos="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876560" algn="ctr">
              <a:spcBef>
                <a:spcPts val="374"/>
              </a:spcBef>
              <a:tabLst>
                <a:tab algn="l" pos="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0691640" cy="825480"/>
          </a:xfrm>
          <a:prstGeom prst="rect">
            <a:avLst/>
          </a:prstGeom>
          <a:ln w="0">
            <a:noFill/>
          </a:ln>
        </p:spPr>
      </p:pic>
      <p:sp>
        <p:nvSpPr>
          <p:cNvPr id="37" name="Line 288"/>
          <p:cNvSpPr/>
          <p:nvPr/>
        </p:nvSpPr>
        <p:spPr>
          <a:xfrm>
            <a:off x="0" y="7145280"/>
            <a:ext cx="10691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38" name="図 70" descr=""/>
          <p:cNvPicPr/>
          <p:nvPr/>
        </p:nvPicPr>
        <p:blipFill>
          <a:blip r:embed="rId3"/>
          <a:stretch/>
        </p:blipFill>
        <p:spPr>
          <a:xfrm>
            <a:off x="9258480" y="7275600"/>
            <a:ext cx="1260360" cy="154080"/>
          </a:xfrm>
          <a:prstGeom prst="rect">
            <a:avLst/>
          </a:prstGeom>
          <a:ln w="0">
            <a:noFill/>
          </a:ln>
        </p:spPr>
      </p:pic>
      <p:pic>
        <p:nvPicPr>
          <p:cNvPr id="39" name="図 4" descr=""/>
          <p:cNvPicPr/>
          <p:nvPr/>
        </p:nvPicPr>
        <p:blipFill>
          <a:blip r:embed="rId4"/>
          <a:stretch/>
        </p:blipFill>
        <p:spPr>
          <a:xfrm>
            <a:off x="176040" y="7209000"/>
            <a:ext cx="1079640" cy="29196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9"/>
          <p:cNvSpPr/>
          <p:nvPr/>
        </p:nvSpPr>
        <p:spPr>
          <a:xfrm>
            <a:off x="5346720" y="7237440"/>
            <a:ext cx="37987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記載の商品写真は印刷のため実際の色とは多少の差があります。現物またはサンプルなどにてご確認ください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掲載内容及び写真・図版の無断転載はかたくお断りします。（許可なく転載・流用した場合、損害賠償が発生します。）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仕様・価格は予告なく変更する場合がありますので、ご了承ください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0691640" cy="8254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1332000" y="7423200"/>
            <a:ext cx="923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詳細は</a:t>
            </a: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WEB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をご確認ください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79" name="図 13" descr=""/>
          <p:cNvPicPr/>
          <p:nvPr/>
        </p:nvPicPr>
        <p:blipFill>
          <a:blip r:embed="rId3"/>
          <a:stretch/>
        </p:blipFill>
        <p:spPr>
          <a:xfrm>
            <a:off x="1332000" y="7210440"/>
            <a:ext cx="923760" cy="206280"/>
          </a:xfrm>
          <a:prstGeom prst="rect">
            <a:avLst/>
          </a:prstGeom>
          <a:ln w="0">
            <a:noFill/>
          </a:ln>
        </p:spPr>
      </p:pic>
      <p:sp>
        <p:nvSpPr>
          <p:cNvPr id="80" name="Line 288"/>
          <p:cNvSpPr/>
          <p:nvPr/>
        </p:nvSpPr>
        <p:spPr>
          <a:xfrm>
            <a:off x="0" y="7145280"/>
            <a:ext cx="10691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5346720" y="7203960"/>
            <a:ext cx="37987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記載の商品写真は印刷のため実際の色とは多少の差があります。現物またはサンプルなどにてご確認ください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表示価格は、商品代のみのメーカー希望小売価格で、消費税、取付費・工事費など別途ご負担をお願いいたします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掲載内容及び写真・図版の無断転載はかたくお断りします。（許可なく転載・流用した場合、損害賠償が発生します。）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仕様・価格は予告なく変更する場合がありますので、ご了承ください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82" name="図 70" descr=""/>
          <p:cNvPicPr/>
          <p:nvPr/>
        </p:nvPicPr>
        <p:blipFill>
          <a:blip r:embed="rId4"/>
          <a:stretch/>
        </p:blipFill>
        <p:spPr>
          <a:xfrm>
            <a:off x="9258480" y="7275600"/>
            <a:ext cx="1260360" cy="154080"/>
          </a:xfrm>
          <a:prstGeom prst="rect">
            <a:avLst/>
          </a:prstGeom>
          <a:ln w="0">
            <a:noFill/>
          </a:ln>
        </p:spPr>
      </p:pic>
      <p:pic>
        <p:nvPicPr>
          <p:cNvPr id="83" name="図 7" descr=""/>
          <p:cNvPicPr/>
          <p:nvPr/>
        </p:nvPicPr>
        <p:blipFill>
          <a:blip r:embed="rId5"/>
          <a:stretch/>
        </p:blipFill>
        <p:spPr>
          <a:xfrm>
            <a:off x="176040" y="7209000"/>
            <a:ext cx="1079640" cy="29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88"/>
          <p:cNvSpPr/>
          <p:nvPr/>
        </p:nvSpPr>
        <p:spPr>
          <a:xfrm>
            <a:off x="0" y="7145280"/>
            <a:ext cx="10691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5346720" y="7203960"/>
            <a:ext cx="37987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記載の商品写真は印刷のため実際の色とは多少の差があります。現物またはサンプルなどにてご確認ください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表示価格は、商品代のみのメーカー希望小売価格で、消費税、取付費・工事費など別途ご負担をお願いいたします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掲載内容及び写真・図版の無断転載はかたくお断りします。（許可なく転載・流用した場合、損害賠償が発生します。）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仕様・価格は予告なく変更する場合がありますので、ご了承ください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22" name="図 70" descr=""/>
          <p:cNvPicPr/>
          <p:nvPr/>
        </p:nvPicPr>
        <p:blipFill>
          <a:blip r:embed="rId2"/>
          <a:stretch/>
        </p:blipFill>
        <p:spPr>
          <a:xfrm>
            <a:off x="9258480" y="7275600"/>
            <a:ext cx="1260360" cy="1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1332000" y="7423200"/>
            <a:ext cx="923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詳細は</a:t>
            </a: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WEB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をご確認ください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60" name="図 13" descr=""/>
          <p:cNvPicPr/>
          <p:nvPr/>
        </p:nvPicPr>
        <p:blipFill>
          <a:blip r:embed="rId2"/>
          <a:stretch/>
        </p:blipFill>
        <p:spPr>
          <a:xfrm>
            <a:off x="1332000" y="7210440"/>
            <a:ext cx="923760" cy="206280"/>
          </a:xfrm>
          <a:prstGeom prst="rect">
            <a:avLst/>
          </a:prstGeom>
          <a:ln w="0">
            <a:noFill/>
          </a:ln>
        </p:spPr>
      </p:pic>
      <p:sp>
        <p:nvSpPr>
          <p:cNvPr id="161" name="Line 288"/>
          <p:cNvSpPr/>
          <p:nvPr/>
        </p:nvSpPr>
        <p:spPr>
          <a:xfrm>
            <a:off x="0" y="7145280"/>
            <a:ext cx="10691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5346720" y="7203960"/>
            <a:ext cx="37987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記載の商品写真は印刷のため実際の色とは多少の差があります。現物またはサンプルなどにてご確認ください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表示価格は、商品代のみのメーカー希望小売価格で、消費税、取付費・工事費など別途ご負担をお願いいたします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掲載内容及び写真・図版の無断転載はかたくお断りします。（許可なく転載・流用した場合、損害賠償が発生します。）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仕様・価格は予告なく変更する場合がありますので、ご了承ください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63" name="図 70" descr=""/>
          <p:cNvPicPr/>
          <p:nvPr/>
        </p:nvPicPr>
        <p:blipFill>
          <a:blip r:embed="rId3"/>
          <a:stretch/>
        </p:blipFill>
        <p:spPr>
          <a:xfrm>
            <a:off x="9258480" y="7275600"/>
            <a:ext cx="1260360" cy="154080"/>
          </a:xfrm>
          <a:prstGeom prst="rect">
            <a:avLst/>
          </a:prstGeom>
          <a:ln w="0">
            <a:noFill/>
          </a:ln>
        </p:spPr>
      </p:pic>
      <p:pic>
        <p:nvPicPr>
          <p:cNvPr id="164" name="図 6" descr=""/>
          <p:cNvPicPr/>
          <p:nvPr/>
        </p:nvPicPr>
        <p:blipFill>
          <a:blip r:embed="rId4"/>
          <a:stretch/>
        </p:blipFill>
        <p:spPr>
          <a:xfrm>
            <a:off x="176040" y="7209000"/>
            <a:ext cx="1079640" cy="291960"/>
          </a:xfrm>
          <a:prstGeom prst="rect">
            <a:avLst/>
          </a:prstGeom>
          <a:ln w="0">
            <a:noFill/>
          </a:ln>
        </p:spPr>
      </p:pic>
      <p:pic>
        <p:nvPicPr>
          <p:cNvPr id="165" name="図 12" descr=""/>
          <p:cNvPicPr/>
          <p:nvPr/>
        </p:nvPicPr>
        <p:blipFill>
          <a:blip r:embed="rId5"/>
          <a:stretch/>
        </p:blipFill>
        <p:spPr>
          <a:xfrm>
            <a:off x="10045800" y="127080"/>
            <a:ext cx="471240" cy="16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図 12" descr=""/>
          <p:cNvPicPr/>
          <p:nvPr/>
        </p:nvPicPr>
        <p:blipFill>
          <a:blip r:embed="rId2"/>
          <a:stretch/>
        </p:blipFill>
        <p:spPr>
          <a:xfrm>
            <a:off x="10045800" y="127080"/>
            <a:ext cx="471240" cy="160200"/>
          </a:xfrm>
          <a:prstGeom prst="rect">
            <a:avLst/>
          </a:prstGeom>
          <a:ln w="0">
            <a:noFill/>
          </a:ln>
        </p:spPr>
      </p:pic>
      <p:sp>
        <p:nvSpPr>
          <p:cNvPr id="203" name="Line 288"/>
          <p:cNvSpPr/>
          <p:nvPr/>
        </p:nvSpPr>
        <p:spPr>
          <a:xfrm>
            <a:off x="0" y="7145280"/>
            <a:ext cx="10691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5346720" y="7203960"/>
            <a:ext cx="37987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記載の商品写真は印刷のため実際の色とは多少の差があります。現物またはサンプルなどにてご確認ください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表示価格は、商品代のみのメーカー希望小売価格で、消費税、取付費・工事費など別途ご負担をお願いいたします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掲載内容及び写真・図版の無断転載はかたくお断りします。（許可なく転載・流用した場合、損害賠償が発生します。）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仕様・価格は予告なく変更する場合がありますので、ご了承ください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205" name="図 70" descr=""/>
          <p:cNvPicPr/>
          <p:nvPr/>
        </p:nvPicPr>
        <p:blipFill>
          <a:blip r:embed="rId3"/>
          <a:stretch/>
        </p:blipFill>
        <p:spPr>
          <a:xfrm>
            <a:off x="9258480" y="7275600"/>
            <a:ext cx="1260360" cy="154080"/>
          </a:xfrm>
          <a:prstGeom prst="rect">
            <a:avLst/>
          </a:prstGeom>
          <a:ln w="0">
            <a:noFill/>
          </a:ln>
        </p:spPr>
      </p:pic>
      <p:pic>
        <p:nvPicPr>
          <p:cNvPr id="206" name="図 5" descr=""/>
          <p:cNvPicPr/>
          <p:nvPr/>
        </p:nvPicPr>
        <p:blipFill>
          <a:blip r:embed="rId4"/>
          <a:stretch/>
        </p:blipFill>
        <p:spPr>
          <a:xfrm>
            <a:off x="176040" y="7209000"/>
            <a:ext cx="1079640" cy="29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図 12" descr=""/>
          <p:cNvPicPr/>
          <p:nvPr/>
        </p:nvPicPr>
        <p:blipFill>
          <a:blip r:embed="rId2"/>
          <a:stretch/>
        </p:blipFill>
        <p:spPr>
          <a:xfrm>
            <a:off x="9915480" y="138240"/>
            <a:ext cx="601560" cy="125280"/>
          </a:xfrm>
          <a:prstGeom prst="rect">
            <a:avLst/>
          </a:prstGeom>
          <a:ln w="0">
            <a:noFill/>
          </a:ln>
        </p:spPr>
      </p:pic>
      <p:sp>
        <p:nvSpPr>
          <p:cNvPr id="244" name="Line 288"/>
          <p:cNvSpPr/>
          <p:nvPr/>
        </p:nvSpPr>
        <p:spPr>
          <a:xfrm>
            <a:off x="0" y="7145280"/>
            <a:ext cx="10691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5346720" y="7237440"/>
            <a:ext cx="37987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記載の商品写真は印刷のため実際の色とは多少の差があります。現物またはサンプルなどにてご確認ください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掲載内容及び写真・図版の無断転載はかたくお断りします。（許可なく転載・流用した場合、損害賠償が発生します。）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仕様・価格は予告なく変更する場合がありますので、ご了承ください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246" name="図 70" descr=""/>
          <p:cNvPicPr/>
          <p:nvPr/>
        </p:nvPicPr>
        <p:blipFill>
          <a:blip r:embed="rId3"/>
          <a:stretch/>
        </p:blipFill>
        <p:spPr>
          <a:xfrm>
            <a:off x="9258480" y="7275600"/>
            <a:ext cx="1260360" cy="154080"/>
          </a:xfrm>
          <a:prstGeom prst="rect">
            <a:avLst/>
          </a:prstGeom>
          <a:ln w="0">
            <a:noFill/>
          </a:ln>
        </p:spPr>
      </p:pic>
      <p:pic>
        <p:nvPicPr>
          <p:cNvPr id="247" name="図 5" descr=""/>
          <p:cNvPicPr/>
          <p:nvPr/>
        </p:nvPicPr>
        <p:blipFill>
          <a:blip r:embed="rId4"/>
          <a:stretch/>
        </p:blipFill>
        <p:spPr>
          <a:xfrm>
            <a:off x="176040" y="7209000"/>
            <a:ext cx="1079640" cy="2919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100" spc="-1" strike="noStrike">
                <a:solidFill>
                  <a:srgbClr val="54585a"/>
                </a:solidFill>
                <a:latin typeface="游ゴシック"/>
              </a:rPr>
              <a:t>Click to edit the title text format</a:t>
            </a:r>
            <a:endParaRPr b="1" lang="en-US" sz="2100" spc="-1" strike="noStrike">
              <a:solidFill>
                <a:srgbClr val="54585a"/>
              </a:solidFill>
              <a:latin typeface="游ゴシック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103876560">
              <a:spcBef>
                <a:spcPts val="374"/>
              </a:spcBef>
              <a:buSzPct val="102985"/>
              <a:buBlip>
                <a:blip r:embed="rId5"/>
              </a:buBlip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游ゴシック"/>
            </a:endParaRPr>
          </a:p>
          <a:p>
            <a:pPr lvl="1" marL="190440" indent="0">
              <a:spcBef>
                <a:spcPts val="349"/>
              </a:spcBef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游ゴシック"/>
            </a:endParaRPr>
          </a:p>
          <a:p>
            <a:pPr lvl="2" marL="190440">
              <a:spcBef>
                <a:spcPts val="326"/>
              </a:spcBef>
              <a:buClr>
                <a:srgbClr val="000000"/>
              </a:buClr>
              <a:buFont typeface="游ゴシック"/>
              <a:buChar char="•"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  <a:p>
            <a:pPr lvl="3" marL="677880" indent="-93600">
              <a:spcBef>
                <a:spcPts val="300"/>
              </a:spcBef>
              <a:buClr>
                <a:srgbClr val="000000"/>
              </a:buClr>
              <a:buFont typeface="游ゴシック"/>
              <a:buChar char="–"/>
              <a:tabLst>
                <a:tab algn="l" pos="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  <a:tab algn="l" pos="103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游ゴシック"/>
            </a:endParaRPr>
          </a:p>
          <a:p>
            <a:pPr lvl="4" marL="1552680" indent="-201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  <a:tab algn="l" pos="10334520"/>
                <a:tab algn="l" pos="10826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游ゴシック"/>
            </a:endParaRPr>
          </a:p>
          <a:p>
            <a:pPr lvl="5" marL="1552680" indent="-201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游ゴシック"/>
            </a:endParaRPr>
          </a:p>
          <a:p>
            <a:pPr lvl="6" marL="1552680" indent="-201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図 12" descr=""/>
          <p:cNvPicPr/>
          <p:nvPr/>
        </p:nvPicPr>
        <p:blipFill>
          <a:blip r:embed="rId2"/>
          <a:stretch/>
        </p:blipFill>
        <p:spPr>
          <a:xfrm>
            <a:off x="9942480" y="130320"/>
            <a:ext cx="574560" cy="137880"/>
          </a:xfrm>
          <a:prstGeom prst="rect">
            <a:avLst/>
          </a:prstGeom>
          <a:ln w="0">
            <a:noFill/>
          </a:ln>
        </p:spPr>
      </p:pic>
      <p:sp>
        <p:nvSpPr>
          <p:cNvPr id="287" name="Line 288"/>
          <p:cNvSpPr/>
          <p:nvPr/>
        </p:nvSpPr>
        <p:spPr>
          <a:xfrm>
            <a:off x="0" y="7145280"/>
            <a:ext cx="10691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5346720" y="7203960"/>
            <a:ext cx="37987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記載の商品写真は印刷のため実際の色とは多少の差があります。現物またはサンプルなどにてご確認ください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表示価格は、商品代のみのメーカー希望小売価格で、消費税、取付費・工事費など別途ご負担をお願いいたします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掲載内容及び写真・図版の無断転載はかたくお断りします。（許可なく転載・流用した場合、損害賠償が発生します。）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ja-JP" sz="5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仕様・価格は予告なく変更する場合がありますので、ご了承ください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289" name="図 70" descr=""/>
          <p:cNvPicPr/>
          <p:nvPr/>
        </p:nvPicPr>
        <p:blipFill>
          <a:blip r:embed="rId3"/>
          <a:stretch/>
        </p:blipFill>
        <p:spPr>
          <a:xfrm>
            <a:off x="9258480" y="7275600"/>
            <a:ext cx="1260360" cy="154080"/>
          </a:xfrm>
          <a:prstGeom prst="rect">
            <a:avLst/>
          </a:prstGeom>
          <a:ln w="0">
            <a:noFill/>
          </a:ln>
        </p:spPr>
      </p:pic>
      <p:pic>
        <p:nvPicPr>
          <p:cNvPr id="290" name="図 5" descr=""/>
          <p:cNvPicPr/>
          <p:nvPr/>
        </p:nvPicPr>
        <p:blipFill>
          <a:blip r:embed="rId4"/>
          <a:stretch/>
        </p:blipFill>
        <p:spPr>
          <a:xfrm>
            <a:off x="176040" y="7209000"/>
            <a:ext cx="1079640" cy="29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jpe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jpe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image" Target="../media/image38.png"/><Relationship Id="rId34" Type="http://schemas.openxmlformats.org/officeDocument/2006/relationships/image" Target="../media/image39.png"/><Relationship Id="rId35" Type="http://schemas.openxmlformats.org/officeDocument/2006/relationships/image" Target="../media/image40.png"/><Relationship Id="rId36" Type="http://schemas.openxmlformats.org/officeDocument/2006/relationships/image" Target="../media/image41.jpeg"/><Relationship Id="rId37" Type="http://schemas.openxmlformats.org/officeDocument/2006/relationships/image" Target="../media/image42.png"/><Relationship Id="rId38" Type="http://schemas.openxmlformats.org/officeDocument/2006/relationships/slideLayout" Target="../slideLayouts/slideLayout13.xml"/><Relationship Id="rId3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49.png"/><Relationship Id="rId11" Type="http://schemas.openxmlformats.org/officeDocument/2006/relationships/image" Target="../media/image48.png"/><Relationship Id="rId12" Type="http://schemas.openxmlformats.org/officeDocument/2006/relationships/image" Target="../media/image51.png"/><Relationship Id="rId13" Type="http://schemas.openxmlformats.org/officeDocument/2006/relationships/image" Target="../media/image48.png"/><Relationship Id="rId14" Type="http://schemas.openxmlformats.org/officeDocument/2006/relationships/image" Target="../media/image52.png"/><Relationship Id="rId15" Type="http://schemas.openxmlformats.org/officeDocument/2006/relationships/image" Target="../media/image49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image" Target="../media/image55.png"/><Relationship Id="rId19" Type="http://schemas.openxmlformats.org/officeDocument/2006/relationships/image" Target="../media/image56.png"/><Relationship Id="rId20" Type="http://schemas.openxmlformats.org/officeDocument/2006/relationships/image" Target="../media/image57.png"/><Relationship Id="rId21" Type="http://schemas.openxmlformats.org/officeDocument/2006/relationships/image" Target="../media/image58.png"/><Relationship Id="rId22" Type="http://schemas.openxmlformats.org/officeDocument/2006/relationships/image" Target="../media/image59.png"/><Relationship Id="rId23" Type="http://schemas.openxmlformats.org/officeDocument/2006/relationships/image" Target="../media/image60.png"/><Relationship Id="rId24" Type="http://schemas.openxmlformats.org/officeDocument/2006/relationships/image" Target="../media/image61.png"/><Relationship Id="rId25" Type="http://schemas.openxmlformats.org/officeDocument/2006/relationships/image" Target="../media/image62.png"/><Relationship Id="rId26" Type="http://schemas.openxmlformats.org/officeDocument/2006/relationships/image" Target="../media/image63.png"/><Relationship Id="rId27" Type="http://schemas.openxmlformats.org/officeDocument/2006/relationships/image" Target="../media/image64.png"/><Relationship Id="rId28" Type="http://schemas.openxmlformats.org/officeDocument/2006/relationships/image" Target="../media/image65.png"/><Relationship Id="rId29" Type="http://schemas.openxmlformats.org/officeDocument/2006/relationships/image" Target="../media/image66.png"/><Relationship Id="rId30" Type="http://schemas.openxmlformats.org/officeDocument/2006/relationships/image" Target="../media/image67.png"/><Relationship Id="rId31" Type="http://schemas.openxmlformats.org/officeDocument/2006/relationships/image" Target="../media/image68.png"/><Relationship Id="rId32" Type="http://schemas.openxmlformats.org/officeDocument/2006/relationships/image" Target="../media/image69.png"/><Relationship Id="rId33" Type="http://schemas.openxmlformats.org/officeDocument/2006/relationships/image" Target="../media/image57.png"/><Relationship Id="rId34" Type="http://schemas.openxmlformats.org/officeDocument/2006/relationships/image" Target="../media/image58.png"/><Relationship Id="rId35" Type="http://schemas.openxmlformats.org/officeDocument/2006/relationships/image" Target="../media/image59.png"/><Relationship Id="rId36" Type="http://schemas.openxmlformats.org/officeDocument/2006/relationships/image" Target="../media/image60.png"/><Relationship Id="rId37" Type="http://schemas.openxmlformats.org/officeDocument/2006/relationships/image" Target="../media/image61.png"/><Relationship Id="rId38" Type="http://schemas.openxmlformats.org/officeDocument/2006/relationships/image" Target="../media/image62.png"/><Relationship Id="rId39" Type="http://schemas.openxmlformats.org/officeDocument/2006/relationships/image" Target="../media/image63.png"/><Relationship Id="rId40" Type="http://schemas.openxmlformats.org/officeDocument/2006/relationships/image" Target="../media/image64.png"/><Relationship Id="rId41" Type="http://schemas.openxmlformats.org/officeDocument/2006/relationships/image" Target="../media/image70.png"/><Relationship Id="rId42" Type="http://schemas.openxmlformats.org/officeDocument/2006/relationships/image" Target="../media/image71.png"/><Relationship Id="rId43" Type="http://schemas.openxmlformats.org/officeDocument/2006/relationships/image" Target="../media/image72.png"/><Relationship Id="rId44" Type="http://schemas.openxmlformats.org/officeDocument/2006/relationships/image" Target="../media/image73.png"/><Relationship Id="rId45" Type="http://schemas.openxmlformats.org/officeDocument/2006/relationships/image" Target="../media/image74.jpeg"/><Relationship Id="rId46" Type="http://schemas.openxmlformats.org/officeDocument/2006/relationships/image" Target="../media/image75.png"/><Relationship Id="rId47" Type="http://schemas.openxmlformats.org/officeDocument/2006/relationships/image" Target="../media/image76.png"/><Relationship Id="rId48" Type="http://schemas.openxmlformats.org/officeDocument/2006/relationships/image" Target="../media/image77.png"/><Relationship Id="rId49" Type="http://schemas.openxmlformats.org/officeDocument/2006/relationships/image" Target="../media/image78.png"/><Relationship Id="rId50" Type="http://schemas.openxmlformats.org/officeDocument/2006/relationships/image" Target="../media/image79.png"/><Relationship Id="rId51" Type="http://schemas.openxmlformats.org/officeDocument/2006/relationships/image" Target="../media/image80.png"/><Relationship Id="rId52" Type="http://schemas.openxmlformats.org/officeDocument/2006/relationships/image" Target="../media/image81.png"/><Relationship Id="rId53" Type="http://schemas.openxmlformats.org/officeDocument/2006/relationships/image" Target="../media/image82.png"/><Relationship Id="rId54" Type="http://schemas.openxmlformats.org/officeDocument/2006/relationships/image" Target="../media/image83.png"/><Relationship Id="rId55" Type="http://schemas.openxmlformats.org/officeDocument/2006/relationships/image" Target="../media/image84.png"/><Relationship Id="rId56" Type="http://schemas.openxmlformats.org/officeDocument/2006/relationships/image" Target="../media/image85.png"/><Relationship Id="rId57" Type="http://schemas.openxmlformats.org/officeDocument/2006/relationships/image" Target="../media/image86.png"/><Relationship Id="rId58" Type="http://schemas.openxmlformats.org/officeDocument/2006/relationships/image" Target="../media/image87.png"/><Relationship Id="rId59" Type="http://schemas.openxmlformats.org/officeDocument/2006/relationships/image" Target="../media/image88.png"/><Relationship Id="rId60" Type="http://schemas.openxmlformats.org/officeDocument/2006/relationships/image" Target="../media/image89.png"/><Relationship Id="rId61" Type="http://schemas.openxmlformats.org/officeDocument/2006/relationships/image" Target="../media/image90.png"/><Relationship Id="rId62" Type="http://schemas.openxmlformats.org/officeDocument/2006/relationships/slideLayout" Target="../slideLayouts/slideLayout73.xml"/><Relationship Id="rId6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図 17" descr=""/>
          <p:cNvPicPr/>
          <p:nvPr/>
        </p:nvPicPr>
        <p:blipFill>
          <a:blip r:embed="rId1"/>
          <a:stretch/>
        </p:blipFill>
        <p:spPr>
          <a:xfrm>
            <a:off x="8597880" y="4560840"/>
            <a:ext cx="1879560" cy="677880"/>
          </a:xfrm>
          <a:prstGeom prst="rect">
            <a:avLst/>
          </a:prstGeom>
          <a:ln w="0">
            <a:noFill/>
          </a:ln>
        </p:spPr>
      </p:pic>
      <p:sp>
        <p:nvSpPr>
          <p:cNvPr id="335" name="正方形/長方形 21"/>
          <p:cNvSpPr/>
          <p:nvPr/>
        </p:nvSpPr>
        <p:spPr>
          <a:xfrm>
            <a:off x="0" y="5616720"/>
            <a:ext cx="10688760" cy="1130040"/>
          </a:xfrm>
          <a:prstGeom prst="rect">
            <a:avLst/>
          </a:prstGeom>
          <a:solidFill>
            <a:srgbClr val="f8f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336" name="object 17" descr=""/>
          <p:cNvPicPr/>
          <p:nvPr/>
        </p:nvPicPr>
        <p:blipFill>
          <a:blip r:embed="rId2"/>
          <a:srcRect l="0" t="2143" r="0" b="0"/>
          <a:stretch/>
        </p:blipFill>
        <p:spPr>
          <a:xfrm>
            <a:off x="8497800" y="5745240"/>
            <a:ext cx="1244520" cy="690480"/>
          </a:xfrm>
          <a:prstGeom prst="rect">
            <a:avLst/>
          </a:prstGeom>
          <a:ln w="0">
            <a:noFill/>
          </a:ln>
        </p:spPr>
      </p:pic>
      <p:grpSp>
        <p:nvGrpSpPr>
          <p:cNvPr id="337" name="object 5"/>
          <p:cNvGrpSpPr/>
          <p:nvPr/>
        </p:nvGrpSpPr>
        <p:grpSpPr>
          <a:xfrm>
            <a:off x="5532480" y="5749920"/>
            <a:ext cx="1211400" cy="687240"/>
            <a:chOff x="5532480" y="5749920"/>
            <a:chExt cx="1211400" cy="687240"/>
          </a:xfrm>
        </p:grpSpPr>
        <p:pic>
          <p:nvPicPr>
            <p:cNvPr id="338" name="object 6" descr=""/>
            <p:cNvPicPr/>
            <p:nvPr/>
          </p:nvPicPr>
          <p:blipFill>
            <a:blip r:embed="rId3"/>
            <a:stretch/>
          </p:blipFill>
          <p:spPr>
            <a:xfrm>
              <a:off x="5532480" y="5749920"/>
              <a:ext cx="121140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object 7"/>
            <p:cNvSpPr/>
            <p:nvPr/>
          </p:nvSpPr>
          <p:spPr>
            <a:xfrm>
              <a:off x="6273360" y="5979240"/>
              <a:ext cx="172440" cy="98280"/>
            </a:xfrm>
            <a:custGeom>
              <a:avLst/>
              <a:gdLst/>
              <a:ahLst/>
              <a:rect l="l" t="t" r="r" b="b"/>
              <a:pathLst>
                <a:path w="259714" h="147954">
                  <a:moveTo>
                    <a:pt x="183781" y="0"/>
                  </a:moveTo>
                  <a:lnTo>
                    <a:pt x="183781" y="37795"/>
                  </a:lnTo>
                  <a:lnTo>
                    <a:pt x="0" y="37795"/>
                  </a:lnTo>
                  <a:lnTo>
                    <a:pt x="0" y="109804"/>
                  </a:lnTo>
                  <a:lnTo>
                    <a:pt x="183781" y="109804"/>
                  </a:lnTo>
                  <a:lnTo>
                    <a:pt x="183781" y="147599"/>
                  </a:lnTo>
                  <a:lnTo>
                    <a:pt x="259245" y="73799"/>
                  </a:lnTo>
                  <a:lnTo>
                    <a:pt x="183781" y="0"/>
                  </a:lnTo>
                  <a:close/>
                </a:path>
              </a:pathLst>
            </a:custGeom>
            <a:solidFill>
              <a:srgbClr val="f8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340" name="object 8"/>
            <p:cNvSpPr/>
            <p:nvPr/>
          </p:nvSpPr>
          <p:spPr>
            <a:xfrm>
              <a:off x="6273360" y="5979240"/>
              <a:ext cx="172440" cy="98280"/>
            </a:xfrm>
            <a:custGeom>
              <a:avLst/>
              <a:gdLst/>
              <a:ahLst/>
              <a:rect l="l" t="t" r="r" b="b"/>
              <a:pathLst>
                <a:path w="259714" h="147954">
                  <a:moveTo>
                    <a:pt x="183781" y="0"/>
                  </a:moveTo>
                  <a:lnTo>
                    <a:pt x="183781" y="37795"/>
                  </a:lnTo>
                  <a:lnTo>
                    <a:pt x="0" y="37795"/>
                  </a:lnTo>
                  <a:lnTo>
                    <a:pt x="0" y="109804"/>
                  </a:lnTo>
                  <a:lnTo>
                    <a:pt x="183781" y="109804"/>
                  </a:lnTo>
                  <a:lnTo>
                    <a:pt x="183781" y="147599"/>
                  </a:lnTo>
                  <a:lnTo>
                    <a:pt x="259245" y="73799"/>
                  </a:lnTo>
                  <a:lnTo>
                    <a:pt x="183781" y="0"/>
                  </a:lnTo>
                  <a:close/>
                </a:path>
              </a:pathLst>
            </a:custGeom>
            <a:noFill/>
            <a:ln w="9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341" name="テキスト ボックス 20"/>
          <p:cNvSpPr/>
          <p:nvPr/>
        </p:nvSpPr>
        <p:spPr>
          <a:xfrm>
            <a:off x="263520" y="5773680"/>
            <a:ext cx="22701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古い窓枠の上に新しい窓枠をカバーする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f57400"/>
                </a:solidFill>
                <a:latin typeface="游ゴシック"/>
                <a:ea typeface="游ゴシック"/>
              </a:rPr>
              <a:t>“</a:t>
            </a:r>
            <a:r>
              <a:rPr b="1" lang="ja-JP" sz="700" spc="-1" strike="noStrike">
                <a:solidFill>
                  <a:srgbClr val="f57400"/>
                </a:solidFill>
                <a:latin typeface="游ゴシック"/>
                <a:ea typeface="游ゴシック"/>
              </a:rPr>
              <a:t>カンタン窓リフォーム”</a:t>
            </a:r>
            <a:r>
              <a:rPr b="1" lang="ja-JP" sz="7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外壁を壊すような大がかりな工事が不要なので、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57400"/>
                </a:solidFill>
                <a:latin typeface="游ゴシック"/>
                <a:ea typeface="游ゴシック"/>
              </a:rPr>
              <a:t>1</a:t>
            </a:r>
            <a:r>
              <a:rPr b="1" lang="ja-JP" sz="700" spc="-1" strike="noStrike">
                <a:solidFill>
                  <a:srgbClr val="f57400"/>
                </a:solidFill>
                <a:latin typeface="游ゴシック"/>
                <a:ea typeface="游ゴシック"/>
              </a:rPr>
              <a:t>日</a:t>
            </a:r>
            <a:r>
              <a:rPr b="1" lang="en-US" sz="700" spc="-1" strike="noStrike" baseline="30000">
                <a:solidFill>
                  <a:srgbClr val="f57400"/>
                </a:solidFill>
                <a:latin typeface="游ゴシック"/>
                <a:ea typeface="游ゴシック"/>
              </a:rPr>
              <a:t>※</a:t>
            </a:r>
            <a:r>
              <a:rPr b="1" lang="en-US" sz="700" spc="-1" strike="noStrike" baseline="30000">
                <a:solidFill>
                  <a:srgbClr val="f57400"/>
                </a:solidFill>
                <a:latin typeface="游ゴシック"/>
                <a:ea typeface="游ゴシック"/>
              </a:rPr>
              <a:t>1</a:t>
            </a:r>
            <a:r>
              <a:rPr b="1" lang="ja-JP" sz="700" spc="-1" strike="noStrike">
                <a:solidFill>
                  <a:srgbClr val="f57400"/>
                </a:solidFill>
                <a:latin typeface="游ゴシック"/>
                <a:ea typeface="游ゴシック"/>
              </a:rPr>
              <a:t>で窓リフォームが完了！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雨戸やシャッターが付いた窓でもリフォーム可能！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342" name="object 15"/>
          <p:cNvGrpSpPr/>
          <p:nvPr/>
        </p:nvGrpSpPr>
        <p:grpSpPr>
          <a:xfrm>
            <a:off x="4075200" y="5729400"/>
            <a:ext cx="1212840" cy="689040"/>
            <a:chOff x="4075200" y="5729400"/>
            <a:chExt cx="1212840" cy="689040"/>
          </a:xfrm>
        </p:grpSpPr>
        <p:pic>
          <p:nvPicPr>
            <p:cNvPr id="343" name="object 16" descr=""/>
            <p:cNvPicPr/>
            <p:nvPr/>
          </p:nvPicPr>
          <p:blipFill>
            <a:blip r:embed="rId4"/>
            <a:stretch/>
          </p:blipFill>
          <p:spPr>
            <a:xfrm>
              <a:off x="4075200" y="5729400"/>
              <a:ext cx="121284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object 17" descr=""/>
            <p:cNvPicPr/>
            <p:nvPr/>
          </p:nvPicPr>
          <p:blipFill>
            <a:blip r:embed="rId5"/>
            <a:stretch/>
          </p:blipFill>
          <p:spPr>
            <a:xfrm>
              <a:off x="4359960" y="6279120"/>
              <a:ext cx="261000" cy="8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5" name="object 4" descr=""/>
          <p:cNvPicPr/>
          <p:nvPr/>
        </p:nvPicPr>
        <p:blipFill>
          <a:blip r:embed="rId6"/>
          <a:stretch/>
        </p:blipFill>
        <p:spPr>
          <a:xfrm>
            <a:off x="2633760" y="5734080"/>
            <a:ext cx="1225440" cy="695160"/>
          </a:xfrm>
          <a:prstGeom prst="rect">
            <a:avLst/>
          </a:prstGeom>
          <a:ln w="0">
            <a:noFill/>
          </a:ln>
        </p:spPr>
      </p:pic>
      <p:pic>
        <p:nvPicPr>
          <p:cNvPr id="346" name="図 11" descr="家具のあるリビングルーム&#10;&#10;自動的に生成された説明"/>
          <p:cNvPicPr/>
          <p:nvPr/>
        </p:nvPicPr>
        <p:blipFill>
          <a:blip r:embed="rId7"/>
          <a:srcRect l="2523" t="7828" r="1747" b="28312"/>
          <a:stretch/>
        </p:blipFill>
        <p:spPr>
          <a:xfrm>
            <a:off x="0" y="828720"/>
            <a:ext cx="5286240" cy="4701960"/>
          </a:xfrm>
          <a:prstGeom prst="rect">
            <a:avLst/>
          </a:prstGeom>
          <a:ln w="0">
            <a:noFill/>
          </a:ln>
        </p:spPr>
      </p:pic>
      <p:pic>
        <p:nvPicPr>
          <p:cNvPr id="347" name="図 15" descr=""/>
          <p:cNvPicPr/>
          <p:nvPr/>
        </p:nvPicPr>
        <p:blipFill>
          <a:blip r:embed="rId8"/>
          <a:srcRect l="13226" t="6559" r="9442" b="12541"/>
          <a:stretch/>
        </p:blipFill>
        <p:spPr>
          <a:xfrm>
            <a:off x="3622680" y="4375080"/>
            <a:ext cx="1662120" cy="1158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348" name="図 15" descr="窓の外を見ている&#10;&#10;自動的に生成された説明"/>
          <p:cNvPicPr/>
          <p:nvPr/>
        </p:nvPicPr>
        <p:blipFill>
          <a:blip r:embed="rId9"/>
          <a:srcRect l="0" t="0" r="0" b="34820"/>
          <a:stretch/>
        </p:blipFill>
        <p:spPr>
          <a:xfrm>
            <a:off x="6818400" y="4818240"/>
            <a:ext cx="884160" cy="547560"/>
          </a:xfrm>
          <a:prstGeom prst="rect">
            <a:avLst/>
          </a:prstGeom>
          <a:ln w="0">
            <a:noFill/>
          </a:ln>
        </p:spPr>
      </p:pic>
      <p:grpSp>
        <p:nvGrpSpPr>
          <p:cNvPr id="349" name="object 6"/>
          <p:cNvGrpSpPr/>
          <p:nvPr/>
        </p:nvGrpSpPr>
        <p:grpSpPr>
          <a:xfrm>
            <a:off x="9259920" y="3305160"/>
            <a:ext cx="917640" cy="596880"/>
            <a:chOff x="9259920" y="3305160"/>
            <a:chExt cx="917640" cy="596880"/>
          </a:xfrm>
        </p:grpSpPr>
        <p:pic>
          <p:nvPicPr>
            <p:cNvPr id="350" name="object 7" descr=""/>
            <p:cNvPicPr/>
            <p:nvPr/>
          </p:nvPicPr>
          <p:blipFill>
            <a:blip r:embed="rId10"/>
            <a:stretch/>
          </p:blipFill>
          <p:spPr>
            <a:xfrm>
              <a:off x="9259920" y="3305160"/>
              <a:ext cx="9176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object 8"/>
            <p:cNvSpPr/>
            <p:nvPr/>
          </p:nvSpPr>
          <p:spPr>
            <a:xfrm>
              <a:off x="9259920" y="3305160"/>
              <a:ext cx="917640" cy="596880"/>
            </a:xfrm>
            <a:custGeom>
              <a:avLst/>
              <a:gdLst/>
              <a:ahLst/>
              <a:rect l="l" t="t" r="r" b="b"/>
              <a:pathLst>
                <a:path w="1435100" h="930909">
                  <a:moveTo>
                    <a:pt x="0" y="930605"/>
                  </a:moveTo>
                  <a:lnTo>
                    <a:pt x="1434604" y="930605"/>
                  </a:lnTo>
                  <a:lnTo>
                    <a:pt x="1434604" y="0"/>
                  </a:lnTo>
                  <a:lnTo>
                    <a:pt x="0" y="0"/>
                  </a:lnTo>
                  <a:lnTo>
                    <a:pt x="0" y="930605"/>
                  </a:lnTo>
                  <a:close/>
                </a:path>
              </a:pathLst>
            </a:custGeom>
            <a:noFill/>
            <a:ln w="5400">
              <a:solidFill>
                <a:srgbClr val="140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352" name="object 3"/>
          <p:cNvGrpSpPr/>
          <p:nvPr/>
        </p:nvGrpSpPr>
        <p:grpSpPr>
          <a:xfrm>
            <a:off x="8055000" y="3298680"/>
            <a:ext cx="917640" cy="595440"/>
            <a:chOff x="8055000" y="3298680"/>
            <a:chExt cx="917640" cy="595440"/>
          </a:xfrm>
        </p:grpSpPr>
        <p:pic>
          <p:nvPicPr>
            <p:cNvPr id="353" name="object 4" descr=""/>
            <p:cNvPicPr/>
            <p:nvPr/>
          </p:nvPicPr>
          <p:blipFill>
            <a:blip r:embed="rId11"/>
            <a:stretch/>
          </p:blipFill>
          <p:spPr>
            <a:xfrm>
              <a:off x="8055000" y="3298680"/>
              <a:ext cx="917640" cy="5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object 5"/>
            <p:cNvSpPr/>
            <p:nvPr/>
          </p:nvSpPr>
          <p:spPr>
            <a:xfrm>
              <a:off x="8055000" y="3298680"/>
              <a:ext cx="917640" cy="595440"/>
            </a:xfrm>
            <a:custGeom>
              <a:avLst/>
              <a:gdLst/>
              <a:ahLst/>
              <a:rect l="l" t="t" r="r" b="b"/>
              <a:pathLst>
                <a:path w="1435100" h="930909">
                  <a:moveTo>
                    <a:pt x="0" y="930605"/>
                  </a:moveTo>
                  <a:lnTo>
                    <a:pt x="1434604" y="930605"/>
                  </a:lnTo>
                  <a:lnTo>
                    <a:pt x="1434604" y="0"/>
                  </a:lnTo>
                  <a:lnTo>
                    <a:pt x="0" y="0"/>
                  </a:lnTo>
                  <a:lnTo>
                    <a:pt x="0" y="930605"/>
                  </a:lnTo>
                  <a:close/>
                </a:path>
              </a:pathLst>
            </a:custGeom>
            <a:noFill/>
            <a:ln w="5400">
              <a:solidFill>
                <a:srgbClr val="140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355" name="直線コネクタ 506"/>
          <p:cNvSpPr/>
          <p:nvPr/>
        </p:nvSpPr>
        <p:spPr>
          <a:xfrm>
            <a:off x="8021520" y="1163520"/>
            <a:ext cx="24480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6" name="正方形/長方形 70"/>
          <p:cNvSpPr/>
          <p:nvPr/>
        </p:nvSpPr>
        <p:spPr>
          <a:xfrm>
            <a:off x="5372280" y="1187280"/>
            <a:ext cx="268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引違い窓のガタつきは、窓枠の変形や戸車の劣化が主な原因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窓を取替えると、開閉しやすくなり動きもスムーズに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7" name="Text Box 1039"/>
          <p:cNvSpPr/>
          <p:nvPr/>
        </p:nvSpPr>
        <p:spPr>
          <a:xfrm>
            <a:off x="393120" y="50148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游ゴシック"/>
                <a:ea typeface="游ゴシック"/>
              </a:rPr>
              <a:t>窓リフォーム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Text Box 1039"/>
          <p:cNvSpPr/>
          <p:nvPr/>
        </p:nvSpPr>
        <p:spPr>
          <a:xfrm>
            <a:off x="1963800" y="334800"/>
            <a:ext cx="1587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游ゴシック"/>
                <a:ea typeface="游ゴシック"/>
              </a:rPr>
              <a:t>取替窓 リプラス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359" name="図 9" descr=""/>
          <p:cNvPicPr/>
          <p:nvPr/>
        </p:nvPicPr>
        <p:blipFill>
          <a:blip r:embed="rId12"/>
          <a:stretch/>
        </p:blipFill>
        <p:spPr>
          <a:xfrm>
            <a:off x="6985080" y="2759040"/>
            <a:ext cx="844560" cy="1149480"/>
          </a:xfrm>
          <a:prstGeom prst="rect">
            <a:avLst/>
          </a:prstGeom>
          <a:ln w="0">
            <a:noFill/>
          </a:ln>
        </p:spPr>
      </p:pic>
      <p:sp>
        <p:nvSpPr>
          <p:cNvPr id="360" name="正方形/長方形 28"/>
          <p:cNvSpPr/>
          <p:nvPr/>
        </p:nvSpPr>
        <p:spPr>
          <a:xfrm>
            <a:off x="925560" y="1593720"/>
            <a:ext cx="4521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傷みや不具合が目立ってきた窓を新しい窓に取替えて、見た目も機能もグレードアップ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ts val="11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今ある窓枠の上から、新しい窓枠を取付けるだけだから、壁をこわさず、</a:t>
            </a:r>
            <a:r>
              <a:rPr b="0" lang="en-US" sz="7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1</a:t>
            </a:r>
            <a:r>
              <a:rPr b="0" lang="ja-JP" sz="7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日でリフォームが完了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ts val="11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さらにリプラスなら、窓の種類を変更したり、窓のサイズを小さくすることも可能です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ts val="11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リビングから浴室まで、わが家の窓のお悩みはリプラスがパッと解決します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ts val="11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※</a:t>
            </a:r>
            <a:r>
              <a:rPr b="0" lang="ja-JP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現場により施工時間は異なります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1" name="直線コネクタ 179"/>
          <p:cNvSpPr/>
          <p:nvPr/>
        </p:nvSpPr>
        <p:spPr>
          <a:xfrm>
            <a:off x="5450040" y="1163520"/>
            <a:ext cx="24476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2" name="正方形/長方形 118"/>
          <p:cNvSpPr/>
          <p:nvPr/>
        </p:nvSpPr>
        <p:spPr>
          <a:xfrm>
            <a:off x="5361120" y="905040"/>
            <a:ext cx="21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開け閉め </a:t>
            </a:r>
            <a:r>
              <a:rPr b="0" lang="ja-JP" sz="900" spc="-1" strike="noStrike">
                <a:solidFill>
                  <a:srgbClr val="000000"/>
                </a:solidFill>
                <a:latin typeface="Yu Gothic Medium"/>
                <a:ea typeface="Yu Gothic Medium"/>
              </a:rPr>
              <a:t>のお悩みスッキリ</a:t>
            </a: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3" name="正方形/長方形 121"/>
          <p:cNvSpPr/>
          <p:nvPr/>
        </p:nvSpPr>
        <p:spPr>
          <a:xfrm>
            <a:off x="7931160" y="928800"/>
            <a:ext cx="21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すきま風 </a:t>
            </a:r>
            <a:r>
              <a:rPr b="0" lang="ja-JP" sz="900" spc="-1" strike="noStrike">
                <a:solidFill>
                  <a:srgbClr val="000000"/>
                </a:solidFill>
                <a:latin typeface="Yu Gothic Medium"/>
                <a:ea typeface="Yu Gothic Medium"/>
              </a:rPr>
              <a:t>のお悩みスッキリ</a:t>
            </a: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4" name="正方形/長方形 122"/>
          <p:cNvSpPr/>
          <p:nvPr/>
        </p:nvSpPr>
        <p:spPr>
          <a:xfrm>
            <a:off x="7956720" y="1184400"/>
            <a:ext cx="2253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洗面所やトイレなどでよく使われている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「ガラスルーバー窓」のすき間風問題も、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「すべり出し窓」に取替えることで解決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5" name="正方形/長方形 126"/>
          <p:cNvSpPr/>
          <p:nvPr/>
        </p:nvSpPr>
        <p:spPr>
          <a:xfrm>
            <a:off x="5362560" y="2397240"/>
            <a:ext cx="21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換気 </a:t>
            </a:r>
            <a:r>
              <a:rPr b="0" lang="ja-JP" sz="900" spc="-1" strike="noStrike">
                <a:solidFill>
                  <a:srgbClr val="000000"/>
                </a:solidFill>
                <a:latin typeface="Yu Gothic Medium"/>
                <a:ea typeface="Yu Gothic Medium"/>
              </a:rPr>
              <a:t>のお悩みスッキリ</a:t>
            </a: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正方形/長方形 127"/>
          <p:cNvSpPr/>
          <p:nvPr/>
        </p:nvSpPr>
        <p:spPr>
          <a:xfrm>
            <a:off x="5383080" y="264636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壁などにはめ込まれて開閉できない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「</a:t>
            </a:r>
            <a:r>
              <a:rPr b="0" lang="en-US" sz="7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FIX</a:t>
            </a:r>
            <a:r>
              <a:rPr b="0" lang="ja-JP" sz="7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窓」を、開けられる窓に取替えれば、換気や通風もバッチリ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7" name="正方形/長方形 133"/>
          <p:cNvSpPr/>
          <p:nvPr/>
        </p:nvSpPr>
        <p:spPr>
          <a:xfrm>
            <a:off x="7956720" y="2392200"/>
            <a:ext cx="21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寒さ・暑さ </a:t>
            </a:r>
            <a:r>
              <a:rPr b="0" lang="ja-JP" sz="900" spc="-1" strike="noStrike">
                <a:solidFill>
                  <a:srgbClr val="000000"/>
                </a:solidFill>
                <a:latin typeface="Yu Gothic Medium"/>
                <a:ea typeface="Yu Gothic Medium"/>
              </a:rPr>
              <a:t>のお悩みスッキリ</a:t>
            </a: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8" name="正方形/長方形 135"/>
          <p:cNvSpPr/>
          <p:nvPr/>
        </p:nvSpPr>
        <p:spPr>
          <a:xfrm>
            <a:off x="7972560" y="2662200"/>
            <a:ext cx="25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断熱性能が低い古い窓を、高断熱の窓に取替えることで、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外の寒さ・暑さの侵入を抑え、暖冷房効率もグッと</a:t>
            </a:r>
            <a:r>
              <a:rPr b="0" lang="en-US" sz="7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UP</a:t>
            </a:r>
            <a:r>
              <a:rPr b="0" lang="ja-JP" sz="7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9" name="正方形/長方形 141"/>
          <p:cNvSpPr/>
          <p:nvPr/>
        </p:nvSpPr>
        <p:spPr>
          <a:xfrm>
            <a:off x="5362560" y="3998880"/>
            <a:ext cx="21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結露 </a:t>
            </a:r>
            <a:r>
              <a:rPr b="0" lang="ja-JP" sz="900" spc="-1" strike="noStrike">
                <a:solidFill>
                  <a:srgbClr val="000000"/>
                </a:solidFill>
                <a:latin typeface="Yu Gothic Medium"/>
                <a:ea typeface="Yu Gothic Medium"/>
              </a:rPr>
              <a:t>のお悩みスッキリ</a:t>
            </a: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正方形/長方形 142"/>
          <p:cNvSpPr/>
          <p:nvPr/>
        </p:nvSpPr>
        <p:spPr>
          <a:xfrm>
            <a:off x="5388120" y="4262400"/>
            <a:ext cx="265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結露はカビやダニを発生させてアレルギーを引き起こす要因にも。高断熱の窓に取替えれば、結露の発生を大幅に抑えることができます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1" name="正方形/長方形 146"/>
          <p:cNvSpPr/>
          <p:nvPr/>
        </p:nvSpPr>
        <p:spPr>
          <a:xfrm>
            <a:off x="7954920" y="3984480"/>
            <a:ext cx="21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光熱費 </a:t>
            </a:r>
            <a:r>
              <a:rPr b="0" lang="ja-JP" sz="900" spc="-1" strike="noStrike">
                <a:solidFill>
                  <a:srgbClr val="000000"/>
                </a:solidFill>
                <a:latin typeface="Yu Gothic Medium"/>
                <a:ea typeface="Yu Gothic Medium"/>
              </a:rPr>
              <a:t>のお悩みスッキリ</a:t>
            </a: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2" name="正方形/長方形 8202"/>
          <p:cNvSpPr/>
          <p:nvPr/>
        </p:nvSpPr>
        <p:spPr>
          <a:xfrm>
            <a:off x="146160" y="6786720"/>
            <a:ext cx="10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《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シミュレーション条件</a:t>
            </a:r>
            <a:r>
              <a:rPr b="0" lang="en-US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》■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使用ソフト</a:t>
            </a:r>
            <a:r>
              <a:rPr b="0" lang="en-US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: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Flow Designer / 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株式会社アドバンスドナレッジ研究所 ■自立循環型モデル住宅でシミュレーション ■気象条件</a:t>
            </a:r>
            <a:r>
              <a:rPr b="0" lang="en-US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: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拡張アメダス気象データ</a:t>
            </a:r>
            <a:r>
              <a:rPr b="0" lang="en-US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2000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年版</a:t>
            </a:r>
            <a:r>
              <a:rPr b="0" lang="en-US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(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標準年</a:t>
            </a:r>
            <a:r>
              <a:rPr b="0" lang="en-US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)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の東京を使用 ■住宅断熱仕様</a:t>
            </a:r>
            <a:r>
              <a:rPr b="0" lang="en-US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: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昭和</a:t>
            </a:r>
            <a:r>
              <a:rPr b="0" lang="en-US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55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年省エネルギー基準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VI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地域適合レベル ■室温</a:t>
            </a:r>
            <a:r>
              <a:rPr b="0" lang="en-US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:20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℃/ 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外気温</a:t>
            </a:r>
            <a:r>
              <a:rPr b="0" lang="en-US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:1.7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℃ 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エアコン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OFF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後</a:t>
            </a:r>
            <a:r>
              <a:rPr b="0" lang="en-US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5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分間での冷気の発生状況 ■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15℃</a:t>
            </a:r>
            <a:r>
              <a:rPr b="0" lang="ja-JP" sz="400" spc="-1" strike="noStrike">
                <a:solidFill>
                  <a:srgbClr val="424242"/>
                </a:solidFill>
                <a:latin typeface="ＭＳ ゴシック"/>
                <a:ea typeface="ＭＳ ゴシック"/>
              </a:rPr>
              <a:t>以下の冷気を可視化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《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省エネ効果算出条件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》 ■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熱負荷計算プログラム「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AE-Sim/Heat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」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((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株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)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建築環境ソリューションズ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)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を用いて算出した年間暖冷房負荷を、「平成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25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年省エネルギー基準に準拠した算定・判断の方法および解説 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Ⅱ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住宅」（（一財）建築環境・省エネルギー機構）に基づきエネルギー消費量、暖冷房金額に換算。 ■住宅モデル：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2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階建て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/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延べ床面積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120.08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㎡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/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開口部面積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32.2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㎡ 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「平成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25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年省エネルギー基準に準拠した算定・判断の方法および解説 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Ⅱ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住宅」標準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 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住戸のプラン ■想定家族：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4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人家族 ■想定暖冷房機器：エアコン、暖房：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20℃/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冷房：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27℃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・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60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％ ■運転方法：間歇運転 ■計算地域：拡張アメダス気象データ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2000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年版（標準年） ■住宅断熱仕様：昭和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55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年省エネ基準適合レベル ■開口部仕様：居室の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9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窓をリプラスでリフォーム ■遮蔽物：居室の８窓にレースカーテン、和室に和障子を併用 ■ガラスの性能値は、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JIS R3106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、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R3107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に基づき求めた値を使用。 ■電気料金単価：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31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円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/kWh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（税込み）</a:t>
            </a:r>
            <a:r>
              <a:rPr b="0" lang="en-US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※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住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 </a:t>
            </a:r>
            <a:r>
              <a:rPr b="0" lang="ja-JP" sz="400" spc="-1" strike="noStrike">
                <a:solidFill>
                  <a:srgbClr val="494747"/>
                </a:solidFill>
                <a:latin typeface="ＭＳ ゴシック"/>
                <a:ea typeface="ＭＳ ゴシック"/>
              </a:rPr>
              <a:t>宅の大きさや間取り、機器 類、生活者人数、生活パターン、地域によって数値は異なります。目安としてご利用ください。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3" name="正方形/長方形 70"/>
          <p:cNvSpPr/>
          <p:nvPr/>
        </p:nvSpPr>
        <p:spPr>
          <a:xfrm>
            <a:off x="9012240" y="2998800"/>
            <a:ext cx="65736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※</a:t>
            </a:r>
            <a:r>
              <a:rPr b="0" lang="ja-JP" sz="4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画像はイメージです。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4" name="三角形 117"/>
          <p:cNvSpPr/>
          <p:nvPr/>
        </p:nvSpPr>
        <p:spPr>
          <a:xfrm flipV="1" rot="16200000">
            <a:off x="9077760" y="3562560"/>
            <a:ext cx="104760" cy="90360"/>
          </a:xfrm>
          <a:prstGeom prst="triangle">
            <a:avLst>
              <a:gd name="adj" fmla="val 50000"/>
            </a:avLst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5" name="角丸四角形 118"/>
          <p:cNvSpPr/>
          <p:nvPr/>
        </p:nvSpPr>
        <p:spPr>
          <a:xfrm>
            <a:off x="9202680" y="3697200"/>
            <a:ext cx="690480" cy="26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ff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6" name="正方形/長方形 70"/>
          <p:cNvSpPr/>
          <p:nvPr/>
        </p:nvSpPr>
        <p:spPr>
          <a:xfrm>
            <a:off x="9070920" y="3676680"/>
            <a:ext cx="9334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窓面からの冷気の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広がりが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抑えられている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7" name="三角形 122"/>
          <p:cNvSpPr/>
          <p:nvPr/>
        </p:nvSpPr>
        <p:spPr>
          <a:xfrm flipV="1" rot="16200000">
            <a:off x="6642720" y="4970160"/>
            <a:ext cx="120600" cy="106560"/>
          </a:xfrm>
          <a:prstGeom prst="triangle">
            <a:avLst>
              <a:gd name="adj" fmla="val 50000"/>
            </a:avLst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8" name="正方形/長方形 70"/>
          <p:cNvSpPr/>
          <p:nvPr/>
        </p:nvSpPr>
        <p:spPr>
          <a:xfrm>
            <a:off x="7964640" y="4761000"/>
            <a:ext cx="6937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リプラス</a:t>
            </a:r>
            <a:r>
              <a:rPr b="1" lang="en-US" sz="500" spc="-1" strike="noStrike" baseline="30000">
                <a:solidFill>
                  <a:srgbClr val="ff9300"/>
                </a:solidFill>
                <a:latin typeface="Yu Gothic Medium"/>
                <a:ea typeface="Yu Gothic Medium"/>
              </a:rPr>
              <a:t>※</a:t>
            </a:r>
            <a:r>
              <a:rPr b="1" lang="en-US" sz="500" spc="-1" strike="noStrike" baseline="30000">
                <a:solidFill>
                  <a:srgbClr val="ff9300"/>
                </a:solidFill>
                <a:latin typeface="Yu Gothic Medium"/>
                <a:ea typeface="Yu Gothic Medium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 </a:t>
            </a:r>
            <a:r>
              <a:rPr b="1" lang="ja-JP" sz="5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居室仕様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引違い窓 ブリッジ枠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9" name="正方形/長方形 70"/>
          <p:cNvSpPr/>
          <p:nvPr/>
        </p:nvSpPr>
        <p:spPr>
          <a:xfrm>
            <a:off x="8089920" y="4565520"/>
            <a:ext cx="444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7f7f7f"/>
                </a:solidFill>
                <a:latin typeface="Yu Gothic Medium"/>
                <a:ea typeface="Yu Gothic Medium"/>
              </a:rPr>
              <a:t>従来品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7f7f7f"/>
                </a:solidFill>
                <a:latin typeface="Yu Gothic Medium"/>
                <a:ea typeface="Yu Gothic Medium"/>
              </a:rPr>
              <a:t>アルミ単板窓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0" name="正方形/長方形 142"/>
          <p:cNvSpPr/>
          <p:nvPr/>
        </p:nvSpPr>
        <p:spPr>
          <a:xfrm>
            <a:off x="7966080" y="4268880"/>
            <a:ext cx="2511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◼︎</a:t>
            </a:r>
            <a:r>
              <a:rPr b="0" lang="ja-JP" sz="7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年間暖冷房費（東京）</a:t>
            </a:r>
            <a:r>
              <a:rPr b="0" lang="en-US" sz="7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9</a:t>
            </a:r>
            <a:r>
              <a:rPr b="0" lang="ja-JP" sz="7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窓改修時　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1" name="正方形/長方形 70"/>
          <p:cNvSpPr/>
          <p:nvPr/>
        </p:nvSpPr>
        <p:spPr>
          <a:xfrm>
            <a:off x="5470560" y="1973160"/>
            <a:ext cx="1092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窓枠も障子も取替えて</a:t>
            </a: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開閉がスムーズ！</a:t>
            </a: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382" name="グループ化 35"/>
          <p:cNvGrpSpPr/>
          <p:nvPr/>
        </p:nvGrpSpPr>
        <p:grpSpPr>
          <a:xfrm>
            <a:off x="5632560" y="3165480"/>
            <a:ext cx="1052280" cy="711360"/>
            <a:chOff x="5632560" y="3165480"/>
            <a:chExt cx="1052280" cy="711360"/>
          </a:xfrm>
        </p:grpSpPr>
        <p:sp>
          <p:nvSpPr>
            <p:cNvPr id="383" name="三角形 113"/>
            <p:cNvSpPr/>
            <p:nvPr/>
          </p:nvSpPr>
          <p:spPr>
            <a:xfrm flipV="1" rot="16200000">
              <a:off x="6126480" y="3461040"/>
              <a:ext cx="104760" cy="90360"/>
            </a:xfrm>
            <a:prstGeom prst="triangle">
              <a:avLst>
                <a:gd name="adj" fmla="val 50000"/>
              </a:avLst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pic>
          <p:nvPicPr>
            <p:cNvPr id="384" name="図 47" descr=""/>
            <p:cNvPicPr/>
            <p:nvPr/>
          </p:nvPicPr>
          <p:blipFill>
            <a:blip r:embed="rId13"/>
            <a:stretch/>
          </p:blipFill>
          <p:spPr>
            <a:xfrm>
              <a:off x="6332400" y="3170160"/>
              <a:ext cx="352440" cy="69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図 50" descr=""/>
            <p:cNvPicPr/>
            <p:nvPr/>
          </p:nvPicPr>
          <p:blipFill>
            <a:blip r:embed="rId14"/>
            <a:stretch/>
          </p:blipFill>
          <p:spPr>
            <a:xfrm>
              <a:off x="5632560" y="3165480"/>
              <a:ext cx="399960" cy="71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6" name="図 64" descr=""/>
          <p:cNvPicPr/>
          <p:nvPr/>
        </p:nvPicPr>
        <p:blipFill>
          <a:blip r:embed="rId15"/>
          <a:srcRect l="0" t="0" r="0" b="8750"/>
          <a:stretch/>
        </p:blipFill>
        <p:spPr>
          <a:xfrm>
            <a:off x="5670720" y="4829040"/>
            <a:ext cx="887400" cy="543240"/>
          </a:xfrm>
          <a:prstGeom prst="rect">
            <a:avLst/>
          </a:prstGeom>
          <a:ln w="0">
            <a:noFill/>
          </a:ln>
        </p:spPr>
      </p:pic>
      <p:sp>
        <p:nvSpPr>
          <p:cNvPr id="387" name="正方形/長方形 70"/>
          <p:cNvSpPr/>
          <p:nvPr/>
        </p:nvSpPr>
        <p:spPr>
          <a:xfrm>
            <a:off x="8059680" y="3224160"/>
            <a:ext cx="90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4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古い窓（アルミ窓</a:t>
            </a:r>
            <a:r>
              <a:rPr b="1" lang="en-US" sz="4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/</a:t>
            </a:r>
            <a:r>
              <a:rPr b="1" lang="ja-JP" sz="4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単板ガラス）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4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8" name="テキスト ボックス 2"/>
          <p:cNvSpPr/>
          <p:nvPr/>
        </p:nvSpPr>
        <p:spPr>
          <a:xfrm>
            <a:off x="903240" y="1224000"/>
            <a:ext cx="392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6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窓のお悩み、</a:t>
            </a:r>
            <a:r>
              <a:rPr b="1" lang="en-US" sz="26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1</a:t>
            </a:r>
            <a:r>
              <a:rPr b="1" lang="ja-JP" sz="26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日で解決。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389" name="グループ化 10"/>
          <p:cNvGrpSpPr/>
          <p:nvPr/>
        </p:nvGrpSpPr>
        <p:grpSpPr>
          <a:xfrm>
            <a:off x="1009800" y="932040"/>
            <a:ext cx="1293480" cy="371160"/>
            <a:chOff x="1009800" y="932040"/>
            <a:chExt cx="1293480" cy="371160"/>
          </a:xfrm>
        </p:grpSpPr>
        <p:sp>
          <p:nvSpPr>
            <p:cNvPr id="390" name="テキスト ボックス 34"/>
            <p:cNvSpPr/>
            <p:nvPr/>
          </p:nvSpPr>
          <p:spPr>
            <a:xfrm>
              <a:off x="1250280" y="1087560"/>
              <a:ext cx="85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800" spc="-1" strike="noStrike">
                  <a:solidFill>
                    <a:srgbClr val="4d4d4d"/>
                  </a:solidFill>
                  <a:latin typeface="Yu Gothic Medium"/>
                  <a:ea typeface="Yu Gothic Medium"/>
                </a:rPr>
                <a:t>窓の取替えもカンタン！</a:t>
              </a:r>
              <a:endParaRPr b="0" lang="en-US" sz="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391" name="直線コネクタ 257"/>
            <p:cNvSpPr/>
            <p:nvPr/>
          </p:nvSpPr>
          <p:spPr>
            <a:xfrm>
              <a:off x="1009800" y="1127160"/>
              <a:ext cx="36360" cy="11736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392" name="直線コネクタ 258"/>
            <p:cNvSpPr/>
            <p:nvPr/>
          </p:nvSpPr>
          <p:spPr>
            <a:xfrm flipH="1">
              <a:off x="2268360" y="1133640"/>
              <a:ext cx="34920" cy="11880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393" name="テキスト ボックス 34"/>
            <p:cNvSpPr/>
            <p:nvPr/>
          </p:nvSpPr>
          <p:spPr>
            <a:xfrm>
              <a:off x="1631880" y="932040"/>
              <a:ext cx="22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800" spc="-1" strike="noStrike">
                  <a:solidFill>
                    <a:srgbClr val="4d4d4d"/>
                  </a:solidFill>
                  <a:latin typeface="Yu Gothic Medium"/>
                  <a:ea typeface="Yu Gothic Medium"/>
                </a:rPr>
                <a:t>リプラスなら、</a:t>
              </a:r>
              <a:endParaRPr b="0" lang="en-US" sz="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394" name="テキスト ボックス 2"/>
          <p:cNvSpPr/>
          <p:nvPr/>
        </p:nvSpPr>
        <p:spPr>
          <a:xfrm>
            <a:off x="2306520" y="1057320"/>
            <a:ext cx="2595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｢</a:t>
            </a:r>
            <a:r>
              <a:rPr b="0" lang="ja-JP" sz="13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古い！</a:t>
            </a:r>
            <a:r>
              <a:rPr b="0" lang="en-US" sz="13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｣ ｢</a:t>
            </a:r>
            <a:r>
              <a:rPr b="0" lang="ja-JP" sz="13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寒い！</a:t>
            </a:r>
            <a:r>
              <a:rPr b="0" lang="en-US" sz="13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｣ </a:t>
            </a:r>
            <a:r>
              <a:rPr b="0" lang="ja-JP" sz="13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「暑い！」</a:t>
            </a:r>
            <a:endParaRPr b="0" lang="en-US" sz="13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正方形/長方形 142"/>
          <p:cNvSpPr/>
          <p:nvPr/>
        </p:nvSpPr>
        <p:spPr>
          <a:xfrm>
            <a:off x="7985160" y="2922480"/>
            <a:ext cx="270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◼︎</a:t>
            </a:r>
            <a:r>
              <a:rPr b="0" lang="ja-JP" sz="6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冬のリビングの温度変化</a:t>
            </a: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20000"/>
              </a:lnSpc>
              <a:spcAft>
                <a:spcPts val="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(</a:t>
            </a:r>
            <a:r>
              <a:rPr b="0" lang="ja-JP" sz="4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AM0:00</a:t>
            </a:r>
            <a:r>
              <a:rPr b="0" lang="ja-JP" sz="4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にリビングの暖房を切り、</a:t>
            </a:r>
            <a:r>
              <a:rPr b="0" lang="en-US" sz="4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5</a:t>
            </a:r>
            <a:r>
              <a:rPr b="0" lang="ja-JP" sz="4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分後の窓面からの冷気の広がりをシミュレーション</a:t>
            </a:r>
            <a:r>
              <a:rPr b="0" lang="en-US" sz="400" spc="-1" strike="noStrike">
                <a:solidFill>
                  <a:srgbClr val="4d4d4d"/>
                </a:solidFill>
                <a:latin typeface="Yu Gothic Medium"/>
                <a:ea typeface="Yu Gothic Medium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正方形/長方形 70"/>
          <p:cNvSpPr/>
          <p:nvPr/>
        </p:nvSpPr>
        <p:spPr>
          <a:xfrm>
            <a:off x="5656320" y="4648320"/>
            <a:ext cx="1022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 </a:t>
            </a:r>
            <a:r>
              <a:rPr b="0" lang="ja-JP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古い窓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（アルミ窓</a:t>
            </a:r>
            <a:r>
              <a:rPr b="0" lang="en-US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/</a:t>
            </a:r>
            <a:r>
              <a:rPr b="0" lang="ja-JP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単板ガラス）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7" name="正方形/長方形 70"/>
          <p:cNvSpPr/>
          <p:nvPr/>
        </p:nvSpPr>
        <p:spPr>
          <a:xfrm>
            <a:off x="6783480" y="4633920"/>
            <a:ext cx="1152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 </a:t>
            </a:r>
            <a:r>
              <a:rPr b="1" lang="ja-JP" sz="5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リプラス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（アルミ樹脂複合窓</a:t>
            </a:r>
            <a:r>
              <a:rPr b="1" lang="en-US" sz="5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/Low-E</a:t>
            </a:r>
            <a:r>
              <a:rPr b="1" lang="ja-JP" sz="5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複層ガラス）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8" name="object 29"/>
          <p:cNvSpPr/>
          <p:nvPr/>
        </p:nvSpPr>
        <p:spPr>
          <a:xfrm>
            <a:off x="8056440" y="5405400"/>
            <a:ext cx="195264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" spc="-1" strike="noStrike">
                <a:solidFill>
                  <a:srgbClr val="535353"/>
                </a:solidFill>
                <a:latin typeface="游ゴシック"/>
                <a:ea typeface="游ゴシック"/>
              </a:rPr>
              <a:t>※</a:t>
            </a:r>
            <a:r>
              <a:rPr b="0" lang="en-US" sz="400" spc="-1" strike="noStrike">
                <a:solidFill>
                  <a:srgbClr val="535353"/>
                </a:solidFill>
                <a:latin typeface="游ゴシック"/>
                <a:ea typeface="游ゴシック"/>
              </a:rPr>
              <a:t>1 Low-E</a:t>
            </a:r>
            <a:r>
              <a:rPr b="0" lang="ja-JP" sz="400" spc="-1" strike="noStrike">
                <a:solidFill>
                  <a:srgbClr val="535353"/>
                </a:solidFill>
                <a:latin typeface="游ゴシック"/>
                <a:ea typeface="游ゴシック"/>
              </a:rPr>
              <a:t>複層ガラス クリア（アルゴンガス入り）　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" spc="-1" strike="noStrike">
                <a:solidFill>
                  <a:srgbClr val="535353"/>
                </a:solidFill>
                <a:latin typeface="游ゴシック"/>
                <a:ea typeface="游ゴシック"/>
              </a:rPr>
              <a:t>※</a:t>
            </a:r>
            <a:r>
              <a:rPr b="0" lang="en-US" sz="400" spc="-1" strike="noStrike">
                <a:solidFill>
                  <a:srgbClr val="535353"/>
                </a:solidFill>
                <a:latin typeface="游ゴシック"/>
                <a:ea typeface="游ゴシック"/>
              </a:rPr>
              <a:t>2 Low-E</a:t>
            </a:r>
            <a:r>
              <a:rPr b="0" lang="ja-JP" sz="400" spc="-1" strike="noStrike">
                <a:solidFill>
                  <a:srgbClr val="535353"/>
                </a:solidFill>
                <a:latin typeface="游ゴシック"/>
                <a:ea typeface="游ゴシック"/>
              </a:rPr>
              <a:t>トリプルガラス クリア（クリプトンガス入り）　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直線コネクタ 512"/>
          <p:cNvSpPr/>
          <p:nvPr/>
        </p:nvSpPr>
        <p:spPr>
          <a:xfrm>
            <a:off x="8021520" y="2637000"/>
            <a:ext cx="24480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直線コネクタ 513"/>
          <p:cNvSpPr/>
          <p:nvPr/>
        </p:nvSpPr>
        <p:spPr>
          <a:xfrm>
            <a:off x="5450040" y="2637000"/>
            <a:ext cx="24476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1" name="直線コネクタ 514"/>
          <p:cNvSpPr/>
          <p:nvPr/>
        </p:nvSpPr>
        <p:spPr>
          <a:xfrm>
            <a:off x="8021520" y="4230720"/>
            <a:ext cx="24480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2" name="直線コネクタ 515"/>
          <p:cNvSpPr/>
          <p:nvPr/>
        </p:nvSpPr>
        <p:spPr>
          <a:xfrm>
            <a:off x="5450040" y="4237200"/>
            <a:ext cx="24476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正方形/長方形 70"/>
          <p:cNvSpPr/>
          <p:nvPr/>
        </p:nvSpPr>
        <p:spPr>
          <a:xfrm>
            <a:off x="2449440" y="6438960"/>
            <a:ext cx="1598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事前に現場調査を行い、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窓のサイズに合う、リプラスをご用意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4" name="正方形/長方形 70"/>
          <p:cNvSpPr/>
          <p:nvPr/>
        </p:nvSpPr>
        <p:spPr>
          <a:xfrm>
            <a:off x="3949560" y="6438960"/>
            <a:ext cx="1598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今ある窓の障子を取外し、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防水処理を行う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5" name="正方形/長方形 70"/>
          <p:cNvSpPr/>
          <p:nvPr/>
        </p:nvSpPr>
        <p:spPr>
          <a:xfrm>
            <a:off x="5281560" y="6438960"/>
            <a:ext cx="1598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今ある窓枠の上に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新しい窓枠を取付ける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6" name="正方形/長方形 70"/>
          <p:cNvSpPr/>
          <p:nvPr/>
        </p:nvSpPr>
        <p:spPr>
          <a:xfrm>
            <a:off x="6772320" y="6438960"/>
            <a:ext cx="1711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室外は雨風や紫外線に強いアルミ製、室内は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断熱性の高い樹脂製のカバー材を取付ける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7" name="正方形/長方形 70"/>
          <p:cNvSpPr/>
          <p:nvPr/>
        </p:nvSpPr>
        <p:spPr>
          <a:xfrm>
            <a:off x="8318520" y="6438960"/>
            <a:ext cx="1598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新しい窓の障子を取付けて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リフォーム完了！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408" name="グループ化 22"/>
          <p:cNvGrpSpPr/>
          <p:nvPr/>
        </p:nvGrpSpPr>
        <p:grpSpPr>
          <a:xfrm>
            <a:off x="-61920" y="5245200"/>
            <a:ext cx="1063800" cy="314280"/>
            <a:chOff x="-61920" y="5245200"/>
            <a:chExt cx="1063800" cy="314280"/>
          </a:xfrm>
        </p:grpSpPr>
        <p:sp>
          <p:nvSpPr>
            <p:cNvPr id="409" name="object 13"/>
            <p:cNvSpPr/>
            <p:nvPr/>
          </p:nvSpPr>
          <p:spPr>
            <a:xfrm>
              <a:off x="64080" y="5255280"/>
              <a:ext cx="937800" cy="199440"/>
            </a:xfrm>
            <a:custGeom>
              <a:avLst/>
              <a:gdLst/>
              <a:ahLst/>
              <a:rect l="l" t="t" r="r" b="b"/>
              <a:pathLst>
                <a:path w="1872614" h="504190">
                  <a:moveTo>
                    <a:pt x="1656003" y="0"/>
                  </a:moveTo>
                  <a:lnTo>
                    <a:pt x="0" y="0"/>
                  </a:lnTo>
                  <a:lnTo>
                    <a:pt x="0" y="504012"/>
                  </a:lnTo>
                  <a:lnTo>
                    <a:pt x="1871992" y="504012"/>
                  </a:lnTo>
                  <a:lnTo>
                    <a:pt x="1656003" y="0"/>
                  </a:lnTo>
                  <a:close/>
                </a:path>
              </a:pathLst>
            </a:custGeom>
            <a:solidFill>
              <a:srgbClr val="f8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pic>
          <p:nvPicPr>
            <p:cNvPr id="410" name="正方形/長方形 106" descr=""/>
            <p:cNvPicPr/>
            <p:nvPr/>
          </p:nvPicPr>
          <p:blipFill>
            <a:blip r:embed="rId16"/>
            <a:stretch/>
          </p:blipFill>
          <p:spPr>
            <a:xfrm>
              <a:off x="-61920" y="5245200"/>
              <a:ext cx="96516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1" name="グループ化 23"/>
          <p:cNvGrpSpPr/>
          <p:nvPr/>
        </p:nvGrpSpPr>
        <p:grpSpPr>
          <a:xfrm>
            <a:off x="4613400" y="4361040"/>
            <a:ext cx="788760" cy="245880"/>
            <a:chOff x="4613400" y="4361040"/>
            <a:chExt cx="788760" cy="245880"/>
          </a:xfrm>
        </p:grpSpPr>
        <p:sp>
          <p:nvSpPr>
            <p:cNvPr id="412" name="object 13"/>
            <p:cNvSpPr/>
            <p:nvPr/>
          </p:nvSpPr>
          <p:spPr>
            <a:xfrm flipH="1">
              <a:off x="4644360" y="4385880"/>
              <a:ext cx="589680" cy="111600"/>
            </a:xfrm>
            <a:custGeom>
              <a:avLst/>
              <a:gdLst/>
              <a:ahLst/>
              <a:rect l="l" t="t" r="r" b="b"/>
              <a:pathLst>
                <a:path w="1872614" h="504190">
                  <a:moveTo>
                    <a:pt x="1656003" y="0"/>
                  </a:moveTo>
                  <a:lnTo>
                    <a:pt x="0" y="0"/>
                  </a:lnTo>
                  <a:lnTo>
                    <a:pt x="0" y="504012"/>
                  </a:lnTo>
                  <a:lnTo>
                    <a:pt x="1871992" y="504012"/>
                  </a:lnTo>
                  <a:lnTo>
                    <a:pt x="165600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pic>
          <p:nvPicPr>
            <p:cNvPr id="413" name="正方形/長方形 106" descr=""/>
            <p:cNvPicPr/>
            <p:nvPr/>
          </p:nvPicPr>
          <p:blipFill>
            <a:blip r:embed="rId17"/>
            <a:stretch/>
          </p:blipFill>
          <p:spPr>
            <a:xfrm>
              <a:off x="4613400" y="4361040"/>
              <a:ext cx="788760" cy="24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4" name="object 39" descr=""/>
          <p:cNvPicPr/>
          <p:nvPr/>
        </p:nvPicPr>
        <p:blipFill>
          <a:blip r:embed="rId18"/>
          <a:stretch/>
        </p:blipFill>
        <p:spPr>
          <a:xfrm>
            <a:off x="3887640" y="6041880"/>
            <a:ext cx="139680" cy="109800"/>
          </a:xfrm>
          <a:prstGeom prst="rect">
            <a:avLst/>
          </a:prstGeom>
          <a:ln w="0">
            <a:noFill/>
          </a:ln>
        </p:spPr>
      </p:pic>
      <p:pic>
        <p:nvPicPr>
          <p:cNvPr id="415" name="object 39" descr=""/>
          <p:cNvPicPr/>
          <p:nvPr/>
        </p:nvPicPr>
        <p:blipFill>
          <a:blip r:embed="rId19"/>
          <a:stretch/>
        </p:blipFill>
        <p:spPr>
          <a:xfrm>
            <a:off x="5335560" y="6040440"/>
            <a:ext cx="139680" cy="111240"/>
          </a:xfrm>
          <a:prstGeom prst="rect">
            <a:avLst/>
          </a:prstGeom>
          <a:ln w="0">
            <a:noFill/>
          </a:ln>
        </p:spPr>
      </p:pic>
      <p:pic>
        <p:nvPicPr>
          <p:cNvPr id="416" name="object 39" descr=""/>
          <p:cNvPicPr/>
          <p:nvPr/>
        </p:nvPicPr>
        <p:blipFill>
          <a:blip r:embed="rId20"/>
          <a:stretch/>
        </p:blipFill>
        <p:spPr>
          <a:xfrm>
            <a:off x="6827760" y="6040440"/>
            <a:ext cx="138240" cy="111240"/>
          </a:xfrm>
          <a:prstGeom prst="rect">
            <a:avLst/>
          </a:prstGeom>
          <a:ln w="0">
            <a:noFill/>
          </a:ln>
        </p:spPr>
      </p:pic>
      <p:pic>
        <p:nvPicPr>
          <p:cNvPr id="417" name="object 39" descr=""/>
          <p:cNvPicPr/>
          <p:nvPr/>
        </p:nvPicPr>
        <p:blipFill>
          <a:blip r:embed="rId21"/>
          <a:stretch/>
        </p:blipFill>
        <p:spPr>
          <a:xfrm>
            <a:off x="8319960" y="6040440"/>
            <a:ext cx="138240" cy="111240"/>
          </a:xfrm>
          <a:prstGeom prst="rect">
            <a:avLst/>
          </a:prstGeom>
          <a:ln w="0">
            <a:noFill/>
          </a:ln>
        </p:spPr>
      </p:pic>
      <p:sp>
        <p:nvSpPr>
          <p:cNvPr id="418" name="object 11"/>
          <p:cNvSpPr/>
          <p:nvPr/>
        </p:nvSpPr>
        <p:spPr>
          <a:xfrm>
            <a:off x="4356000" y="6270480"/>
            <a:ext cx="160560" cy="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spAutoFit/>
          </a:bodyPr>
          <a:p>
            <a:pPr marL="126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535353"/>
                </a:solidFill>
                <a:latin typeface="Yu Gothic Medium"/>
                <a:ea typeface="Yu Gothic Medium"/>
              </a:rPr>
              <a:t>障子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9" name="正方形/長方形 70"/>
          <p:cNvSpPr/>
          <p:nvPr/>
        </p:nvSpPr>
        <p:spPr>
          <a:xfrm>
            <a:off x="184320" y="6481800"/>
            <a:ext cx="15984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※</a:t>
            </a:r>
            <a:r>
              <a:rPr b="0" lang="en-US" sz="4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1 </a:t>
            </a:r>
            <a:r>
              <a:rPr b="0" lang="ja-JP" sz="4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施工時間は、現場の状況により異なります。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420" name="グループ化 10305"/>
          <p:cNvGrpSpPr/>
          <p:nvPr/>
        </p:nvGrpSpPr>
        <p:grpSpPr>
          <a:xfrm>
            <a:off x="9921960" y="5735520"/>
            <a:ext cx="593640" cy="838440"/>
            <a:chOff x="9921960" y="5735520"/>
            <a:chExt cx="593640" cy="838440"/>
          </a:xfrm>
        </p:grpSpPr>
        <p:sp>
          <p:nvSpPr>
            <p:cNvPr id="421" name="正方形/長方形 10303"/>
            <p:cNvSpPr/>
            <p:nvPr/>
          </p:nvSpPr>
          <p:spPr>
            <a:xfrm>
              <a:off x="10004400" y="6141960"/>
              <a:ext cx="43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grpSp>
          <p:nvGrpSpPr>
            <p:cNvPr id="422" name="グループ化 10292"/>
            <p:cNvGrpSpPr/>
            <p:nvPr/>
          </p:nvGrpSpPr>
          <p:grpSpPr>
            <a:xfrm>
              <a:off x="9930240" y="5895720"/>
              <a:ext cx="578880" cy="203400"/>
              <a:chOff x="9930240" y="5895720"/>
              <a:chExt cx="578880" cy="203400"/>
            </a:xfrm>
          </p:grpSpPr>
          <p:sp>
            <p:nvSpPr>
              <p:cNvPr id="423" name="object 56"/>
              <p:cNvSpPr/>
              <p:nvPr/>
            </p:nvSpPr>
            <p:spPr>
              <a:xfrm rot="5400000">
                <a:off x="10414080" y="5961240"/>
                <a:ext cx="126720" cy="63360"/>
              </a:xfrm>
              <a:custGeom>
                <a:avLst/>
                <a:gdLst/>
                <a:ahLst/>
                <a:rect l="l" t="t" r="r" b="b"/>
                <a:pathLst>
                  <a:path w="126364" h="63500">
                    <a:moveTo>
                      <a:pt x="0" y="0"/>
                    </a:moveTo>
                    <a:lnTo>
                      <a:pt x="125996" y="63474"/>
                    </a:lnTo>
                  </a:path>
                </a:pathLst>
              </a:custGeom>
              <a:noFill/>
              <a:ln w="9000">
                <a:solidFill>
                  <a:srgbClr val="f887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424" name="object 58"/>
              <p:cNvSpPr/>
              <p:nvPr/>
            </p:nvSpPr>
            <p:spPr>
              <a:xfrm>
                <a:off x="10010520" y="5895720"/>
                <a:ext cx="41760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080" bIns="0" anchor="t">
                <a:spAutoFit/>
              </a:bodyPr>
              <a:p>
                <a:pPr marL="12600" indent="3240">
                  <a:lnSpc>
                    <a:spcPts val="723"/>
                  </a:lnSpc>
                  <a:spcBef>
                    <a:spcPts val="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ja-JP" sz="500" spc="-1" strike="noStrike">
                    <a:solidFill>
                      <a:srgbClr val="f88700"/>
                    </a:solidFill>
                    <a:latin typeface="游ゴシック"/>
                    <a:ea typeface="Noto Sans JP"/>
                  </a:rPr>
                  <a:t>施工の流れは</a:t>
                </a:r>
                <a:endParaRPr b="0" lang="en-US" sz="500" spc="-1" strike="noStrike">
                  <a:solidFill>
                    <a:srgbClr val="000000"/>
                  </a:solidFill>
                  <a:latin typeface="Segoe UI"/>
                </a:endParaRPr>
              </a:p>
              <a:p>
                <a:pPr marL="12600" indent="3240">
                  <a:lnSpc>
                    <a:spcPts val="723"/>
                  </a:lnSpc>
                  <a:spcBef>
                    <a:spcPts val="7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ja-JP" sz="500" spc="-1" strike="noStrike">
                    <a:solidFill>
                      <a:srgbClr val="f88700"/>
                    </a:solidFill>
                    <a:latin typeface="游ゴシック"/>
                    <a:ea typeface="Noto Sans JP"/>
                  </a:rPr>
                  <a:t>こちらから</a:t>
                </a:r>
                <a:r>
                  <a:rPr b="0" lang="ja-JP" sz="600" spc="-1" strike="noStrike">
                    <a:solidFill>
                      <a:srgbClr val="f88700"/>
                    </a:solidFill>
                    <a:latin typeface="游ゴシック"/>
                    <a:ea typeface="Arial"/>
                  </a:rPr>
                  <a:t>!!</a:t>
                </a:r>
                <a:endParaRPr b="0" lang="en-US" sz="6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425" name="object 56"/>
              <p:cNvSpPr/>
              <p:nvPr/>
            </p:nvSpPr>
            <p:spPr>
              <a:xfrm flipH="1" rot="16200000">
                <a:off x="9898560" y="5961240"/>
                <a:ext cx="126720" cy="63360"/>
              </a:xfrm>
              <a:custGeom>
                <a:avLst/>
                <a:gdLst/>
                <a:ahLst/>
                <a:rect l="l" t="t" r="r" b="b"/>
                <a:pathLst>
                  <a:path w="126364" h="63500">
                    <a:moveTo>
                      <a:pt x="0" y="0"/>
                    </a:moveTo>
                    <a:lnTo>
                      <a:pt x="125996" y="63474"/>
                    </a:lnTo>
                  </a:path>
                </a:pathLst>
              </a:custGeom>
              <a:noFill/>
              <a:ln w="9000">
                <a:solidFill>
                  <a:srgbClr val="f887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</p:grpSp>
        <p:grpSp>
          <p:nvGrpSpPr>
            <p:cNvPr id="426" name="グループ化 10300"/>
            <p:cNvGrpSpPr/>
            <p:nvPr/>
          </p:nvGrpSpPr>
          <p:grpSpPr>
            <a:xfrm>
              <a:off x="9921960" y="5735520"/>
              <a:ext cx="593640" cy="162000"/>
              <a:chOff x="9921960" y="5735520"/>
              <a:chExt cx="593640" cy="162000"/>
            </a:xfrm>
          </p:grpSpPr>
          <p:sp>
            <p:nvSpPr>
              <p:cNvPr id="427" name="四角形: 角を丸くする 10298"/>
              <p:cNvSpPr/>
              <p:nvPr/>
            </p:nvSpPr>
            <p:spPr>
              <a:xfrm>
                <a:off x="9921960" y="5735520"/>
                <a:ext cx="593640" cy="131760"/>
              </a:xfrm>
              <a:prstGeom prst="roundRect">
                <a:avLst>
                  <a:gd name="adj" fmla="val 16667"/>
                </a:avLst>
              </a:prstGeom>
              <a:solidFill>
                <a:srgbClr val="f5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428" name="二等辺三角形 10299"/>
              <p:cNvSpPr/>
              <p:nvPr/>
            </p:nvSpPr>
            <p:spPr>
              <a:xfrm rot="10800000">
                <a:off x="10167480" y="5835600"/>
                <a:ext cx="90360" cy="61920"/>
              </a:xfrm>
              <a:prstGeom prst="triangle">
                <a:avLst>
                  <a:gd name="adj" fmla="val 50000"/>
                </a:avLst>
              </a:prstGeom>
              <a:solidFill>
                <a:srgbClr val="f5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</p:grpSp>
        <p:sp>
          <p:nvSpPr>
            <p:cNvPr id="429" name="object 58"/>
            <p:cNvSpPr/>
            <p:nvPr/>
          </p:nvSpPr>
          <p:spPr>
            <a:xfrm>
              <a:off x="10019520" y="5744880"/>
              <a:ext cx="426960" cy="1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080" bIns="0" anchor="t">
              <a:spAutoFit/>
            </a:bodyPr>
            <a:p>
              <a:pPr marL="12600" indent="3240">
                <a:lnSpc>
                  <a:spcPts val="723"/>
                </a:lnSpc>
                <a:spcBef>
                  <a:spcPts val="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500" spc="-1" strike="noStrike">
                  <a:solidFill>
                    <a:srgbClr val="ffffff"/>
                  </a:solidFill>
                  <a:latin typeface="Yu Gothic Medium"/>
                  <a:ea typeface="Yu Gothic Medium"/>
                </a:rPr>
                <a:t>動画でご紹介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430" name="グループ化 174"/>
          <p:cNvGrpSpPr/>
          <p:nvPr/>
        </p:nvGrpSpPr>
        <p:grpSpPr>
          <a:xfrm>
            <a:off x="6297480" y="1542960"/>
            <a:ext cx="1177920" cy="809640"/>
            <a:chOff x="6297480" y="1542960"/>
            <a:chExt cx="1177920" cy="809640"/>
          </a:xfrm>
        </p:grpSpPr>
        <p:grpSp>
          <p:nvGrpSpPr>
            <p:cNvPr id="431" name="object 6"/>
            <p:cNvGrpSpPr/>
            <p:nvPr/>
          </p:nvGrpSpPr>
          <p:grpSpPr>
            <a:xfrm>
              <a:off x="6297480" y="1542960"/>
              <a:ext cx="1073160" cy="809640"/>
              <a:chOff x="6297480" y="1542960"/>
              <a:chExt cx="1073160" cy="809640"/>
            </a:xfrm>
          </p:grpSpPr>
          <p:pic>
            <p:nvPicPr>
              <p:cNvPr id="432" name="object 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833160" y="2037960"/>
                <a:ext cx="81360" cy="8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object 8"/>
              <p:cNvSpPr/>
              <p:nvPr/>
            </p:nvSpPr>
            <p:spPr>
              <a:xfrm>
                <a:off x="6297480" y="1549080"/>
                <a:ext cx="501480" cy="375480"/>
              </a:xfrm>
              <a:custGeom>
                <a:avLst/>
                <a:gdLst/>
                <a:ahLst/>
                <a:rect l="l" t="t" r="r" b="b"/>
                <a:pathLst>
                  <a:path w="720089" h="540384">
                    <a:moveTo>
                      <a:pt x="720001" y="0"/>
                    </a:moveTo>
                    <a:lnTo>
                      <a:pt x="0" y="0"/>
                    </a:lnTo>
                    <a:lnTo>
                      <a:pt x="0" y="540004"/>
                    </a:lnTo>
                    <a:lnTo>
                      <a:pt x="720001" y="540004"/>
                    </a:lnTo>
                    <a:lnTo>
                      <a:pt x="72000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434" name="object 9"/>
              <p:cNvSpPr/>
              <p:nvPr/>
            </p:nvSpPr>
            <p:spPr>
              <a:xfrm>
                <a:off x="6541560" y="1568160"/>
                <a:ext cx="238680" cy="337320"/>
              </a:xfrm>
              <a:custGeom>
                <a:avLst/>
                <a:gdLst/>
                <a:ahLst/>
                <a:rect l="l" t="t" r="r" b="b"/>
                <a:pathLst>
                  <a:path w="342900" h="485140">
                    <a:moveTo>
                      <a:pt x="342849" y="0"/>
                    </a:moveTo>
                    <a:lnTo>
                      <a:pt x="324853" y="0"/>
                    </a:lnTo>
                    <a:lnTo>
                      <a:pt x="324853" y="19050"/>
                    </a:lnTo>
                    <a:lnTo>
                      <a:pt x="324853" y="466090"/>
                    </a:lnTo>
                    <a:lnTo>
                      <a:pt x="18008" y="466090"/>
                    </a:lnTo>
                    <a:lnTo>
                      <a:pt x="18008" y="19050"/>
                    </a:lnTo>
                    <a:lnTo>
                      <a:pt x="324853" y="19050"/>
                    </a:lnTo>
                    <a:lnTo>
                      <a:pt x="324853" y="0"/>
                    </a:lnTo>
                    <a:lnTo>
                      <a:pt x="0" y="0"/>
                    </a:lnTo>
                    <a:lnTo>
                      <a:pt x="0" y="18427"/>
                    </a:lnTo>
                    <a:lnTo>
                      <a:pt x="0" y="19050"/>
                    </a:lnTo>
                    <a:lnTo>
                      <a:pt x="0" y="466090"/>
                    </a:lnTo>
                    <a:lnTo>
                      <a:pt x="0" y="466534"/>
                    </a:lnTo>
                    <a:lnTo>
                      <a:pt x="0" y="485140"/>
                    </a:lnTo>
                    <a:lnTo>
                      <a:pt x="342849" y="485140"/>
                    </a:lnTo>
                    <a:lnTo>
                      <a:pt x="342849" y="466534"/>
                    </a:lnTo>
                    <a:lnTo>
                      <a:pt x="342849" y="466090"/>
                    </a:lnTo>
                    <a:lnTo>
                      <a:pt x="342849" y="19050"/>
                    </a:lnTo>
                    <a:lnTo>
                      <a:pt x="342849" y="18427"/>
                    </a:lnTo>
                    <a:lnTo>
                      <a:pt x="342849" y="0"/>
                    </a:lnTo>
                    <a:close/>
                  </a:path>
                </a:pathLst>
              </a:custGeom>
              <a:solidFill>
                <a:srgbClr val="c8c9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435" name="object 10"/>
              <p:cNvSpPr/>
              <p:nvPr/>
            </p:nvSpPr>
            <p:spPr>
              <a:xfrm>
                <a:off x="6554160" y="1581120"/>
                <a:ext cx="213840" cy="311400"/>
              </a:xfrm>
              <a:custGeom>
                <a:avLst/>
                <a:gdLst/>
                <a:ahLst/>
                <a:rect l="l" t="t" r="r" b="b"/>
                <a:pathLst>
                  <a:path w="307339" h="448309">
                    <a:moveTo>
                      <a:pt x="306844" y="0"/>
                    </a:moveTo>
                    <a:lnTo>
                      <a:pt x="0" y="0"/>
                    </a:lnTo>
                    <a:lnTo>
                      <a:pt x="0" y="448106"/>
                    </a:lnTo>
                    <a:lnTo>
                      <a:pt x="306844" y="448106"/>
                    </a:lnTo>
                    <a:lnTo>
                      <a:pt x="306844" y="0"/>
                    </a:lnTo>
                    <a:close/>
                  </a:path>
                </a:pathLst>
              </a:custGeom>
              <a:solidFill>
                <a:srgbClr val="d9f1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pic>
            <p:nvPicPr>
              <p:cNvPr id="436" name="object 11" descr=""/>
              <p:cNvPicPr/>
              <p:nvPr/>
            </p:nvPicPr>
            <p:blipFill>
              <a:blip r:embed="rId23"/>
              <a:stretch/>
            </p:blipFill>
            <p:spPr>
              <a:xfrm>
                <a:off x="6663600" y="1581120"/>
                <a:ext cx="104040" cy="10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object 12"/>
              <p:cNvSpPr/>
              <p:nvPr/>
            </p:nvSpPr>
            <p:spPr>
              <a:xfrm>
                <a:off x="6315480" y="1568160"/>
                <a:ext cx="238680" cy="337320"/>
              </a:xfrm>
              <a:custGeom>
                <a:avLst/>
                <a:gdLst/>
                <a:ahLst/>
                <a:rect l="l" t="t" r="r" b="b"/>
                <a:pathLst>
                  <a:path w="342900" h="485140">
                    <a:moveTo>
                      <a:pt x="342836" y="0"/>
                    </a:moveTo>
                    <a:lnTo>
                      <a:pt x="324840" y="0"/>
                    </a:lnTo>
                    <a:lnTo>
                      <a:pt x="324840" y="19050"/>
                    </a:lnTo>
                    <a:lnTo>
                      <a:pt x="324840" y="466090"/>
                    </a:lnTo>
                    <a:lnTo>
                      <a:pt x="17995" y="466090"/>
                    </a:lnTo>
                    <a:lnTo>
                      <a:pt x="17995" y="19050"/>
                    </a:lnTo>
                    <a:lnTo>
                      <a:pt x="324840" y="19050"/>
                    </a:lnTo>
                    <a:lnTo>
                      <a:pt x="324840" y="0"/>
                    </a:lnTo>
                    <a:lnTo>
                      <a:pt x="0" y="0"/>
                    </a:lnTo>
                    <a:lnTo>
                      <a:pt x="0" y="18427"/>
                    </a:lnTo>
                    <a:lnTo>
                      <a:pt x="0" y="19050"/>
                    </a:lnTo>
                    <a:lnTo>
                      <a:pt x="0" y="466090"/>
                    </a:lnTo>
                    <a:lnTo>
                      <a:pt x="0" y="466534"/>
                    </a:lnTo>
                    <a:lnTo>
                      <a:pt x="0" y="485140"/>
                    </a:lnTo>
                    <a:lnTo>
                      <a:pt x="342836" y="485140"/>
                    </a:lnTo>
                    <a:lnTo>
                      <a:pt x="342836" y="466534"/>
                    </a:lnTo>
                    <a:lnTo>
                      <a:pt x="342836" y="466090"/>
                    </a:lnTo>
                    <a:lnTo>
                      <a:pt x="342836" y="19050"/>
                    </a:lnTo>
                    <a:lnTo>
                      <a:pt x="342836" y="18427"/>
                    </a:lnTo>
                    <a:lnTo>
                      <a:pt x="342836" y="0"/>
                    </a:lnTo>
                    <a:close/>
                  </a:path>
                </a:pathLst>
              </a:custGeom>
              <a:solidFill>
                <a:srgbClr val="c8c9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438" name="object 13"/>
              <p:cNvSpPr/>
              <p:nvPr/>
            </p:nvSpPr>
            <p:spPr>
              <a:xfrm>
                <a:off x="6328080" y="1581120"/>
                <a:ext cx="213840" cy="311400"/>
              </a:xfrm>
              <a:custGeom>
                <a:avLst/>
                <a:gdLst/>
                <a:ahLst/>
                <a:rect l="l" t="t" r="r" b="b"/>
                <a:pathLst>
                  <a:path w="307339" h="448309">
                    <a:moveTo>
                      <a:pt x="306844" y="0"/>
                    </a:moveTo>
                    <a:lnTo>
                      <a:pt x="0" y="0"/>
                    </a:lnTo>
                    <a:lnTo>
                      <a:pt x="0" y="448106"/>
                    </a:lnTo>
                    <a:lnTo>
                      <a:pt x="306844" y="448106"/>
                    </a:lnTo>
                    <a:lnTo>
                      <a:pt x="306844" y="0"/>
                    </a:lnTo>
                    <a:close/>
                  </a:path>
                </a:pathLst>
              </a:custGeom>
              <a:solidFill>
                <a:srgbClr val="d9f1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pic>
            <p:nvPicPr>
              <p:cNvPr id="439" name="object 14" descr=""/>
              <p:cNvPicPr/>
              <p:nvPr/>
            </p:nvPicPr>
            <p:blipFill>
              <a:blip r:embed="rId24"/>
              <a:stretch/>
            </p:blipFill>
            <p:spPr>
              <a:xfrm>
                <a:off x="6328080" y="1787760"/>
                <a:ext cx="104040" cy="10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object 15"/>
              <p:cNvSpPr/>
              <p:nvPr/>
            </p:nvSpPr>
            <p:spPr>
              <a:xfrm>
                <a:off x="6297480" y="1548720"/>
                <a:ext cx="501480" cy="376200"/>
              </a:xfrm>
              <a:custGeom>
                <a:avLst/>
                <a:gdLst/>
                <a:ahLst/>
                <a:rect l="l" t="t" r="r" b="b"/>
                <a:pathLst>
                  <a:path w="720089" h="541020">
                    <a:moveTo>
                      <a:pt x="350989" y="254965"/>
                    </a:moveTo>
                    <a:lnTo>
                      <a:pt x="334632" y="254965"/>
                    </a:lnTo>
                    <a:lnTo>
                      <a:pt x="334632" y="309918"/>
                    </a:lnTo>
                    <a:lnTo>
                      <a:pt x="342811" y="309918"/>
                    </a:lnTo>
                    <a:lnTo>
                      <a:pt x="342811" y="285902"/>
                    </a:lnTo>
                    <a:lnTo>
                      <a:pt x="350989" y="285902"/>
                    </a:lnTo>
                    <a:lnTo>
                      <a:pt x="350989" y="254965"/>
                    </a:lnTo>
                    <a:close/>
                  </a:path>
                  <a:path w="720089" h="541020">
                    <a:moveTo>
                      <a:pt x="720001" y="31978"/>
                    </a:moveTo>
                    <a:lnTo>
                      <a:pt x="688441" y="31978"/>
                    </a:lnTo>
                    <a:lnTo>
                      <a:pt x="688441" y="508889"/>
                    </a:lnTo>
                    <a:lnTo>
                      <a:pt x="720001" y="508889"/>
                    </a:lnTo>
                    <a:lnTo>
                      <a:pt x="720001" y="31978"/>
                    </a:lnTo>
                    <a:close/>
                  </a:path>
                  <a:path w="720089" h="541020">
                    <a:moveTo>
                      <a:pt x="720001" y="0"/>
                    </a:moveTo>
                    <a:lnTo>
                      <a:pt x="0" y="0"/>
                    </a:lnTo>
                    <a:lnTo>
                      <a:pt x="0" y="31750"/>
                    </a:lnTo>
                    <a:lnTo>
                      <a:pt x="0" y="509270"/>
                    </a:lnTo>
                    <a:lnTo>
                      <a:pt x="0" y="541020"/>
                    </a:lnTo>
                    <a:lnTo>
                      <a:pt x="720001" y="541020"/>
                    </a:lnTo>
                    <a:lnTo>
                      <a:pt x="720001" y="509270"/>
                    </a:lnTo>
                    <a:lnTo>
                      <a:pt x="31546" y="509270"/>
                    </a:lnTo>
                    <a:lnTo>
                      <a:pt x="31546" y="31750"/>
                    </a:lnTo>
                    <a:lnTo>
                      <a:pt x="720001" y="31750"/>
                    </a:lnTo>
                    <a:lnTo>
                      <a:pt x="720001" y="0"/>
                    </a:lnTo>
                    <a:close/>
                  </a:path>
                </a:pathLst>
              </a:custGeom>
              <a:solidFill>
                <a:srgbClr val="b5b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441" name="object 16"/>
              <p:cNvSpPr/>
              <p:nvPr/>
            </p:nvSpPr>
            <p:spPr>
              <a:xfrm>
                <a:off x="6792480" y="15429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18414" h="18415">
                    <a:moveTo>
                      <a:pt x="0" y="8997"/>
                    </a:moveTo>
                    <a:lnTo>
                      <a:pt x="2635" y="2635"/>
                    </a:lnTo>
                    <a:lnTo>
                      <a:pt x="8997" y="0"/>
                    </a:lnTo>
                    <a:lnTo>
                      <a:pt x="15360" y="2635"/>
                    </a:lnTo>
                    <a:lnTo>
                      <a:pt x="17995" y="8997"/>
                    </a:lnTo>
                    <a:lnTo>
                      <a:pt x="15360" y="15360"/>
                    </a:lnTo>
                    <a:lnTo>
                      <a:pt x="8997" y="17995"/>
                    </a:lnTo>
                    <a:lnTo>
                      <a:pt x="2635" y="15360"/>
                    </a:lnTo>
                    <a:lnTo>
                      <a:pt x="0" y="8997"/>
                    </a:lnTo>
                    <a:close/>
                  </a:path>
                </a:pathLst>
              </a:custGeom>
              <a:solidFill>
                <a:srgbClr val="f8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442" name="object 17"/>
              <p:cNvSpPr/>
              <p:nvPr/>
            </p:nvSpPr>
            <p:spPr>
              <a:xfrm>
                <a:off x="6818040" y="1553760"/>
                <a:ext cx="552600" cy="258840"/>
              </a:xfrm>
              <a:custGeom>
                <a:avLst/>
                <a:gdLst/>
                <a:ahLst/>
                <a:rect l="l" t="t" r="r" b="b"/>
                <a:pathLst>
                  <a:path w="730250" h="342900">
                    <a:moveTo>
                      <a:pt x="0" y="0"/>
                    </a:moveTo>
                    <a:lnTo>
                      <a:pt x="729869" y="342646"/>
                    </a:lnTo>
                  </a:path>
                </a:pathLst>
              </a:custGeom>
              <a:noFill/>
              <a:ln w="18000">
                <a:solidFill>
                  <a:srgbClr val="f887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443" name="object 18"/>
              <p:cNvSpPr/>
              <p:nvPr/>
            </p:nvSpPr>
            <p:spPr>
              <a:xfrm>
                <a:off x="6541560" y="1799280"/>
                <a:ext cx="810720" cy="131400"/>
              </a:xfrm>
              <a:custGeom>
                <a:avLst/>
                <a:gdLst/>
                <a:ahLst/>
                <a:rect l="l" t="t" r="r" b="b"/>
                <a:pathLst>
                  <a:path w="1164590" h="189229">
                    <a:moveTo>
                      <a:pt x="17995" y="179997"/>
                    </a:moveTo>
                    <a:lnTo>
                      <a:pt x="15354" y="173634"/>
                    </a:lnTo>
                    <a:lnTo>
                      <a:pt x="8991" y="170992"/>
                    </a:lnTo>
                    <a:lnTo>
                      <a:pt x="2628" y="173634"/>
                    </a:lnTo>
                    <a:lnTo>
                      <a:pt x="0" y="179997"/>
                    </a:lnTo>
                    <a:lnTo>
                      <a:pt x="2628" y="186359"/>
                    </a:lnTo>
                    <a:lnTo>
                      <a:pt x="8991" y="188988"/>
                    </a:lnTo>
                    <a:lnTo>
                      <a:pt x="15354" y="186359"/>
                    </a:lnTo>
                    <a:lnTo>
                      <a:pt x="17995" y="179997"/>
                    </a:lnTo>
                    <a:close/>
                  </a:path>
                  <a:path w="1164590" h="189229">
                    <a:moveTo>
                      <a:pt x="1164005" y="8991"/>
                    </a:moveTo>
                    <a:lnTo>
                      <a:pt x="1161364" y="2628"/>
                    </a:lnTo>
                    <a:lnTo>
                      <a:pt x="1155014" y="0"/>
                    </a:lnTo>
                    <a:lnTo>
                      <a:pt x="1148651" y="2628"/>
                    </a:lnTo>
                    <a:lnTo>
                      <a:pt x="1146009" y="8991"/>
                    </a:lnTo>
                    <a:lnTo>
                      <a:pt x="1148651" y="15354"/>
                    </a:lnTo>
                    <a:lnTo>
                      <a:pt x="1155014" y="17995"/>
                    </a:lnTo>
                    <a:lnTo>
                      <a:pt x="1161364" y="15354"/>
                    </a:lnTo>
                    <a:lnTo>
                      <a:pt x="1164005" y="8991"/>
                    </a:lnTo>
                    <a:close/>
                  </a:path>
                </a:pathLst>
              </a:custGeom>
              <a:solidFill>
                <a:srgbClr val="f8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pic>
            <p:nvPicPr>
              <p:cNvPr id="444" name="object 19" descr=""/>
              <p:cNvPicPr/>
              <p:nvPr/>
            </p:nvPicPr>
            <p:blipFill>
              <a:blip r:embed="rId25"/>
              <a:stretch/>
            </p:blipFill>
            <p:spPr>
              <a:xfrm>
                <a:off x="6997320" y="2304360"/>
                <a:ext cx="48240" cy="4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object 20"/>
              <p:cNvSpPr/>
              <p:nvPr/>
            </p:nvSpPr>
            <p:spPr>
              <a:xfrm>
                <a:off x="6569640" y="1944360"/>
                <a:ext cx="398160" cy="369360"/>
              </a:xfrm>
              <a:custGeom>
                <a:avLst/>
                <a:gdLst/>
                <a:ahLst/>
                <a:rect l="l" t="t" r="r" b="b"/>
                <a:pathLst>
                  <a:path w="572135" h="531495">
                    <a:moveTo>
                      <a:pt x="0" y="0"/>
                    </a:moveTo>
                    <a:lnTo>
                      <a:pt x="571639" y="531456"/>
                    </a:lnTo>
                  </a:path>
                </a:pathLst>
              </a:custGeom>
              <a:noFill/>
              <a:ln w="18000">
                <a:solidFill>
                  <a:srgbClr val="f887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446" name="object 21"/>
              <p:cNvSpPr/>
              <p:nvPr/>
            </p:nvSpPr>
            <p:spPr>
              <a:xfrm>
                <a:off x="6972120" y="231768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18414" h="18415">
                    <a:moveTo>
                      <a:pt x="0" y="8997"/>
                    </a:moveTo>
                    <a:lnTo>
                      <a:pt x="2635" y="2635"/>
                    </a:lnTo>
                    <a:lnTo>
                      <a:pt x="8997" y="0"/>
                    </a:lnTo>
                    <a:lnTo>
                      <a:pt x="15360" y="2635"/>
                    </a:lnTo>
                    <a:lnTo>
                      <a:pt x="17995" y="8997"/>
                    </a:lnTo>
                    <a:lnTo>
                      <a:pt x="15360" y="15360"/>
                    </a:lnTo>
                    <a:lnTo>
                      <a:pt x="8997" y="17995"/>
                    </a:lnTo>
                    <a:lnTo>
                      <a:pt x="2635" y="15360"/>
                    </a:lnTo>
                    <a:lnTo>
                      <a:pt x="0" y="8997"/>
                    </a:lnTo>
                    <a:close/>
                  </a:path>
                </a:pathLst>
              </a:custGeom>
              <a:solidFill>
                <a:srgbClr val="f8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pic>
            <p:nvPicPr>
              <p:cNvPr id="447" name="object 22" descr=""/>
              <p:cNvPicPr/>
              <p:nvPr/>
            </p:nvPicPr>
            <p:blipFill>
              <a:blip r:embed="rId26"/>
              <a:stretch/>
            </p:blipFill>
            <p:spPr>
              <a:xfrm>
                <a:off x="7278840" y="2304360"/>
                <a:ext cx="48240" cy="4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object 23"/>
              <p:cNvSpPr/>
              <p:nvPr/>
            </p:nvSpPr>
            <p:spPr>
              <a:xfrm>
                <a:off x="6978240" y="1812960"/>
                <a:ext cx="367920" cy="518040"/>
              </a:xfrm>
              <a:custGeom>
                <a:avLst/>
                <a:gdLst/>
                <a:ahLst/>
                <a:rect l="l" t="t" r="r" b="b"/>
                <a:pathLst>
                  <a:path w="528320" h="745490">
                    <a:moveTo>
                      <a:pt x="528015" y="28181"/>
                    </a:moveTo>
                    <a:lnTo>
                      <a:pt x="500303" y="28181"/>
                    </a:lnTo>
                    <a:lnTo>
                      <a:pt x="500303" y="718324"/>
                    </a:lnTo>
                    <a:lnTo>
                      <a:pt x="528015" y="718324"/>
                    </a:lnTo>
                    <a:lnTo>
                      <a:pt x="528015" y="28181"/>
                    </a:lnTo>
                    <a:close/>
                  </a:path>
                  <a:path w="528320" h="745490">
                    <a:moveTo>
                      <a:pt x="528015" y="0"/>
                    </a:moveTo>
                    <a:lnTo>
                      <a:pt x="0" y="0"/>
                    </a:lnTo>
                    <a:lnTo>
                      <a:pt x="0" y="27940"/>
                    </a:lnTo>
                    <a:lnTo>
                      <a:pt x="0" y="718820"/>
                    </a:lnTo>
                    <a:lnTo>
                      <a:pt x="0" y="745490"/>
                    </a:lnTo>
                    <a:lnTo>
                      <a:pt x="528015" y="745490"/>
                    </a:lnTo>
                    <a:lnTo>
                      <a:pt x="528015" y="718820"/>
                    </a:lnTo>
                    <a:lnTo>
                      <a:pt x="27736" y="718820"/>
                    </a:lnTo>
                    <a:lnTo>
                      <a:pt x="27736" y="27940"/>
                    </a:lnTo>
                    <a:lnTo>
                      <a:pt x="528015" y="27940"/>
                    </a:lnTo>
                    <a:lnTo>
                      <a:pt x="528015" y="0"/>
                    </a:lnTo>
                    <a:close/>
                  </a:path>
                </a:pathLst>
              </a:custGeom>
              <a:solidFill>
                <a:srgbClr val="c8c9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449" name="object 24"/>
              <p:cNvSpPr/>
              <p:nvPr/>
            </p:nvSpPr>
            <p:spPr>
              <a:xfrm>
                <a:off x="6997680" y="1832400"/>
                <a:ext cx="329400" cy="479880"/>
              </a:xfrm>
              <a:custGeom>
                <a:avLst/>
                <a:gdLst/>
                <a:ahLst/>
                <a:rect l="l" t="t" r="r" b="b"/>
                <a:pathLst>
                  <a:path w="473075" h="690245">
                    <a:moveTo>
                      <a:pt x="472566" y="0"/>
                    </a:moveTo>
                    <a:lnTo>
                      <a:pt x="0" y="0"/>
                    </a:lnTo>
                    <a:lnTo>
                      <a:pt x="0" y="690130"/>
                    </a:lnTo>
                    <a:lnTo>
                      <a:pt x="472566" y="690130"/>
                    </a:lnTo>
                    <a:lnTo>
                      <a:pt x="472566" y="0"/>
                    </a:lnTo>
                    <a:close/>
                  </a:path>
                </a:pathLst>
              </a:custGeom>
              <a:solidFill>
                <a:srgbClr val="d9f1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pic>
            <p:nvPicPr>
              <p:cNvPr id="450" name="object 25" descr=""/>
              <p:cNvPicPr/>
              <p:nvPr/>
            </p:nvPicPr>
            <p:blipFill>
              <a:blip r:embed="rId27"/>
              <a:stretch/>
            </p:blipFill>
            <p:spPr>
              <a:xfrm>
                <a:off x="7166160" y="1832400"/>
                <a:ext cx="160560" cy="16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object 26"/>
              <p:cNvSpPr/>
              <p:nvPr/>
            </p:nvSpPr>
            <p:spPr>
              <a:xfrm>
                <a:off x="6960960" y="205560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25400" h="85090">
                    <a:moveTo>
                      <a:pt x="25196" y="0"/>
                    </a:moveTo>
                    <a:lnTo>
                      <a:pt x="0" y="0"/>
                    </a:lnTo>
                    <a:lnTo>
                      <a:pt x="0" y="84632"/>
                    </a:lnTo>
                    <a:lnTo>
                      <a:pt x="12598" y="84632"/>
                    </a:lnTo>
                    <a:lnTo>
                      <a:pt x="12598" y="47650"/>
                    </a:lnTo>
                    <a:lnTo>
                      <a:pt x="25196" y="47650"/>
                    </a:lnTo>
                    <a:lnTo>
                      <a:pt x="25196" y="0"/>
                    </a:lnTo>
                    <a:close/>
                  </a:path>
                </a:pathLst>
              </a:custGeom>
              <a:solidFill>
                <a:srgbClr val="b5b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</p:grpSp>
        <p:pic>
          <p:nvPicPr>
            <p:cNvPr id="452" name="object 27" descr=""/>
            <p:cNvPicPr/>
            <p:nvPr/>
          </p:nvPicPr>
          <p:blipFill>
            <a:blip r:embed="rId28"/>
            <a:stretch/>
          </p:blipFill>
          <p:spPr>
            <a:xfrm>
              <a:off x="7394040" y="1711800"/>
              <a:ext cx="81360" cy="8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3" name="図 9" descr="ベンチ, 建物, ブラインド, 座る が含まれている画像&#10;&#10;自動的に生成された説明"/>
          <p:cNvPicPr/>
          <p:nvPr/>
        </p:nvPicPr>
        <p:blipFill>
          <a:blip r:embed="rId29"/>
          <a:stretch/>
        </p:blipFill>
        <p:spPr>
          <a:xfrm>
            <a:off x="8356680" y="1592280"/>
            <a:ext cx="304560" cy="654120"/>
          </a:xfrm>
          <a:prstGeom prst="rect">
            <a:avLst/>
          </a:prstGeom>
          <a:ln w="0">
            <a:noFill/>
          </a:ln>
        </p:spPr>
      </p:pic>
      <p:pic>
        <p:nvPicPr>
          <p:cNvPr id="454" name="図 11" descr=""/>
          <p:cNvPicPr/>
          <p:nvPr/>
        </p:nvPicPr>
        <p:blipFill>
          <a:blip r:embed="rId30"/>
          <a:stretch/>
        </p:blipFill>
        <p:spPr>
          <a:xfrm>
            <a:off x="8921880" y="1606680"/>
            <a:ext cx="441360" cy="660240"/>
          </a:xfrm>
          <a:prstGeom prst="rect">
            <a:avLst/>
          </a:prstGeom>
          <a:ln w="0">
            <a:noFill/>
          </a:ln>
        </p:spPr>
      </p:pic>
      <p:sp>
        <p:nvSpPr>
          <p:cNvPr id="455" name="三角形 117"/>
          <p:cNvSpPr/>
          <p:nvPr/>
        </p:nvSpPr>
        <p:spPr>
          <a:xfrm flipV="1" rot="16200000">
            <a:off x="8754120" y="1839600"/>
            <a:ext cx="104760" cy="90720"/>
          </a:xfrm>
          <a:prstGeom prst="triangle">
            <a:avLst>
              <a:gd name="adj" fmla="val 50000"/>
            </a:avLst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6" name="テキスト ボックス 12"/>
          <p:cNvSpPr/>
          <p:nvPr/>
        </p:nvSpPr>
        <p:spPr>
          <a:xfrm>
            <a:off x="8186760" y="2271600"/>
            <a:ext cx="687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ガラスルーバー窓</a:t>
            </a: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7" name="テキスト ボックス 206"/>
          <p:cNvSpPr/>
          <p:nvPr/>
        </p:nvSpPr>
        <p:spPr>
          <a:xfrm>
            <a:off x="8929800" y="2271600"/>
            <a:ext cx="620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すべり出し窓</a:t>
            </a: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458" name="グループ化 13"/>
          <p:cNvGrpSpPr/>
          <p:nvPr/>
        </p:nvGrpSpPr>
        <p:grpSpPr>
          <a:xfrm>
            <a:off x="10218600" y="3298680"/>
            <a:ext cx="208080" cy="614520"/>
            <a:chOff x="10218600" y="3298680"/>
            <a:chExt cx="208080" cy="614520"/>
          </a:xfrm>
        </p:grpSpPr>
        <p:pic>
          <p:nvPicPr>
            <p:cNvPr id="459" name="図 2" descr=""/>
            <p:cNvPicPr/>
            <p:nvPr/>
          </p:nvPicPr>
          <p:blipFill>
            <a:blip r:embed="rId31"/>
            <a:stretch/>
          </p:blipFill>
          <p:spPr>
            <a:xfrm>
              <a:off x="10232640" y="3317760"/>
              <a:ext cx="39960" cy="5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object 25"/>
            <p:cNvSpPr/>
            <p:nvPr/>
          </p:nvSpPr>
          <p:spPr>
            <a:xfrm>
              <a:off x="10218600" y="3298680"/>
              <a:ext cx="2080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840" bIns="0" anchor="t">
              <a:spAutoFit/>
            </a:bodyPr>
            <a:p>
              <a:pPr marL="38160" algn="ctr"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400" spc="-1" strike="noStrike">
                  <a:solidFill>
                    <a:srgbClr val="535353"/>
                  </a:solidFill>
                  <a:latin typeface="Yu Gothic Medium"/>
                  <a:ea typeface="Yu Gothic Medium"/>
                </a:rPr>
                <a:t>温度</a:t>
              </a:r>
              <a:endParaRPr b="0" lang="en-US" sz="400" spc="-1" strike="noStrike">
                <a:solidFill>
                  <a:srgbClr val="000000"/>
                </a:solidFill>
                <a:latin typeface="Segoe UI"/>
              </a:endParaRPr>
            </a:p>
            <a:p>
              <a:pPr marL="38160" algn="ctr">
                <a:lnSpc>
                  <a:spcPct val="100000"/>
                </a:lnSpc>
                <a:spcBef>
                  <a:spcPts val="1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400" spc="-1" strike="noStrike">
                  <a:solidFill>
                    <a:srgbClr val="535353"/>
                  </a:solidFill>
                  <a:latin typeface="Yu Gothic Medium"/>
                  <a:ea typeface="Yu Gothic Medium"/>
                </a:rPr>
                <a:t>（℃）</a:t>
              </a:r>
              <a:endParaRPr b="0" lang="en-US" sz="4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461" name="正方形/長方形 70"/>
          <p:cNvSpPr/>
          <p:nvPr/>
        </p:nvSpPr>
        <p:spPr>
          <a:xfrm>
            <a:off x="9229680" y="3224160"/>
            <a:ext cx="1395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4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リプラス（高性能樹脂アルミ複合窓</a:t>
            </a:r>
            <a:r>
              <a:rPr b="1" lang="en-US" sz="4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/</a:t>
            </a:r>
            <a:r>
              <a:rPr b="1" lang="ja-JP" sz="4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トリプルガラス）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4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2" name="テキスト ボックス 12"/>
          <p:cNvSpPr/>
          <p:nvPr/>
        </p:nvSpPr>
        <p:spPr>
          <a:xfrm>
            <a:off x="5740560" y="3884760"/>
            <a:ext cx="226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FIX</a:t>
            </a:r>
            <a:r>
              <a:rPr b="0" lang="ja-JP" sz="6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窓</a:t>
            </a: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3" name="テキスト ボックス 206"/>
          <p:cNvSpPr/>
          <p:nvPr/>
        </p:nvSpPr>
        <p:spPr>
          <a:xfrm>
            <a:off x="6310440" y="3884760"/>
            <a:ext cx="387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上げ下げ窓</a:t>
            </a: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464" name="グループ化 13"/>
          <p:cNvGrpSpPr/>
          <p:nvPr/>
        </p:nvGrpSpPr>
        <p:grpSpPr>
          <a:xfrm>
            <a:off x="4635360" y="1568520"/>
            <a:ext cx="649440" cy="658800"/>
            <a:chOff x="4635360" y="1568520"/>
            <a:chExt cx="649440" cy="658800"/>
          </a:xfrm>
        </p:grpSpPr>
        <p:sp>
          <p:nvSpPr>
            <p:cNvPr id="465" name="正方形/長方形 6"/>
            <p:cNvSpPr/>
            <p:nvPr/>
          </p:nvSpPr>
          <p:spPr>
            <a:xfrm>
              <a:off x="4692240" y="1797120"/>
              <a:ext cx="433440" cy="43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pic>
          <p:nvPicPr>
            <p:cNvPr id="466" name="図 2" descr=""/>
            <p:cNvPicPr/>
            <p:nvPr/>
          </p:nvPicPr>
          <p:blipFill>
            <a:blip r:embed="rId32"/>
            <a:stretch/>
          </p:blipFill>
          <p:spPr>
            <a:xfrm>
              <a:off x="4635360" y="1568520"/>
              <a:ext cx="649440" cy="19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図 11" descr="QR コード&#10;&#10;自動的に生成された説明"/>
            <p:cNvPicPr/>
            <p:nvPr/>
          </p:nvPicPr>
          <p:blipFill>
            <a:blip r:embed="rId33"/>
            <a:stretch/>
          </p:blipFill>
          <p:spPr>
            <a:xfrm>
              <a:off x="4726440" y="1832400"/>
              <a:ext cx="361800" cy="36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8" name="図 22" descr="QR コード&#10;&#10;自動的に生成された説明"/>
          <p:cNvPicPr/>
          <p:nvPr/>
        </p:nvPicPr>
        <p:blipFill>
          <a:blip r:embed="rId34"/>
          <a:stretch/>
        </p:blipFill>
        <p:spPr>
          <a:xfrm>
            <a:off x="10037880" y="61815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469" name="正方形/長方形 70"/>
          <p:cNvSpPr/>
          <p:nvPr/>
        </p:nvSpPr>
        <p:spPr>
          <a:xfrm>
            <a:off x="7943760" y="5019840"/>
            <a:ext cx="6937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リプラス</a:t>
            </a:r>
            <a:r>
              <a:rPr b="1" lang="en-US" sz="500" spc="-1" strike="noStrike" baseline="30000">
                <a:solidFill>
                  <a:srgbClr val="ff9300"/>
                </a:solidFill>
                <a:latin typeface="Yu Gothic Medium"/>
                <a:ea typeface="Yu Gothic Medium"/>
              </a:rPr>
              <a:t>※</a:t>
            </a:r>
            <a:r>
              <a:rPr b="1" lang="ja-JP" sz="500" spc="-1" strike="noStrike" baseline="30000">
                <a:solidFill>
                  <a:srgbClr val="ff9300"/>
                </a:solidFill>
                <a:latin typeface="Yu Gothic Medium"/>
                <a:ea typeface="Yu Gothic Medium"/>
              </a:rPr>
              <a:t>２</a:t>
            </a:r>
            <a:r>
              <a:rPr b="1" lang="ja-JP" sz="5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居室仕様</a:t>
            </a:r>
            <a:r>
              <a:rPr b="1" lang="en-US" sz="5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TW</a:t>
            </a:r>
            <a:r>
              <a:rPr b="1" lang="ja-JP" sz="5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タイプ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ff9300"/>
                </a:solidFill>
                <a:latin typeface="Yu Gothic Medium"/>
                <a:ea typeface="Yu Gothic Medium"/>
              </a:rPr>
              <a:t>引違い窓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1433520" y="7310520"/>
            <a:ext cx="1260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SPD_sas_22_05</a:t>
            </a: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2025.8.18</a:t>
            </a:r>
            <a:r>
              <a:rPr b="0" lang="ja-JP" sz="6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発行</a:t>
            </a: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471" name="object 14" descr=""/>
          <p:cNvPicPr/>
          <p:nvPr/>
        </p:nvPicPr>
        <p:blipFill>
          <a:blip r:embed="rId35"/>
          <a:stretch/>
        </p:blipFill>
        <p:spPr>
          <a:xfrm>
            <a:off x="7042320" y="5751360"/>
            <a:ext cx="1215720" cy="690840"/>
          </a:xfrm>
          <a:prstGeom prst="rect">
            <a:avLst/>
          </a:prstGeom>
          <a:ln w="0">
            <a:noFill/>
          </a:ln>
        </p:spPr>
      </p:pic>
      <p:grpSp>
        <p:nvGrpSpPr>
          <p:cNvPr id="472" name="グループ化 10244"/>
          <p:cNvGrpSpPr/>
          <p:nvPr/>
        </p:nvGrpSpPr>
        <p:grpSpPr>
          <a:xfrm>
            <a:off x="7570800" y="5808600"/>
            <a:ext cx="447840" cy="92160"/>
            <a:chOff x="7570800" y="5808600"/>
            <a:chExt cx="447840" cy="92160"/>
          </a:xfrm>
        </p:grpSpPr>
        <p:sp>
          <p:nvSpPr>
            <p:cNvPr id="473" name="テキスト ボックス 194"/>
            <p:cNvSpPr/>
            <p:nvPr/>
          </p:nvSpPr>
          <p:spPr>
            <a:xfrm flipH="1">
              <a:off x="7570800" y="5820120"/>
              <a:ext cx="447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500" spc="-1" strike="noStrike">
                  <a:solidFill>
                    <a:srgbClr val="ffffff"/>
                  </a:solidFill>
                  <a:latin typeface="游ゴシック"/>
                  <a:ea typeface="游ゴシック"/>
                </a:rPr>
                <a:t>室内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474" name="正方形/長方形 10242"/>
            <p:cNvSpPr/>
            <p:nvPr/>
          </p:nvSpPr>
          <p:spPr>
            <a:xfrm>
              <a:off x="7689960" y="5808600"/>
              <a:ext cx="209520" cy="921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475" name="グループ化 197"/>
          <p:cNvGrpSpPr/>
          <p:nvPr/>
        </p:nvGrpSpPr>
        <p:grpSpPr>
          <a:xfrm>
            <a:off x="7286400" y="5808600"/>
            <a:ext cx="447480" cy="92160"/>
            <a:chOff x="7286400" y="5808600"/>
            <a:chExt cx="447480" cy="92160"/>
          </a:xfrm>
        </p:grpSpPr>
        <p:sp>
          <p:nvSpPr>
            <p:cNvPr id="476" name="テキスト ボックス 201"/>
            <p:cNvSpPr/>
            <p:nvPr/>
          </p:nvSpPr>
          <p:spPr>
            <a:xfrm flipH="1">
              <a:off x="7286040" y="5821200"/>
              <a:ext cx="44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500" spc="-1" strike="noStrike">
                  <a:solidFill>
                    <a:srgbClr val="7f7f7f"/>
                  </a:solidFill>
                  <a:latin typeface="游ゴシック"/>
                  <a:ea typeface="游ゴシック"/>
                </a:rPr>
                <a:t>室外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477" name="正方形/長方形 202"/>
            <p:cNvSpPr/>
            <p:nvPr/>
          </p:nvSpPr>
          <p:spPr>
            <a:xfrm>
              <a:off x="7405560" y="5808600"/>
              <a:ext cx="209520" cy="921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478" name="グループ化 4"/>
          <p:cNvGrpSpPr/>
          <p:nvPr/>
        </p:nvGrpSpPr>
        <p:grpSpPr>
          <a:xfrm>
            <a:off x="7224840" y="6224760"/>
            <a:ext cx="957240" cy="201600"/>
            <a:chOff x="7224840" y="6224760"/>
            <a:chExt cx="957240" cy="201600"/>
          </a:xfrm>
        </p:grpSpPr>
        <p:sp>
          <p:nvSpPr>
            <p:cNvPr id="479" name="四角形: 角を丸くする 30"/>
            <p:cNvSpPr/>
            <p:nvPr/>
          </p:nvSpPr>
          <p:spPr>
            <a:xfrm>
              <a:off x="7308720" y="6245280"/>
              <a:ext cx="299880" cy="181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480" name="テキスト ボックス 183"/>
            <p:cNvSpPr/>
            <p:nvPr/>
          </p:nvSpPr>
          <p:spPr>
            <a:xfrm flipH="1">
              <a:off x="7225560" y="6265800"/>
              <a:ext cx="44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400" spc="-1" strike="noStrike">
                  <a:solidFill>
                    <a:srgbClr val="535353"/>
                  </a:solidFill>
                  <a:latin typeface="游ゴシック"/>
                  <a:ea typeface="游ゴシック"/>
                </a:rPr>
                <a:t>カバー材</a:t>
              </a:r>
              <a:endParaRPr b="0" lang="en-US" sz="400" spc="-1" strike="noStrike">
                <a:solidFill>
                  <a:srgbClr val="000000"/>
                </a:solidFill>
                <a:latin typeface="Segoe U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400" spc="-1" strike="noStrike">
                  <a:solidFill>
                    <a:srgbClr val="535353"/>
                  </a:solidFill>
                  <a:latin typeface="游ゴシック"/>
                  <a:ea typeface="游ゴシック"/>
                </a:rPr>
                <a:t>（アルミ製）</a:t>
              </a:r>
              <a:endParaRPr b="0" lang="en-US" sz="4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481" name="四角形: 角を丸くする 184"/>
            <p:cNvSpPr/>
            <p:nvPr/>
          </p:nvSpPr>
          <p:spPr>
            <a:xfrm>
              <a:off x="7689960" y="6246720"/>
              <a:ext cx="303120" cy="17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482" name="テキスト ボックス 185"/>
            <p:cNvSpPr/>
            <p:nvPr/>
          </p:nvSpPr>
          <p:spPr>
            <a:xfrm flipH="1">
              <a:off x="7605000" y="6267600"/>
              <a:ext cx="44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400" spc="-1" strike="noStrike">
                  <a:solidFill>
                    <a:srgbClr val="535353"/>
                  </a:solidFill>
                  <a:latin typeface="游ゴシック"/>
                  <a:ea typeface="游ゴシック"/>
                </a:rPr>
                <a:t>カバー材</a:t>
              </a:r>
              <a:endParaRPr b="0" lang="en-US" sz="400" spc="-1" strike="noStrike">
                <a:solidFill>
                  <a:srgbClr val="000000"/>
                </a:solidFill>
                <a:latin typeface="Segoe U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400" spc="-1" strike="noStrike">
                  <a:solidFill>
                    <a:srgbClr val="535353"/>
                  </a:solidFill>
                  <a:latin typeface="游ゴシック"/>
                  <a:ea typeface="游ゴシック"/>
                </a:rPr>
                <a:t>（樹脂製）</a:t>
              </a:r>
              <a:endParaRPr b="0" lang="en-US" sz="4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483" name="フリーフォーム: 図形 10240"/>
            <p:cNvSpPr/>
            <p:nvPr/>
          </p:nvSpPr>
          <p:spPr>
            <a:xfrm>
              <a:off x="7230960" y="6305760"/>
              <a:ext cx="71280" cy="46080"/>
            </a:xfrm>
            <a:custGeom>
              <a:avLst/>
              <a:gdLst/>
              <a:ahLst/>
              <a:rect l="l" t="t" r="r" b="b"/>
              <a:pathLst>
                <a:path w="152400" h="139700">
                  <a:moveTo>
                    <a:pt x="152400" y="139700"/>
                  </a:moveTo>
                  <a:lnTo>
                    <a:pt x="0" y="13970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484" name="フリーフォーム: 図形 193"/>
            <p:cNvSpPr/>
            <p:nvPr/>
          </p:nvSpPr>
          <p:spPr>
            <a:xfrm flipH="1">
              <a:off x="7990200" y="6235560"/>
              <a:ext cx="179280" cy="100080"/>
            </a:xfrm>
            <a:custGeom>
              <a:avLst/>
              <a:gdLst/>
              <a:ahLst/>
              <a:rect l="l" t="t" r="r" b="b"/>
              <a:pathLst>
                <a:path w="152400" h="139700">
                  <a:moveTo>
                    <a:pt x="152400" y="139700"/>
                  </a:moveTo>
                  <a:lnTo>
                    <a:pt x="0" y="13970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485" name="楕円 10258"/>
            <p:cNvSpPr/>
            <p:nvPr/>
          </p:nvSpPr>
          <p:spPr>
            <a:xfrm>
              <a:off x="7224840" y="6302520"/>
              <a:ext cx="20520" cy="21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486" name="楕円 10258"/>
            <p:cNvSpPr/>
            <p:nvPr/>
          </p:nvSpPr>
          <p:spPr>
            <a:xfrm>
              <a:off x="8161560" y="6224760"/>
              <a:ext cx="20520" cy="2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487" name="グループ化 15"/>
          <p:cNvGrpSpPr/>
          <p:nvPr/>
        </p:nvGrpSpPr>
        <p:grpSpPr>
          <a:xfrm>
            <a:off x="7116840" y="6224760"/>
            <a:ext cx="119160" cy="45720"/>
            <a:chOff x="7116840" y="6224760"/>
            <a:chExt cx="119160" cy="45720"/>
          </a:xfrm>
        </p:grpSpPr>
        <p:sp>
          <p:nvSpPr>
            <p:cNvPr id="488" name="object 49"/>
            <p:cNvSpPr/>
            <p:nvPr/>
          </p:nvSpPr>
          <p:spPr>
            <a:xfrm>
              <a:off x="7116840" y="6224760"/>
              <a:ext cx="118800" cy="45720"/>
            </a:xfrm>
            <a:custGeom>
              <a:avLst/>
              <a:gdLst/>
              <a:ahLst/>
              <a:rect l="l" t="t" r="r" b="b"/>
              <a:pathLst>
                <a:path w="144780" h="55879">
                  <a:moveTo>
                    <a:pt x="62788" y="0"/>
                  </a:moveTo>
                  <a:lnTo>
                    <a:pt x="85547" y="10312"/>
                  </a:lnTo>
                  <a:lnTo>
                    <a:pt x="0" y="37579"/>
                  </a:lnTo>
                  <a:lnTo>
                    <a:pt x="39154" y="55308"/>
                  </a:lnTo>
                  <a:lnTo>
                    <a:pt x="124675" y="28028"/>
                  </a:lnTo>
                  <a:lnTo>
                    <a:pt x="144589" y="37033"/>
                  </a:lnTo>
                  <a:lnTo>
                    <a:pt x="144614" y="7162"/>
                  </a:lnTo>
                  <a:lnTo>
                    <a:pt x="144614" y="5473"/>
                  </a:lnTo>
                  <a:lnTo>
                    <a:pt x="62788" y="0"/>
                  </a:lnTo>
                  <a:close/>
                </a:path>
              </a:pathLst>
            </a:custGeom>
            <a:solidFill>
              <a:srgbClr val="f8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489" name="object 50"/>
            <p:cNvSpPr/>
            <p:nvPr/>
          </p:nvSpPr>
          <p:spPr>
            <a:xfrm>
              <a:off x="7117200" y="6224760"/>
              <a:ext cx="118800" cy="45720"/>
            </a:xfrm>
            <a:custGeom>
              <a:avLst/>
              <a:gdLst/>
              <a:ahLst/>
              <a:rect l="l" t="t" r="r" b="b"/>
              <a:pathLst>
                <a:path w="144780" h="55879">
                  <a:moveTo>
                    <a:pt x="144614" y="7162"/>
                  </a:moveTo>
                  <a:lnTo>
                    <a:pt x="144589" y="34251"/>
                  </a:lnTo>
                  <a:lnTo>
                    <a:pt x="144589" y="37033"/>
                  </a:lnTo>
                  <a:lnTo>
                    <a:pt x="142049" y="35890"/>
                  </a:lnTo>
                  <a:lnTo>
                    <a:pt x="136258" y="33274"/>
                  </a:lnTo>
                  <a:lnTo>
                    <a:pt x="130467" y="30645"/>
                  </a:lnTo>
                  <a:lnTo>
                    <a:pt x="124675" y="28028"/>
                  </a:lnTo>
                  <a:lnTo>
                    <a:pt x="103456" y="34799"/>
                  </a:lnTo>
                  <a:lnTo>
                    <a:pt x="82238" y="41567"/>
                  </a:lnTo>
                  <a:lnTo>
                    <a:pt x="61021" y="48335"/>
                  </a:lnTo>
                  <a:lnTo>
                    <a:pt x="39801" y="55105"/>
                  </a:lnTo>
                  <a:lnTo>
                    <a:pt x="39154" y="55308"/>
                  </a:lnTo>
                  <a:lnTo>
                    <a:pt x="4267" y="39509"/>
                  </a:lnTo>
                  <a:lnTo>
                    <a:pt x="0" y="37579"/>
                  </a:lnTo>
                  <a:lnTo>
                    <a:pt x="4457" y="36156"/>
                  </a:lnTo>
                  <a:lnTo>
                    <a:pt x="24734" y="29696"/>
                  </a:lnTo>
                  <a:lnTo>
                    <a:pt x="45007" y="23234"/>
                  </a:lnTo>
                  <a:lnTo>
                    <a:pt x="65277" y="16772"/>
                  </a:lnTo>
                  <a:lnTo>
                    <a:pt x="85547" y="10312"/>
                  </a:lnTo>
                  <a:lnTo>
                    <a:pt x="80987" y="8242"/>
                  </a:lnTo>
                  <a:lnTo>
                    <a:pt x="76415" y="6172"/>
                  </a:lnTo>
                  <a:lnTo>
                    <a:pt x="71843" y="4102"/>
                  </a:lnTo>
                  <a:lnTo>
                    <a:pt x="62788" y="0"/>
                  </a:lnTo>
                  <a:lnTo>
                    <a:pt x="72707" y="673"/>
                  </a:lnTo>
                  <a:lnTo>
                    <a:pt x="142938" y="5359"/>
                  </a:lnTo>
                  <a:lnTo>
                    <a:pt x="144614" y="5473"/>
                  </a:lnTo>
                  <a:lnTo>
                    <a:pt x="144614" y="7162"/>
                  </a:lnTo>
                  <a:close/>
                </a:path>
              </a:pathLst>
            </a:custGeom>
            <a:noFill/>
            <a:ln w="3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490" name="グループ化 14"/>
          <p:cNvGrpSpPr/>
          <p:nvPr/>
        </p:nvGrpSpPr>
        <p:grpSpPr>
          <a:xfrm>
            <a:off x="8005680" y="6205680"/>
            <a:ext cx="117720" cy="45720"/>
            <a:chOff x="8005680" y="6205680"/>
            <a:chExt cx="117720" cy="45720"/>
          </a:xfrm>
        </p:grpSpPr>
        <p:sp>
          <p:nvSpPr>
            <p:cNvPr id="491" name="object 49"/>
            <p:cNvSpPr/>
            <p:nvPr/>
          </p:nvSpPr>
          <p:spPr>
            <a:xfrm flipH="1">
              <a:off x="8005680" y="6205680"/>
              <a:ext cx="117360" cy="45000"/>
            </a:xfrm>
            <a:custGeom>
              <a:avLst/>
              <a:gdLst/>
              <a:ahLst/>
              <a:rect l="l" t="t" r="r" b="b"/>
              <a:pathLst>
                <a:path w="144780" h="55879">
                  <a:moveTo>
                    <a:pt x="62788" y="0"/>
                  </a:moveTo>
                  <a:lnTo>
                    <a:pt x="85547" y="10312"/>
                  </a:lnTo>
                  <a:lnTo>
                    <a:pt x="0" y="37579"/>
                  </a:lnTo>
                  <a:lnTo>
                    <a:pt x="39154" y="55308"/>
                  </a:lnTo>
                  <a:lnTo>
                    <a:pt x="124675" y="28028"/>
                  </a:lnTo>
                  <a:lnTo>
                    <a:pt x="144589" y="37033"/>
                  </a:lnTo>
                  <a:lnTo>
                    <a:pt x="144614" y="7162"/>
                  </a:lnTo>
                  <a:lnTo>
                    <a:pt x="144614" y="5473"/>
                  </a:lnTo>
                  <a:lnTo>
                    <a:pt x="62788" y="0"/>
                  </a:lnTo>
                  <a:close/>
                </a:path>
              </a:pathLst>
            </a:custGeom>
            <a:solidFill>
              <a:srgbClr val="f8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492" name="object 50"/>
            <p:cNvSpPr/>
            <p:nvPr/>
          </p:nvSpPr>
          <p:spPr>
            <a:xfrm flipH="1">
              <a:off x="8006040" y="6206400"/>
              <a:ext cx="117360" cy="45000"/>
            </a:xfrm>
            <a:custGeom>
              <a:avLst/>
              <a:gdLst/>
              <a:ahLst/>
              <a:rect l="l" t="t" r="r" b="b"/>
              <a:pathLst>
                <a:path w="144780" h="55879">
                  <a:moveTo>
                    <a:pt x="144614" y="7162"/>
                  </a:moveTo>
                  <a:lnTo>
                    <a:pt x="144589" y="34251"/>
                  </a:lnTo>
                  <a:lnTo>
                    <a:pt x="144589" y="37033"/>
                  </a:lnTo>
                  <a:lnTo>
                    <a:pt x="142049" y="35890"/>
                  </a:lnTo>
                  <a:lnTo>
                    <a:pt x="136258" y="33274"/>
                  </a:lnTo>
                  <a:lnTo>
                    <a:pt x="130467" y="30645"/>
                  </a:lnTo>
                  <a:lnTo>
                    <a:pt x="124675" y="28028"/>
                  </a:lnTo>
                  <a:lnTo>
                    <a:pt x="103456" y="34799"/>
                  </a:lnTo>
                  <a:lnTo>
                    <a:pt x="82238" y="41567"/>
                  </a:lnTo>
                  <a:lnTo>
                    <a:pt x="61021" y="48335"/>
                  </a:lnTo>
                  <a:lnTo>
                    <a:pt x="39801" y="55105"/>
                  </a:lnTo>
                  <a:lnTo>
                    <a:pt x="39154" y="55308"/>
                  </a:lnTo>
                  <a:lnTo>
                    <a:pt x="4267" y="39509"/>
                  </a:lnTo>
                  <a:lnTo>
                    <a:pt x="0" y="37579"/>
                  </a:lnTo>
                  <a:lnTo>
                    <a:pt x="4457" y="36156"/>
                  </a:lnTo>
                  <a:lnTo>
                    <a:pt x="24734" y="29696"/>
                  </a:lnTo>
                  <a:lnTo>
                    <a:pt x="45007" y="23234"/>
                  </a:lnTo>
                  <a:lnTo>
                    <a:pt x="65277" y="16772"/>
                  </a:lnTo>
                  <a:lnTo>
                    <a:pt x="85547" y="10312"/>
                  </a:lnTo>
                  <a:lnTo>
                    <a:pt x="80987" y="8242"/>
                  </a:lnTo>
                  <a:lnTo>
                    <a:pt x="76415" y="6172"/>
                  </a:lnTo>
                  <a:lnTo>
                    <a:pt x="71843" y="4102"/>
                  </a:lnTo>
                  <a:lnTo>
                    <a:pt x="62788" y="0"/>
                  </a:lnTo>
                  <a:lnTo>
                    <a:pt x="72707" y="673"/>
                  </a:lnTo>
                  <a:lnTo>
                    <a:pt x="142938" y="5359"/>
                  </a:lnTo>
                  <a:lnTo>
                    <a:pt x="144614" y="5473"/>
                  </a:lnTo>
                  <a:lnTo>
                    <a:pt x="144614" y="7162"/>
                  </a:lnTo>
                  <a:close/>
                </a:path>
              </a:pathLst>
            </a:custGeom>
            <a:noFill/>
            <a:ln w="3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pic>
        <p:nvPicPr>
          <p:cNvPr id="493" name="図 13" descr="鏡のあるバスルーム&#10;&#10;自動的に生成された説明"/>
          <p:cNvPicPr/>
          <p:nvPr/>
        </p:nvPicPr>
        <p:blipFill>
          <a:blip r:embed="rId36"/>
          <a:stretch/>
        </p:blipFill>
        <p:spPr>
          <a:xfrm>
            <a:off x="9810720" y="1227240"/>
            <a:ext cx="668520" cy="1098360"/>
          </a:xfrm>
          <a:prstGeom prst="rect">
            <a:avLst/>
          </a:prstGeom>
          <a:ln w="0">
            <a:noFill/>
          </a:ln>
        </p:spPr>
      </p:pic>
      <p:sp>
        <p:nvSpPr>
          <p:cNvPr id="494" name="object 29"/>
          <p:cNvSpPr/>
          <p:nvPr/>
        </p:nvSpPr>
        <p:spPr>
          <a:xfrm>
            <a:off x="5470560" y="5411880"/>
            <a:ext cx="242712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" spc="-1" strike="noStrike">
                <a:solidFill>
                  <a:srgbClr val="535353"/>
                </a:solidFill>
                <a:latin typeface="游ゴシック"/>
                <a:ea typeface="游ゴシック"/>
              </a:rPr>
              <a:t>※</a:t>
            </a:r>
            <a:r>
              <a:rPr b="0" lang="ja-JP" sz="400" spc="-1" strike="noStrike">
                <a:solidFill>
                  <a:srgbClr val="535353"/>
                </a:solidFill>
                <a:latin typeface="游ゴシック"/>
                <a:ea typeface="游ゴシック"/>
              </a:rPr>
              <a:t>窓の断熱性能を上げることは、結露発生の抑止力を高めます。しかし、窓の断熱性能を上げるだけでは必ず結露の発生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00" spc="-1" strike="noStrike">
                <a:solidFill>
                  <a:srgbClr val="535353"/>
                </a:solidFill>
                <a:latin typeface="游ゴシック"/>
                <a:ea typeface="游ゴシック"/>
              </a:rPr>
              <a:t>      </a:t>
            </a:r>
            <a:r>
              <a:rPr b="0" lang="ja-JP" sz="400" spc="-1" strike="noStrike">
                <a:solidFill>
                  <a:srgbClr val="535353"/>
                </a:solidFill>
                <a:latin typeface="游ゴシック"/>
                <a:ea typeface="游ゴシック"/>
              </a:rPr>
              <a:t>を抑えるというものではありません。適度な換気や室温設定と組合わせることで抑止効果を発揮します。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495" name="図 11" descr="ロゴ&#10;&#10;自動的に生成された説明"/>
          <p:cNvPicPr/>
          <p:nvPr/>
        </p:nvPicPr>
        <p:blipFill>
          <a:blip r:embed="rId37"/>
          <a:stretch/>
        </p:blipFill>
        <p:spPr>
          <a:xfrm>
            <a:off x="144360" y="954000"/>
            <a:ext cx="720720" cy="952560"/>
          </a:xfrm>
          <a:prstGeom prst="rect">
            <a:avLst/>
          </a:prstGeom>
          <a:ln w="0">
            <a:noFill/>
          </a:ln>
        </p:spPr>
      </p:pic>
      <p:sp>
        <p:nvSpPr>
          <p:cNvPr id="496" name="テキスト ボックス 174"/>
          <p:cNvSpPr/>
          <p:nvPr/>
        </p:nvSpPr>
        <p:spPr>
          <a:xfrm>
            <a:off x="90360" y="1924200"/>
            <a:ext cx="90036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※</a:t>
            </a:r>
            <a:r>
              <a:rPr b="0" lang="en-US" sz="3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2023</a:t>
            </a:r>
            <a:r>
              <a:rPr b="0" lang="ja-JP" sz="3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年・</a:t>
            </a:r>
            <a:r>
              <a:rPr b="0" lang="en-US" sz="3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2024</a:t>
            </a:r>
            <a:r>
              <a:rPr b="0" lang="ja-JP" sz="3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年度「先進的窓リノベ事業」の申請件数。</a:t>
            </a:r>
            <a:r>
              <a:rPr b="0" lang="en-US" sz="3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LIXIL</a:t>
            </a:r>
            <a:r>
              <a:rPr b="0" lang="ja-JP" sz="3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調べ</a:t>
            </a:r>
            <a:endParaRPr b="0" lang="en-US" sz="3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object 2"/>
          <p:cNvSpPr/>
          <p:nvPr/>
        </p:nvSpPr>
        <p:spPr>
          <a:xfrm>
            <a:off x="230040" y="3822840"/>
            <a:ext cx="5046840" cy="3157560"/>
          </a:xfrm>
          <a:custGeom>
            <a:avLst/>
            <a:gdLst/>
            <a:ahLst/>
            <a:rect l="l" t="t" r="r" b="b"/>
            <a:pathLst>
              <a:path w="6408420" h="5076190">
                <a:moveTo>
                  <a:pt x="6408000" y="0"/>
                </a:moveTo>
                <a:lnTo>
                  <a:pt x="0" y="0"/>
                </a:lnTo>
                <a:lnTo>
                  <a:pt x="0" y="5075999"/>
                </a:lnTo>
                <a:lnTo>
                  <a:pt x="6408000" y="5075999"/>
                </a:lnTo>
                <a:lnTo>
                  <a:pt x="6408000" y="0"/>
                </a:lnTo>
                <a:close/>
              </a:path>
            </a:pathLst>
          </a:custGeom>
          <a:solidFill>
            <a:srgbClr val="f9f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8" name="object 4"/>
          <p:cNvSpPr/>
          <p:nvPr/>
        </p:nvSpPr>
        <p:spPr>
          <a:xfrm>
            <a:off x="357120" y="4327560"/>
            <a:ext cx="4821480" cy="2544840"/>
          </a:xfrm>
          <a:custGeom>
            <a:avLst/>
            <a:gdLst/>
            <a:ahLst/>
            <a:rect l="l" t="t" r="r" b="b"/>
            <a:pathLst>
              <a:path w="6120130" h="4284345">
                <a:moveTo>
                  <a:pt x="6120002" y="0"/>
                </a:moveTo>
                <a:lnTo>
                  <a:pt x="0" y="0"/>
                </a:lnTo>
                <a:lnTo>
                  <a:pt x="0" y="4283989"/>
                </a:lnTo>
                <a:lnTo>
                  <a:pt x="6120002" y="4283989"/>
                </a:lnTo>
                <a:lnTo>
                  <a:pt x="612000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499" name="図 23" descr="屋内, 座る, 鏡, 空 が含まれている画像&#10;&#10;自動的に生成された説明"/>
          <p:cNvPicPr/>
          <p:nvPr/>
        </p:nvPicPr>
        <p:blipFill>
          <a:blip r:embed="rId1"/>
          <a:srcRect l="16254" t="50549" r="13992" b="13079"/>
          <a:stretch/>
        </p:blipFill>
        <p:spPr>
          <a:xfrm>
            <a:off x="430200" y="4375080"/>
            <a:ext cx="2308320" cy="1505160"/>
          </a:xfrm>
          <a:prstGeom prst="rect">
            <a:avLst/>
          </a:prstGeom>
          <a:ln w="0">
            <a:noFill/>
          </a:ln>
        </p:spPr>
      </p:pic>
      <p:sp>
        <p:nvSpPr>
          <p:cNvPr id="500" name="object 2"/>
          <p:cNvSpPr/>
          <p:nvPr/>
        </p:nvSpPr>
        <p:spPr>
          <a:xfrm>
            <a:off x="5378400" y="3821040"/>
            <a:ext cx="5041800" cy="3152880"/>
          </a:xfrm>
          <a:custGeom>
            <a:avLst/>
            <a:gdLst/>
            <a:ahLst/>
            <a:rect l="l" t="t" r="r" b="b"/>
            <a:pathLst>
              <a:path w="6408420" h="5076190">
                <a:moveTo>
                  <a:pt x="6408000" y="0"/>
                </a:moveTo>
                <a:lnTo>
                  <a:pt x="0" y="0"/>
                </a:lnTo>
                <a:lnTo>
                  <a:pt x="0" y="5075999"/>
                </a:lnTo>
                <a:lnTo>
                  <a:pt x="6408000" y="5075999"/>
                </a:lnTo>
                <a:lnTo>
                  <a:pt x="6408000" y="0"/>
                </a:lnTo>
                <a:close/>
              </a:path>
            </a:pathLst>
          </a:custGeom>
          <a:solidFill>
            <a:srgbClr val="f8e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1" name="object 4"/>
          <p:cNvSpPr/>
          <p:nvPr/>
        </p:nvSpPr>
        <p:spPr>
          <a:xfrm>
            <a:off x="5477040" y="4308480"/>
            <a:ext cx="4851360" cy="2563920"/>
          </a:xfrm>
          <a:custGeom>
            <a:avLst/>
            <a:gdLst/>
            <a:ahLst/>
            <a:rect l="l" t="t" r="r" b="b"/>
            <a:pathLst>
              <a:path w="6120130" h="4284345">
                <a:moveTo>
                  <a:pt x="6120002" y="0"/>
                </a:moveTo>
                <a:lnTo>
                  <a:pt x="0" y="0"/>
                </a:lnTo>
                <a:lnTo>
                  <a:pt x="0" y="4283989"/>
                </a:lnTo>
                <a:lnTo>
                  <a:pt x="6120002" y="4283989"/>
                </a:lnTo>
                <a:lnTo>
                  <a:pt x="612000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502" name="図 11" descr=""/>
          <p:cNvPicPr/>
          <p:nvPr/>
        </p:nvPicPr>
        <p:blipFill>
          <a:blip r:embed="rId2"/>
          <a:srcRect l="19917" t="56742" r="9864" b="6818"/>
          <a:stretch/>
        </p:blipFill>
        <p:spPr>
          <a:xfrm>
            <a:off x="5589720" y="4379760"/>
            <a:ext cx="2261880" cy="1467000"/>
          </a:xfrm>
          <a:prstGeom prst="rect">
            <a:avLst/>
          </a:prstGeom>
          <a:ln w="0">
            <a:noFill/>
          </a:ln>
        </p:spPr>
      </p:pic>
      <p:grpSp>
        <p:nvGrpSpPr>
          <p:cNvPr id="503" name="グループ化 5"/>
          <p:cNvGrpSpPr/>
          <p:nvPr/>
        </p:nvGrpSpPr>
        <p:grpSpPr>
          <a:xfrm>
            <a:off x="5611680" y="6143760"/>
            <a:ext cx="2239920" cy="650880"/>
            <a:chOff x="5611680" y="6143760"/>
            <a:chExt cx="2239920" cy="650880"/>
          </a:xfrm>
        </p:grpSpPr>
        <p:sp>
          <p:nvSpPr>
            <p:cNvPr id="504" name="object 120"/>
            <p:cNvSpPr/>
            <p:nvPr/>
          </p:nvSpPr>
          <p:spPr>
            <a:xfrm>
              <a:off x="5611680" y="6151680"/>
              <a:ext cx="2239920" cy="592560"/>
            </a:xfrm>
            <a:custGeom>
              <a:avLst/>
              <a:gdLst/>
              <a:ahLst/>
              <a:rect l="l" t="t" r="r" b="b"/>
              <a:pathLst>
                <a:path w="2664460" h="1044575">
                  <a:moveTo>
                    <a:pt x="2664002" y="0"/>
                  </a:moveTo>
                  <a:lnTo>
                    <a:pt x="0" y="0"/>
                  </a:lnTo>
                  <a:lnTo>
                    <a:pt x="0" y="1044003"/>
                  </a:lnTo>
                  <a:lnTo>
                    <a:pt x="2664002" y="1044003"/>
                  </a:lnTo>
                  <a:lnTo>
                    <a:pt x="2664002" y="0"/>
                  </a:lnTo>
                  <a:close/>
                </a:path>
              </a:pathLst>
            </a:custGeom>
            <a:solidFill>
              <a:srgbClr val="f8e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505" name="object 166"/>
            <p:cNvSpPr/>
            <p:nvPr/>
          </p:nvSpPr>
          <p:spPr>
            <a:xfrm>
              <a:off x="6092640" y="6143760"/>
              <a:ext cx="1263600" cy="650880"/>
            </a:xfrm>
            <a:custGeom>
              <a:avLst/>
              <a:gdLst/>
              <a:ahLst/>
              <a:rect l="l" t="t" r="r" b="b"/>
              <a:pathLst>
                <a:path w="1434464" h="1044575">
                  <a:moveTo>
                    <a:pt x="198005" y="521995"/>
                  </a:moveTo>
                  <a:lnTo>
                    <a:pt x="54000" y="0"/>
                  </a:lnTo>
                  <a:lnTo>
                    <a:pt x="0" y="0"/>
                  </a:lnTo>
                  <a:lnTo>
                    <a:pt x="144005" y="521982"/>
                  </a:lnTo>
                  <a:lnTo>
                    <a:pt x="0" y="1044003"/>
                  </a:lnTo>
                  <a:lnTo>
                    <a:pt x="54000" y="1044003"/>
                  </a:lnTo>
                  <a:lnTo>
                    <a:pt x="198005" y="521995"/>
                  </a:lnTo>
                  <a:close/>
                </a:path>
                <a:path w="1434464" h="1044575">
                  <a:moveTo>
                    <a:pt x="816000" y="521995"/>
                  </a:moveTo>
                  <a:lnTo>
                    <a:pt x="671995" y="0"/>
                  </a:lnTo>
                  <a:lnTo>
                    <a:pt x="617994" y="0"/>
                  </a:lnTo>
                  <a:lnTo>
                    <a:pt x="762000" y="521982"/>
                  </a:lnTo>
                  <a:lnTo>
                    <a:pt x="617994" y="1044003"/>
                  </a:lnTo>
                  <a:lnTo>
                    <a:pt x="671995" y="1044003"/>
                  </a:lnTo>
                  <a:lnTo>
                    <a:pt x="816000" y="521995"/>
                  </a:lnTo>
                  <a:close/>
                </a:path>
                <a:path w="1434464" h="1044575">
                  <a:moveTo>
                    <a:pt x="1433995" y="521995"/>
                  </a:moveTo>
                  <a:lnTo>
                    <a:pt x="1289989" y="0"/>
                  </a:lnTo>
                  <a:lnTo>
                    <a:pt x="1235989" y="0"/>
                  </a:lnTo>
                  <a:lnTo>
                    <a:pt x="1379994" y="521982"/>
                  </a:lnTo>
                  <a:lnTo>
                    <a:pt x="1235989" y="1044003"/>
                  </a:lnTo>
                  <a:lnTo>
                    <a:pt x="1289989" y="1044003"/>
                  </a:lnTo>
                  <a:lnTo>
                    <a:pt x="1433995" y="5219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506" name="テキスト ボックス 444"/>
            <p:cNvSpPr/>
            <p:nvPr/>
          </p:nvSpPr>
          <p:spPr>
            <a:xfrm>
              <a:off x="5667120" y="6176880"/>
              <a:ext cx="399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500" spc="-1" strike="noStrike">
                  <a:solidFill>
                    <a:srgbClr val="000000"/>
                  </a:solidFill>
                  <a:latin typeface="游ゴシック"/>
                  <a:ea typeface="游ゴシック"/>
                </a:rPr>
                <a:t>❶ </a:t>
              </a:r>
              <a:r>
                <a:rPr b="1" lang="ja-JP" sz="500" spc="-1" strike="noStrike">
                  <a:solidFill>
                    <a:srgbClr val="000000"/>
                  </a:solidFill>
                  <a:latin typeface="游ゴシック"/>
                  <a:ea typeface="游ゴシック"/>
                </a:rPr>
                <a:t>外壁を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500" spc="-1" strike="noStrike">
                  <a:solidFill>
                    <a:srgbClr val="000000"/>
                  </a:solidFill>
                  <a:latin typeface="游ゴシック"/>
                  <a:ea typeface="游ゴシック"/>
                </a:rPr>
                <a:t>     </a:t>
              </a:r>
              <a:r>
                <a:rPr b="1" lang="ja-JP" sz="500" spc="-1" strike="noStrike">
                  <a:solidFill>
                    <a:srgbClr val="000000"/>
                  </a:solidFill>
                  <a:latin typeface="游ゴシック"/>
                  <a:ea typeface="游ゴシック"/>
                </a:rPr>
                <a:t>カットする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507" name="テキスト ボックス 445"/>
            <p:cNvSpPr/>
            <p:nvPr/>
          </p:nvSpPr>
          <p:spPr>
            <a:xfrm>
              <a:off x="6246720" y="6176880"/>
              <a:ext cx="425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500" spc="-1" strike="noStrike">
                  <a:solidFill>
                    <a:srgbClr val="000000"/>
                  </a:solidFill>
                  <a:latin typeface="游ゴシック"/>
                  <a:ea typeface="游ゴシック"/>
                </a:rPr>
                <a:t>❷ </a:t>
              </a:r>
              <a:r>
                <a:rPr b="1" lang="ja-JP" sz="500" spc="-1" strike="noStrike">
                  <a:solidFill>
                    <a:srgbClr val="000000"/>
                  </a:solidFill>
                  <a:latin typeface="游ゴシック"/>
                  <a:ea typeface="游ゴシック"/>
                </a:rPr>
                <a:t>窓を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500" spc="-1" strike="noStrike">
                  <a:solidFill>
                    <a:srgbClr val="000000"/>
                  </a:solidFill>
                  <a:latin typeface="游ゴシック"/>
                  <a:ea typeface="游ゴシック"/>
                </a:rPr>
                <a:t>     </a:t>
              </a:r>
              <a:r>
                <a:rPr b="1" lang="ja-JP" sz="500" spc="-1" strike="noStrike">
                  <a:solidFill>
                    <a:srgbClr val="000000"/>
                  </a:solidFill>
                  <a:latin typeface="游ゴシック"/>
                  <a:ea typeface="游ゴシック"/>
                </a:rPr>
                <a:t>枠ごと外す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508" name="テキスト ボックス 446"/>
            <p:cNvSpPr/>
            <p:nvPr/>
          </p:nvSpPr>
          <p:spPr>
            <a:xfrm>
              <a:off x="6756120" y="6176880"/>
              <a:ext cx="4604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500" spc="-1" strike="noStrike">
                  <a:solidFill>
                    <a:srgbClr val="000000"/>
                  </a:solidFill>
                  <a:latin typeface="游ゴシック"/>
                  <a:ea typeface="游ゴシック"/>
                </a:rPr>
                <a:t>❸ </a:t>
              </a:r>
              <a:r>
                <a:rPr b="1" lang="ja-JP" sz="500" spc="-1" strike="noStrike">
                  <a:solidFill>
                    <a:srgbClr val="000000"/>
                  </a:solidFill>
                  <a:latin typeface="游ゴシック"/>
                  <a:ea typeface="游ゴシック"/>
                </a:rPr>
                <a:t>新しい窓を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500" spc="-1" strike="noStrike">
                  <a:solidFill>
                    <a:srgbClr val="000000"/>
                  </a:solidFill>
                  <a:latin typeface="游ゴシック"/>
                  <a:ea typeface="游ゴシック"/>
                </a:rPr>
                <a:t>     </a:t>
              </a:r>
              <a:r>
                <a:rPr b="1" lang="ja-JP" sz="500" spc="-1" strike="noStrike">
                  <a:solidFill>
                    <a:srgbClr val="000000"/>
                  </a:solidFill>
                  <a:latin typeface="游ゴシック"/>
                  <a:ea typeface="游ゴシック"/>
                </a:rPr>
                <a:t>取付ける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grpSp>
          <p:nvGrpSpPr>
            <p:cNvPr id="509" name="グループ化 25"/>
            <p:cNvGrpSpPr/>
            <p:nvPr/>
          </p:nvGrpSpPr>
          <p:grpSpPr>
            <a:xfrm>
              <a:off x="5738040" y="6363720"/>
              <a:ext cx="338400" cy="336240"/>
              <a:chOff x="5738040" y="6363720"/>
              <a:chExt cx="338400" cy="336240"/>
            </a:xfrm>
          </p:grpSpPr>
          <p:sp>
            <p:nvSpPr>
              <p:cNvPr id="510" name="object 12"/>
              <p:cNvSpPr/>
              <p:nvPr/>
            </p:nvSpPr>
            <p:spPr>
              <a:xfrm>
                <a:off x="5738040" y="6363720"/>
                <a:ext cx="236880" cy="336240"/>
              </a:xfrm>
              <a:custGeom>
                <a:avLst/>
                <a:gdLst/>
                <a:ahLst/>
                <a:rect l="l" t="t" r="r" b="b"/>
                <a:pathLst>
                  <a:path w="381000" h="541654">
                    <a:moveTo>
                      <a:pt x="0" y="0"/>
                    </a:moveTo>
                    <a:lnTo>
                      <a:pt x="0" y="541426"/>
                    </a:lnTo>
                    <a:lnTo>
                      <a:pt x="380695" y="417233"/>
                    </a:lnTo>
                    <a:lnTo>
                      <a:pt x="380695" y="44957"/>
                    </a:lnTo>
                    <a:lnTo>
                      <a:pt x="10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pic>
            <p:nvPicPr>
              <p:cNvPr id="511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4320" y="6516360"/>
                <a:ext cx="84240" cy="8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object 14"/>
              <p:cNvSpPr/>
              <p:nvPr/>
            </p:nvSpPr>
            <p:spPr>
              <a:xfrm>
                <a:off x="5970600" y="6542280"/>
                <a:ext cx="105840" cy="35640"/>
              </a:xfrm>
              <a:custGeom>
                <a:avLst/>
                <a:gdLst/>
                <a:ahLst/>
                <a:rect l="l" t="t" r="r" b="b"/>
                <a:pathLst>
                  <a:path w="170180" h="57784">
                    <a:moveTo>
                      <a:pt x="141528" y="0"/>
                    </a:moveTo>
                    <a:lnTo>
                      <a:pt x="28587" y="0"/>
                    </a:lnTo>
                    <a:lnTo>
                      <a:pt x="17461" y="2246"/>
                    </a:lnTo>
                    <a:lnTo>
                      <a:pt x="8374" y="8374"/>
                    </a:lnTo>
                    <a:lnTo>
                      <a:pt x="2246" y="17461"/>
                    </a:lnTo>
                    <a:lnTo>
                      <a:pt x="0" y="28587"/>
                    </a:lnTo>
                    <a:lnTo>
                      <a:pt x="2246" y="39714"/>
                    </a:lnTo>
                    <a:lnTo>
                      <a:pt x="8374" y="48801"/>
                    </a:lnTo>
                    <a:lnTo>
                      <a:pt x="17461" y="54928"/>
                    </a:lnTo>
                    <a:lnTo>
                      <a:pt x="28587" y="57175"/>
                    </a:lnTo>
                    <a:lnTo>
                      <a:pt x="141528" y="57175"/>
                    </a:lnTo>
                    <a:lnTo>
                      <a:pt x="152655" y="54928"/>
                    </a:lnTo>
                    <a:lnTo>
                      <a:pt x="161742" y="48801"/>
                    </a:lnTo>
                    <a:lnTo>
                      <a:pt x="133324" y="48717"/>
                    </a:lnTo>
                    <a:lnTo>
                      <a:pt x="133324" y="8458"/>
                    </a:lnTo>
                    <a:lnTo>
                      <a:pt x="161799" y="8458"/>
                    </a:lnTo>
                    <a:lnTo>
                      <a:pt x="152655" y="2246"/>
                    </a:lnTo>
                    <a:lnTo>
                      <a:pt x="141528" y="0"/>
                    </a:lnTo>
                    <a:close/>
                  </a:path>
                  <a:path w="170180" h="57784">
                    <a:moveTo>
                      <a:pt x="161799" y="8458"/>
                    </a:moveTo>
                    <a:lnTo>
                      <a:pt x="141528" y="8458"/>
                    </a:lnTo>
                    <a:lnTo>
                      <a:pt x="149356" y="10042"/>
                    </a:lnTo>
                    <a:lnTo>
                      <a:pt x="155755" y="14360"/>
                    </a:lnTo>
                    <a:lnTo>
                      <a:pt x="160073" y="20759"/>
                    </a:lnTo>
                    <a:lnTo>
                      <a:pt x="161658" y="28587"/>
                    </a:lnTo>
                    <a:lnTo>
                      <a:pt x="160073" y="36415"/>
                    </a:lnTo>
                    <a:lnTo>
                      <a:pt x="155755" y="42814"/>
                    </a:lnTo>
                    <a:lnTo>
                      <a:pt x="149356" y="47132"/>
                    </a:lnTo>
                    <a:lnTo>
                      <a:pt x="141528" y="48717"/>
                    </a:lnTo>
                    <a:lnTo>
                      <a:pt x="161799" y="48717"/>
                    </a:lnTo>
                    <a:lnTo>
                      <a:pt x="167869" y="39714"/>
                    </a:lnTo>
                    <a:lnTo>
                      <a:pt x="170116" y="28587"/>
                    </a:lnTo>
                    <a:lnTo>
                      <a:pt x="167869" y="17461"/>
                    </a:lnTo>
                    <a:lnTo>
                      <a:pt x="161799" y="8458"/>
                    </a:lnTo>
                    <a:close/>
                  </a:path>
                </a:pathLst>
              </a:custGeom>
              <a:solidFill>
                <a:srgbClr val="9cad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13" name="object 15"/>
              <p:cNvSpPr/>
              <p:nvPr/>
            </p:nvSpPr>
            <p:spPr>
              <a:xfrm>
                <a:off x="5979600" y="65523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27305" h="27304">
                    <a:moveTo>
                      <a:pt x="20840" y="0"/>
                    </a:moveTo>
                    <a:lnTo>
                      <a:pt x="6019" y="0"/>
                    </a:lnTo>
                    <a:lnTo>
                      <a:pt x="0" y="6019"/>
                    </a:lnTo>
                    <a:lnTo>
                      <a:pt x="0" y="20853"/>
                    </a:lnTo>
                    <a:lnTo>
                      <a:pt x="6019" y="26860"/>
                    </a:lnTo>
                    <a:lnTo>
                      <a:pt x="20840" y="26860"/>
                    </a:lnTo>
                    <a:lnTo>
                      <a:pt x="26860" y="20853"/>
                    </a:lnTo>
                    <a:lnTo>
                      <a:pt x="26860" y="13436"/>
                    </a:lnTo>
                    <a:lnTo>
                      <a:pt x="26860" y="6019"/>
                    </a:lnTo>
                    <a:lnTo>
                      <a:pt x="208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14" name="object 16"/>
              <p:cNvSpPr/>
              <p:nvPr/>
            </p:nvSpPr>
            <p:spPr>
              <a:xfrm>
                <a:off x="5961600" y="6592320"/>
                <a:ext cx="57600" cy="12960"/>
              </a:xfrm>
              <a:custGeom>
                <a:avLst/>
                <a:gdLst/>
                <a:ahLst/>
                <a:rect l="l" t="t" r="r" b="b"/>
                <a:pathLst>
                  <a:path w="92709" h="20954">
                    <a:moveTo>
                      <a:pt x="0" y="9359"/>
                    </a:moveTo>
                    <a:lnTo>
                      <a:pt x="9095" y="14223"/>
                    </a:lnTo>
                    <a:lnTo>
                      <a:pt x="18878" y="17829"/>
                    </a:lnTo>
                    <a:lnTo>
                      <a:pt x="29242" y="20070"/>
                    </a:lnTo>
                    <a:lnTo>
                      <a:pt x="40081" y="20840"/>
                    </a:lnTo>
                    <a:lnTo>
                      <a:pt x="54841" y="19400"/>
                    </a:lnTo>
                    <a:lnTo>
                      <a:pt x="68632" y="15263"/>
                    </a:lnTo>
                    <a:lnTo>
                      <a:pt x="81177" y="8705"/>
                    </a:lnTo>
                    <a:lnTo>
                      <a:pt x="92202" y="0"/>
                    </a:lnTo>
                  </a:path>
                </a:pathLst>
              </a:custGeom>
              <a:noFill/>
              <a:ln w="3240">
                <a:solidFill>
                  <a:srgbClr val="6161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15" name="object 17"/>
              <p:cNvSpPr/>
              <p:nvPr/>
            </p:nvSpPr>
            <p:spPr>
              <a:xfrm>
                <a:off x="5968080" y="6511320"/>
                <a:ext cx="55440" cy="17640"/>
              </a:xfrm>
              <a:custGeom>
                <a:avLst/>
                <a:gdLst/>
                <a:ahLst/>
                <a:rect l="l" t="t" r="r" b="b"/>
                <a:pathLst>
                  <a:path w="88900" h="28575">
                    <a:moveTo>
                      <a:pt x="88646" y="28460"/>
                    </a:moveTo>
                    <a:lnTo>
                      <a:pt x="76930" y="16694"/>
                    </a:lnTo>
                    <a:lnTo>
                      <a:pt x="62869" y="7724"/>
                    </a:lnTo>
                    <a:lnTo>
                      <a:pt x="46921" y="2007"/>
                    </a:lnTo>
                    <a:lnTo>
                      <a:pt x="29540" y="0"/>
                    </a:lnTo>
                    <a:lnTo>
                      <a:pt x="21781" y="393"/>
                    </a:lnTo>
                    <a:lnTo>
                      <a:pt x="14246" y="1549"/>
                    </a:lnTo>
                    <a:lnTo>
                      <a:pt x="6973" y="3428"/>
                    </a:lnTo>
                    <a:lnTo>
                      <a:pt x="0" y="5994"/>
                    </a:lnTo>
                  </a:path>
                </a:pathLst>
              </a:custGeom>
              <a:noFill/>
              <a:ln w="3240">
                <a:solidFill>
                  <a:srgbClr val="6161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16" name="object 18"/>
              <p:cNvSpPr/>
              <p:nvPr/>
            </p:nvSpPr>
            <p:spPr>
              <a:xfrm>
                <a:off x="6017760" y="65239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11430" h="10159">
                    <a:moveTo>
                      <a:pt x="0" y="8343"/>
                    </a:moveTo>
                    <a:lnTo>
                      <a:pt x="9779" y="9778"/>
                    </a:lnTo>
                    <a:lnTo>
                      <a:pt x="11201" y="0"/>
                    </a:lnTo>
                  </a:path>
                </a:pathLst>
              </a:custGeom>
              <a:noFill/>
              <a:ln w="3240">
                <a:solidFill>
                  <a:srgbClr val="6161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17" name="object 19"/>
              <p:cNvSpPr/>
              <p:nvPr/>
            </p:nvSpPr>
            <p:spPr>
              <a:xfrm>
                <a:off x="5961600" y="659664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9525" h="12700">
                    <a:moveTo>
                      <a:pt x="9499" y="0"/>
                    </a:moveTo>
                    <a:lnTo>
                      <a:pt x="0" y="2705"/>
                    </a:lnTo>
                    <a:lnTo>
                      <a:pt x="2705" y="12204"/>
                    </a:lnTo>
                  </a:path>
                </a:pathLst>
              </a:custGeom>
              <a:noFill/>
              <a:ln w="3240">
                <a:solidFill>
                  <a:srgbClr val="6161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18" name="object 20"/>
              <p:cNvSpPr/>
              <p:nvPr/>
            </p:nvSpPr>
            <p:spPr>
              <a:xfrm>
                <a:off x="5770080" y="6414480"/>
                <a:ext cx="181800" cy="258480"/>
              </a:xfrm>
              <a:custGeom>
                <a:avLst/>
                <a:gdLst/>
                <a:ahLst/>
                <a:rect l="l" t="t" r="r" b="b"/>
                <a:pathLst>
                  <a:path w="291465" h="416559">
                    <a:moveTo>
                      <a:pt x="0" y="0"/>
                    </a:moveTo>
                    <a:lnTo>
                      <a:pt x="0" y="416344"/>
                    </a:lnTo>
                    <a:lnTo>
                      <a:pt x="291185" y="319760"/>
                    </a:lnTo>
                    <a:lnTo>
                      <a:pt x="291185" y="20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19" name="object 21"/>
              <p:cNvSpPr/>
              <p:nvPr/>
            </p:nvSpPr>
            <p:spPr>
              <a:xfrm>
                <a:off x="5770080" y="6414480"/>
                <a:ext cx="181800" cy="258480"/>
              </a:xfrm>
              <a:custGeom>
                <a:avLst/>
                <a:gdLst/>
                <a:ahLst/>
                <a:rect l="l" t="t" r="r" b="b"/>
                <a:pathLst>
                  <a:path w="291465" h="416559">
                    <a:moveTo>
                      <a:pt x="0" y="0"/>
                    </a:moveTo>
                    <a:lnTo>
                      <a:pt x="291185" y="20548"/>
                    </a:lnTo>
                    <a:lnTo>
                      <a:pt x="291185" y="319760"/>
                    </a:lnTo>
                    <a:lnTo>
                      <a:pt x="0" y="41634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4320">
                <a:solidFill>
                  <a:srgbClr val="8e8e9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20" name="object 22"/>
              <p:cNvSpPr/>
              <p:nvPr/>
            </p:nvSpPr>
            <p:spPr>
              <a:xfrm>
                <a:off x="5789520" y="6431040"/>
                <a:ext cx="147600" cy="219600"/>
              </a:xfrm>
              <a:custGeom>
                <a:avLst/>
                <a:gdLst/>
                <a:ahLst/>
                <a:rect l="l" t="t" r="r" b="b"/>
                <a:pathLst>
                  <a:path w="236855" h="353695">
                    <a:moveTo>
                      <a:pt x="0" y="0"/>
                    </a:moveTo>
                    <a:lnTo>
                      <a:pt x="266" y="117436"/>
                    </a:lnTo>
                    <a:lnTo>
                      <a:pt x="0" y="124193"/>
                    </a:lnTo>
                    <a:lnTo>
                      <a:pt x="0" y="353098"/>
                    </a:lnTo>
                    <a:lnTo>
                      <a:pt x="236804" y="273100"/>
                    </a:lnTo>
                    <a:lnTo>
                      <a:pt x="236804" y="170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21" name="object 23"/>
              <p:cNvSpPr/>
              <p:nvPr/>
            </p:nvSpPr>
            <p:spPr>
              <a:xfrm>
                <a:off x="5784480" y="6431760"/>
                <a:ext cx="147600" cy="219240"/>
              </a:xfrm>
              <a:custGeom>
                <a:avLst/>
                <a:gdLst/>
                <a:ahLst/>
                <a:rect l="l" t="t" r="r" b="b"/>
                <a:pathLst>
                  <a:path w="236855" h="353059">
                    <a:moveTo>
                      <a:pt x="236435" y="273367"/>
                    </a:moveTo>
                    <a:lnTo>
                      <a:pt x="0" y="352869"/>
                    </a:lnTo>
                    <a:lnTo>
                      <a:pt x="0" y="0"/>
                    </a:lnTo>
                    <a:lnTo>
                      <a:pt x="236435" y="16916"/>
                    </a:lnTo>
                    <a:lnTo>
                      <a:pt x="236435" y="273367"/>
                    </a:lnTo>
                    <a:close/>
                  </a:path>
                </a:pathLst>
              </a:custGeom>
              <a:noFill/>
              <a:ln w="15480">
                <a:solidFill>
                  <a:srgbClr val="a3a4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22" name="object 24"/>
              <p:cNvSpPr/>
              <p:nvPr/>
            </p:nvSpPr>
            <p:spPr>
              <a:xfrm>
                <a:off x="5869800" y="6437880"/>
                <a:ext cx="360" cy="184320"/>
              </a:xfrm>
              <a:custGeom>
                <a:avLst/>
                <a:gdLst/>
                <a:ahLst/>
                <a:rect l="l" t="t" r="r" b="b"/>
                <a:pathLst>
                  <a:path w="0" h="297179">
                    <a:moveTo>
                      <a:pt x="0" y="0"/>
                    </a:moveTo>
                    <a:lnTo>
                      <a:pt x="0" y="297027"/>
                    </a:lnTo>
                  </a:path>
                </a:pathLst>
              </a:custGeom>
              <a:noFill/>
              <a:ln w="15480">
                <a:solidFill>
                  <a:srgbClr val="a3a4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23" name="object 25"/>
              <p:cNvSpPr/>
              <p:nvPr/>
            </p:nvSpPr>
            <p:spPr>
              <a:xfrm>
                <a:off x="5784480" y="6426360"/>
                <a:ext cx="156960" cy="230400"/>
              </a:xfrm>
              <a:custGeom>
                <a:avLst/>
                <a:gdLst/>
                <a:ahLst/>
                <a:rect l="l" t="t" r="r" b="b"/>
                <a:pathLst>
                  <a:path w="252094" h="371475">
                    <a:moveTo>
                      <a:pt x="0" y="0"/>
                    </a:moveTo>
                    <a:lnTo>
                      <a:pt x="0" y="370967"/>
                    </a:lnTo>
                    <a:lnTo>
                      <a:pt x="64567" y="349326"/>
                    </a:lnTo>
                    <a:lnTo>
                      <a:pt x="15468" y="349326"/>
                    </a:lnTo>
                    <a:lnTo>
                      <a:pt x="15468" y="16764"/>
                    </a:lnTo>
                    <a:lnTo>
                      <a:pt x="235158" y="16764"/>
                    </a:lnTo>
                    <a:lnTo>
                      <a:pt x="0" y="0"/>
                    </a:lnTo>
                    <a:close/>
                  </a:path>
                  <a:path w="252094" h="371475">
                    <a:moveTo>
                      <a:pt x="235158" y="16764"/>
                    </a:moveTo>
                    <a:lnTo>
                      <a:pt x="15468" y="16764"/>
                    </a:lnTo>
                    <a:lnTo>
                      <a:pt x="136918" y="25425"/>
                    </a:lnTo>
                    <a:lnTo>
                      <a:pt x="136918" y="308610"/>
                    </a:lnTo>
                    <a:lnTo>
                      <a:pt x="15468" y="349326"/>
                    </a:lnTo>
                    <a:lnTo>
                      <a:pt x="64567" y="349326"/>
                    </a:lnTo>
                    <a:lnTo>
                      <a:pt x="201508" y="303428"/>
                    </a:lnTo>
                    <a:lnTo>
                      <a:pt x="152387" y="303428"/>
                    </a:lnTo>
                    <a:lnTo>
                      <a:pt x="152387" y="26530"/>
                    </a:lnTo>
                    <a:lnTo>
                      <a:pt x="251904" y="26530"/>
                    </a:lnTo>
                    <a:lnTo>
                      <a:pt x="251904" y="17957"/>
                    </a:lnTo>
                    <a:lnTo>
                      <a:pt x="235158" y="16764"/>
                    </a:lnTo>
                    <a:close/>
                  </a:path>
                  <a:path w="252094" h="371475">
                    <a:moveTo>
                      <a:pt x="251904" y="26530"/>
                    </a:moveTo>
                    <a:lnTo>
                      <a:pt x="152387" y="26530"/>
                    </a:lnTo>
                    <a:lnTo>
                      <a:pt x="236435" y="32524"/>
                    </a:lnTo>
                    <a:lnTo>
                      <a:pt x="236435" y="275259"/>
                    </a:lnTo>
                    <a:lnTo>
                      <a:pt x="152387" y="303428"/>
                    </a:lnTo>
                    <a:lnTo>
                      <a:pt x="201508" y="303428"/>
                    </a:lnTo>
                    <a:lnTo>
                      <a:pt x="251904" y="286537"/>
                    </a:lnTo>
                    <a:lnTo>
                      <a:pt x="251904" y="26530"/>
                    </a:lnTo>
                    <a:close/>
                  </a:path>
                </a:pathLst>
              </a:custGeom>
              <a:solidFill>
                <a:srgbClr val="64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</p:grpSp>
        <p:grpSp>
          <p:nvGrpSpPr>
            <p:cNvPr id="524" name="グループ化 26"/>
            <p:cNvGrpSpPr/>
            <p:nvPr/>
          </p:nvGrpSpPr>
          <p:grpSpPr>
            <a:xfrm>
              <a:off x="6352920" y="6363720"/>
              <a:ext cx="262800" cy="336240"/>
              <a:chOff x="6352920" y="6363720"/>
              <a:chExt cx="262800" cy="336240"/>
            </a:xfrm>
          </p:grpSpPr>
          <p:sp>
            <p:nvSpPr>
              <p:cNvPr id="525" name="object 26"/>
              <p:cNvSpPr/>
              <p:nvPr/>
            </p:nvSpPr>
            <p:spPr>
              <a:xfrm>
                <a:off x="6357960" y="6399000"/>
                <a:ext cx="146880" cy="219600"/>
              </a:xfrm>
              <a:custGeom>
                <a:avLst/>
                <a:gdLst/>
                <a:ahLst/>
                <a:rect l="l" t="t" r="r" b="b"/>
                <a:pathLst>
                  <a:path w="236855" h="353695">
                    <a:moveTo>
                      <a:pt x="0" y="0"/>
                    </a:moveTo>
                    <a:lnTo>
                      <a:pt x="266" y="117436"/>
                    </a:lnTo>
                    <a:lnTo>
                      <a:pt x="0" y="124193"/>
                    </a:lnTo>
                    <a:lnTo>
                      <a:pt x="0" y="353098"/>
                    </a:lnTo>
                    <a:lnTo>
                      <a:pt x="236804" y="273100"/>
                    </a:lnTo>
                    <a:lnTo>
                      <a:pt x="236804" y="170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26" name="object 27"/>
              <p:cNvSpPr/>
              <p:nvPr/>
            </p:nvSpPr>
            <p:spPr>
              <a:xfrm>
                <a:off x="6352920" y="6400080"/>
                <a:ext cx="146880" cy="219240"/>
              </a:xfrm>
              <a:custGeom>
                <a:avLst/>
                <a:gdLst/>
                <a:ahLst/>
                <a:rect l="l" t="t" r="r" b="b"/>
                <a:pathLst>
                  <a:path w="236855" h="353059">
                    <a:moveTo>
                      <a:pt x="236435" y="273354"/>
                    </a:moveTo>
                    <a:lnTo>
                      <a:pt x="0" y="352856"/>
                    </a:lnTo>
                    <a:lnTo>
                      <a:pt x="0" y="0"/>
                    </a:lnTo>
                    <a:lnTo>
                      <a:pt x="236435" y="16903"/>
                    </a:lnTo>
                    <a:lnTo>
                      <a:pt x="236435" y="273354"/>
                    </a:lnTo>
                    <a:close/>
                  </a:path>
                </a:pathLst>
              </a:custGeom>
              <a:noFill/>
              <a:ln w="15480">
                <a:solidFill>
                  <a:srgbClr val="a3a4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27" name="object 28"/>
              <p:cNvSpPr/>
              <p:nvPr/>
            </p:nvSpPr>
            <p:spPr>
              <a:xfrm>
                <a:off x="6437880" y="6406200"/>
                <a:ext cx="360" cy="184320"/>
              </a:xfrm>
              <a:custGeom>
                <a:avLst/>
                <a:gdLst/>
                <a:ahLst/>
                <a:rect l="l" t="t" r="r" b="b"/>
                <a:pathLst>
                  <a:path w="0" h="297179">
                    <a:moveTo>
                      <a:pt x="0" y="0"/>
                    </a:moveTo>
                    <a:lnTo>
                      <a:pt x="0" y="297027"/>
                    </a:lnTo>
                  </a:path>
                </a:pathLst>
              </a:custGeom>
              <a:noFill/>
              <a:ln w="15480">
                <a:solidFill>
                  <a:srgbClr val="a3a4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28" name="object 29"/>
              <p:cNvSpPr/>
              <p:nvPr/>
            </p:nvSpPr>
            <p:spPr>
              <a:xfrm>
                <a:off x="6352920" y="6394680"/>
                <a:ext cx="156240" cy="230400"/>
              </a:xfrm>
              <a:custGeom>
                <a:avLst/>
                <a:gdLst/>
                <a:ahLst/>
                <a:rect l="l" t="t" r="r" b="b"/>
                <a:pathLst>
                  <a:path w="252094" h="371475">
                    <a:moveTo>
                      <a:pt x="0" y="0"/>
                    </a:moveTo>
                    <a:lnTo>
                      <a:pt x="0" y="370966"/>
                    </a:lnTo>
                    <a:lnTo>
                      <a:pt x="64567" y="349326"/>
                    </a:lnTo>
                    <a:lnTo>
                      <a:pt x="15468" y="349326"/>
                    </a:lnTo>
                    <a:lnTo>
                      <a:pt x="15468" y="16763"/>
                    </a:lnTo>
                    <a:lnTo>
                      <a:pt x="235158" y="16763"/>
                    </a:lnTo>
                    <a:lnTo>
                      <a:pt x="0" y="0"/>
                    </a:lnTo>
                    <a:close/>
                  </a:path>
                  <a:path w="252094" h="371475">
                    <a:moveTo>
                      <a:pt x="235158" y="16763"/>
                    </a:moveTo>
                    <a:lnTo>
                      <a:pt x="15468" y="16763"/>
                    </a:lnTo>
                    <a:lnTo>
                      <a:pt x="136918" y="25425"/>
                    </a:lnTo>
                    <a:lnTo>
                      <a:pt x="136918" y="308609"/>
                    </a:lnTo>
                    <a:lnTo>
                      <a:pt x="15468" y="349326"/>
                    </a:lnTo>
                    <a:lnTo>
                      <a:pt x="64567" y="349326"/>
                    </a:lnTo>
                    <a:lnTo>
                      <a:pt x="201508" y="303428"/>
                    </a:lnTo>
                    <a:lnTo>
                      <a:pt x="152387" y="303428"/>
                    </a:lnTo>
                    <a:lnTo>
                      <a:pt x="152387" y="26530"/>
                    </a:lnTo>
                    <a:lnTo>
                      <a:pt x="251904" y="26530"/>
                    </a:lnTo>
                    <a:lnTo>
                      <a:pt x="251904" y="17957"/>
                    </a:lnTo>
                    <a:lnTo>
                      <a:pt x="235158" y="16763"/>
                    </a:lnTo>
                    <a:close/>
                  </a:path>
                  <a:path w="252094" h="371475">
                    <a:moveTo>
                      <a:pt x="251904" y="26530"/>
                    </a:moveTo>
                    <a:lnTo>
                      <a:pt x="152387" y="26530"/>
                    </a:lnTo>
                    <a:lnTo>
                      <a:pt x="236435" y="32524"/>
                    </a:lnTo>
                    <a:lnTo>
                      <a:pt x="236435" y="275259"/>
                    </a:lnTo>
                    <a:lnTo>
                      <a:pt x="152387" y="303428"/>
                    </a:lnTo>
                    <a:lnTo>
                      <a:pt x="201508" y="303428"/>
                    </a:lnTo>
                    <a:lnTo>
                      <a:pt x="251904" y="286537"/>
                    </a:lnTo>
                    <a:lnTo>
                      <a:pt x="251904" y="26530"/>
                    </a:lnTo>
                    <a:close/>
                  </a:path>
                </a:pathLst>
              </a:custGeom>
              <a:solidFill>
                <a:srgbClr val="64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29" name="object 30"/>
              <p:cNvSpPr/>
              <p:nvPr/>
            </p:nvSpPr>
            <p:spPr>
              <a:xfrm>
                <a:off x="6378120" y="6363720"/>
                <a:ext cx="237600" cy="336240"/>
              </a:xfrm>
              <a:custGeom>
                <a:avLst/>
                <a:gdLst/>
                <a:ahLst/>
                <a:rect l="l" t="t" r="r" b="b"/>
                <a:pathLst>
                  <a:path w="381000" h="541654">
                    <a:moveTo>
                      <a:pt x="0" y="0"/>
                    </a:moveTo>
                    <a:lnTo>
                      <a:pt x="0" y="541426"/>
                    </a:lnTo>
                    <a:lnTo>
                      <a:pt x="380695" y="417233"/>
                    </a:lnTo>
                    <a:lnTo>
                      <a:pt x="380695" y="44957"/>
                    </a:lnTo>
                    <a:lnTo>
                      <a:pt x="10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30" name="object 31"/>
              <p:cNvSpPr/>
              <p:nvPr/>
            </p:nvSpPr>
            <p:spPr>
              <a:xfrm>
                <a:off x="6426000" y="6430320"/>
                <a:ext cx="155880" cy="223200"/>
              </a:xfrm>
              <a:custGeom>
                <a:avLst/>
                <a:gdLst/>
                <a:ahLst/>
                <a:rect l="l" t="t" r="r" b="b"/>
                <a:pathLst>
                  <a:path w="251460" h="359409">
                    <a:moveTo>
                      <a:pt x="0" y="0"/>
                    </a:moveTo>
                    <a:lnTo>
                      <a:pt x="0" y="358876"/>
                    </a:lnTo>
                    <a:lnTo>
                      <a:pt x="250990" y="275628"/>
                    </a:lnTo>
                    <a:lnTo>
                      <a:pt x="250990" y="177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31" name="object 32"/>
              <p:cNvSpPr/>
              <p:nvPr/>
            </p:nvSpPr>
            <p:spPr>
              <a:xfrm>
                <a:off x="6426000" y="6430320"/>
                <a:ext cx="155880" cy="223200"/>
              </a:xfrm>
              <a:custGeom>
                <a:avLst/>
                <a:gdLst/>
                <a:ahLst/>
                <a:rect l="l" t="t" r="r" b="b"/>
                <a:pathLst>
                  <a:path w="251460" h="359409">
                    <a:moveTo>
                      <a:pt x="0" y="0"/>
                    </a:moveTo>
                    <a:lnTo>
                      <a:pt x="251002" y="17716"/>
                    </a:lnTo>
                    <a:lnTo>
                      <a:pt x="251002" y="275628"/>
                    </a:lnTo>
                    <a:lnTo>
                      <a:pt x="0" y="35887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600">
                <a:solidFill>
                  <a:srgbClr val="8e8e9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32" name="object 33"/>
              <p:cNvSpPr/>
              <p:nvPr/>
            </p:nvSpPr>
            <p:spPr>
              <a:xfrm>
                <a:off x="6369480" y="6462000"/>
                <a:ext cx="46080" cy="158760"/>
              </a:xfrm>
              <a:custGeom>
                <a:avLst/>
                <a:gdLst/>
                <a:ahLst/>
                <a:rect l="l" t="t" r="r" b="b"/>
                <a:pathLst>
                  <a:path w="74294" h="255904">
                    <a:moveTo>
                      <a:pt x="74244" y="226098"/>
                    </a:moveTo>
                    <a:lnTo>
                      <a:pt x="38328" y="226098"/>
                    </a:lnTo>
                    <a:lnTo>
                      <a:pt x="38328" y="211239"/>
                    </a:lnTo>
                    <a:lnTo>
                      <a:pt x="0" y="233375"/>
                    </a:lnTo>
                    <a:lnTo>
                      <a:pt x="38328" y="255498"/>
                    </a:lnTo>
                    <a:lnTo>
                      <a:pt x="38328" y="240614"/>
                    </a:lnTo>
                    <a:lnTo>
                      <a:pt x="74244" y="240614"/>
                    </a:lnTo>
                    <a:lnTo>
                      <a:pt x="74244" y="226098"/>
                    </a:lnTo>
                    <a:close/>
                  </a:path>
                  <a:path w="74294" h="255904">
                    <a:moveTo>
                      <a:pt x="74244" y="14871"/>
                    </a:moveTo>
                    <a:lnTo>
                      <a:pt x="38328" y="14871"/>
                    </a:lnTo>
                    <a:lnTo>
                      <a:pt x="38328" y="0"/>
                    </a:lnTo>
                    <a:lnTo>
                      <a:pt x="0" y="22136"/>
                    </a:lnTo>
                    <a:lnTo>
                      <a:pt x="38328" y="44259"/>
                    </a:lnTo>
                    <a:lnTo>
                      <a:pt x="38328" y="29387"/>
                    </a:lnTo>
                    <a:lnTo>
                      <a:pt x="74244" y="29387"/>
                    </a:lnTo>
                    <a:lnTo>
                      <a:pt x="74244" y="14871"/>
                    </a:lnTo>
                    <a:close/>
                  </a:path>
                </a:pathLst>
              </a:custGeom>
              <a:solidFill>
                <a:srgbClr val="91c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</p:grpSp>
        <p:grpSp>
          <p:nvGrpSpPr>
            <p:cNvPr id="533" name="グループ化 27"/>
            <p:cNvGrpSpPr/>
            <p:nvPr/>
          </p:nvGrpSpPr>
          <p:grpSpPr>
            <a:xfrm>
              <a:off x="6887880" y="6363720"/>
              <a:ext cx="262800" cy="336240"/>
              <a:chOff x="6887880" y="6363720"/>
              <a:chExt cx="262800" cy="336240"/>
            </a:xfrm>
          </p:grpSpPr>
          <p:sp>
            <p:nvSpPr>
              <p:cNvPr id="534" name="object 34"/>
              <p:cNvSpPr/>
              <p:nvPr/>
            </p:nvSpPr>
            <p:spPr>
              <a:xfrm>
                <a:off x="6894360" y="6404400"/>
                <a:ext cx="150120" cy="220680"/>
              </a:xfrm>
              <a:custGeom>
                <a:avLst/>
                <a:gdLst/>
                <a:ahLst/>
                <a:rect l="l" t="t" r="r" b="b"/>
                <a:pathLst>
                  <a:path w="241935" h="355600">
                    <a:moveTo>
                      <a:pt x="0" y="0"/>
                    </a:moveTo>
                    <a:lnTo>
                      <a:pt x="0" y="355257"/>
                    </a:lnTo>
                    <a:lnTo>
                      <a:pt x="241312" y="275221"/>
                    </a:lnTo>
                    <a:lnTo>
                      <a:pt x="241312" y="170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f1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35" name="object 35"/>
              <p:cNvSpPr/>
              <p:nvPr/>
            </p:nvSpPr>
            <p:spPr>
              <a:xfrm>
                <a:off x="6887880" y="6404400"/>
                <a:ext cx="149760" cy="220680"/>
              </a:xfrm>
              <a:custGeom>
                <a:avLst/>
                <a:gdLst/>
                <a:ahLst/>
                <a:rect l="l" t="t" r="r" b="b"/>
                <a:pathLst>
                  <a:path w="241300" h="355600">
                    <a:moveTo>
                      <a:pt x="241300" y="275221"/>
                    </a:moveTo>
                    <a:lnTo>
                      <a:pt x="0" y="355257"/>
                    </a:lnTo>
                    <a:lnTo>
                      <a:pt x="0" y="0"/>
                    </a:lnTo>
                    <a:lnTo>
                      <a:pt x="241300" y="17030"/>
                    </a:lnTo>
                    <a:lnTo>
                      <a:pt x="241300" y="275221"/>
                    </a:lnTo>
                    <a:close/>
                  </a:path>
                </a:pathLst>
              </a:custGeom>
              <a:noFill/>
              <a:ln w="25560">
                <a:solidFill>
                  <a:srgbClr val="a3a4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36" name="object 36"/>
              <p:cNvSpPr/>
              <p:nvPr/>
            </p:nvSpPr>
            <p:spPr>
              <a:xfrm>
                <a:off x="6966360" y="6410520"/>
                <a:ext cx="15840" cy="185400"/>
              </a:xfrm>
              <a:custGeom>
                <a:avLst/>
                <a:gdLst/>
                <a:ahLst/>
                <a:rect l="l" t="t" r="r" b="b"/>
                <a:pathLst>
                  <a:path w="26035" h="299084">
                    <a:moveTo>
                      <a:pt x="0" y="299046"/>
                    </a:moveTo>
                    <a:lnTo>
                      <a:pt x="25476" y="299046"/>
                    </a:lnTo>
                    <a:lnTo>
                      <a:pt x="25476" y="0"/>
                    </a:lnTo>
                    <a:lnTo>
                      <a:pt x="0" y="0"/>
                    </a:lnTo>
                    <a:lnTo>
                      <a:pt x="0" y="299046"/>
                    </a:lnTo>
                    <a:close/>
                  </a:path>
                </a:pathLst>
              </a:custGeom>
              <a:solidFill>
                <a:srgbClr val="a3a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37" name="object 37"/>
              <p:cNvSpPr/>
              <p:nvPr/>
            </p:nvSpPr>
            <p:spPr>
              <a:xfrm>
                <a:off x="6894360" y="6404400"/>
                <a:ext cx="150120" cy="220680"/>
              </a:xfrm>
              <a:custGeom>
                <a:avLst/>
                <a:gdLst/>
                <a:ahLst/>
                <a:rect l="l" t="t" r="r" b="b"/>
                <a:pathLst>
                  <a:path w="241935" h="355600">
                    <a:moveTo>
                      <a:pt x="241312" y="275221"/>
                    </a:moveTo>
                    <a:lnTo>
                      <a:pt x="0" y="355257"/>
                    </a:lnTo>
                    <a:lnTo>
                      <a:pt x="0" y="0"/>
                    </a:lnTo>
                    <a:lnTo>
                      <a:pt x="241312" y="17030"/>
                    </a:lnTo>
                    <a:lnTo>
                      <a:pt x="241312" y="275221"/>
                    </a:lnTo>
                    <a:close/>
                  </a:path>
                </a:pathLst>
              </a:custGeom>
              <a:noFill/>
              <a:ln w="12600">
                <a:solidFill>
                  <a:srgbClr val="dbdb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38" name="object 38"/>
              <p:cNvSpPr/>
              <p:nvPr/>
            </p:nvSpPr>
            <p:spPr>
              <a:xfrm>
                <a:off x="6973200" y="6410520"/>
                <a:ext cx="15840" cy="185400"/>
              </a:xfrm>
              <a:custGeom>
                <a:avLst/>
                <a:gdLst/>
                <a:ahLst/>
                <a:rect l="l" t="t" r="r" b="b"/>
                <a:pathLst>
                  <a:path w="26035" h="299084">
                    <a:moveTo>
                      <a:pt x="0" y="299046"/>
                    </a:moveTo>
                    <a:lnTo>
                      <a:pt x="25476" y="299046"/>
                    </a:lnTo>
                    <a:lnTo>
                      <a:pt x="25476" y="0"/>
                    </a:lnTo>
                    <a:lnTo>
                      <a:pt x="0" y="0"/>
                    </a:lnTo>
                    <a:lnTo>
                      <a:pt x="0" y="299046"/>
                    </a:lnTo>
                    <a:close/>
                  </a:path>
                </a:pathLst>
              </a:custGeom>
              <a:solidFill>
                <a:srgbClr val="dbd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39" name="object 39"/>
              <p:cNvSpPr/>
              <p:nvPr/>
            </p:nvSpPr>
            <p:spPr>
              <a:xfrm>
                <a:off x="6913080" y="6363720"/>
                <a:ext cx="237600" cy="336240"/>
              </a:xfrm>
              <a:custGeom>
                <a:avLst/>
                <a:gdLst/>
                <a:ahLst/>
                <a:rect l="l" t="t" r="r" b="b"/>
                <a:pathLst>
                  <a:path w="381000" h="541654">
                    <a:moveTo>
                      <a:pt x="0" y="0"/>
                    </a:moveTo>
                    <a:lnTo>
                      <a:pt x="0" y="541426"/>
                    </a:lnTo>
                    <a:lnTo>
                      <a:pt x="380695" y="417233"/>
                    </a:lnTo>
                    <a:lnTo>
                      <a:pt x="380695" y="44957"/>
                    </a:lnTo>
                    <a:lnTo>
                      <a:pt x="10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40" name="object 40"/>
              <p:cNvSpPr/>
              <p:nvPr/>
            </p:nvSpPr>
            <p:spPr>
              <a:xfrm>
                <a:off x="6960960" y="6430320"/>
                <a:ext cx="155880" cy="223200"/>
              </a:xfrm>
              <a:custGeom>
                <a:avLst/>
                <a:gdLst/>
                <a:ahLst/>
                <a:rect l="l" t="t" r="r" b="b"/>
                <a:pathLst>
                  <a:path w="251460" h="359409">
                    <a:moveTo>
                      <a:pt x="0" y="0"/>
                    </a:moveTo>
                    <a:lnTo>
                      <a:pt x="0" y="358876"/>
                    </a:lnTo>
                    <a:lnTo>
                      <a:pt x="250990" y="275628"/>
                    </a:lnTo>
                    <a:lnTo>
                      <a:pt x="250990" y="177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41" name="object 41"/>
              <p:cNvSpPr/>
              <p:nvPr/>
            </p:nvSpPr>
            <p:spPr>
              <a:xfrm>
                <a:off x="6960960" y="6430320"/>
                <a:ext cx="155880" cy="223200"/>
              </a:xfrm>
              <a:custGeom>
                <a:avLst/>
                <a:gdLst/>
                <a:ahLst/>
                <a:rect l="l" t="t" r="r" b="b"/>
                <a:pathLst>
                  <a:path w="251460" h="359409">
                    <a:moveTo>
                      <a:pt x="0" y="0"/>
                    </a:moveTo>
                    <a:lnTo>
                      <a:pt x="251002" y="17716"/>
                    </a:lnTo>
                    <a:lnTo>
                      <a:pt x="251002" y="275628"/>
                    </a:lnTo>
                    <a:lnTo>
                      <a:pt x="0" y="35887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600">
                <a:solidFill>
                  <a:srgbClr val="8e8e9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42" name="object 42"/>
              <p:cNvSpPr/>
              <p:nvPr/>
            </p:nvSpPr>
            <p:spPr>
              <a:xfrm>
                <a:off x="6904440" y="6462000"/>
                <a:ext cx="46080" cy="158760"/>
              </a:xfrm>
              <a:custGeom>
                <a:avLst/>
                <a:gdLst/>
                <a:ahLst/>
                <a:rect l="l" t="t" r="r" b="b"/>
                <a:pathLst>
                  <a:path w="74294" h="255904">
                    <a:moveTo>
                      <a:pt x="74231" y="233375"/>
                    </a:moveTo>
                    <a:lnTo>
                      <a:pt x="35902" y="211239"/>
                    </a:lnTo>
                    <a:lnTo>
                      <a:pt x="35902" y="226098"/>
                    </a:lnTo>
                    <a:lnTo>
                      <a:pt x="0" y="226098"/>
                    </a:lnTo>
                    <a:lnTo>
                      <a:pt x="0" y="240614"/>
                    </a:lnTo>
                    <a:lnTo>
                      <a:pt x="35902" y="240614"/>
                    </a:lnTo>
                    <a:lnTo>
                      <a:pt x="35902" y="255498"/>
                    </a:lnTo>
                    <a:lnTo>
                      <a:pt x="74231" y="233375"/>
                    </a:lnTo>
                    <a:close/>
                  </a:path>
                  <a:path w="74294" h="255904">
                    <a:moveTo>
                      <a:pt x="74231" y="22136"/>
                    </a:moveTo>
                    <a:lnTo>
                      <a:pt x="35902" y="0"/>
                    </a:lnTo>
                    <a:lnTo>
                      <a:pt x="35902" y="14871"/>
                    </a:lnTo>
                    <a:lnTo>
                      <a:pt x="0" y="14871"/>
                    </a:lnTo>
                    <a:lnTo>
                      <a:pt x="0" y="29387"/>
                    </a:lnTo>
                    <a:lnTo>
                      <a:pt x="35902" y="29387"/>
                    </a:lnTo>
                    <a:lnTo>
                      <a:pt x="35902" y="44259"/>
                    </a:lnTo>
                    <a:lnTo>
                      <a:pt x="74231" y="22136"/>
                    </a:lnTo>
                    <a:close/>
                  </a:path>
                </a:pathLst>
              </a:custGeom>
              <a:solidFill>
                <a:srgbClr val="91c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</p:grpSp>
        <p:grpSp>
          <p:nvGrpSpPr>
            <p:cNvPr id="543" name="グループ化 28"/>
            <p:cNvGrpSpPr/>
            <p:nvPr/>
          </p:nvGrpSpPr>
          <p:grpSpPr>
            <a:xfrm>
              <a:off x="7469280" y="6411240"/>
              <a:ext cx="278640" cy="293760"/>
              <a:chOff x="7469280" y="6411240"/>
              <a:chExt cx="278640" cy="293760"/>
            </a:xfrm>
          </p:grpSpPr>
          <p:sp>
            <p:nvSpPr>
              <p:cNvPr id="544" name="object 43"/>
              <p:cNvSpPr/>
              <p:nvPr/>
            </p:nvSpPr>
            <p:spPr>
              <a:xfrm>
                <a:off x="7469280" y="6439680"/>
                <a:ext cx="159840" cy="227160"/>
              </a:xfrm>
              <a:custGeom>
                <a:avLst/>
                <a:gdLst/>
                <a:ahLst/>
                <a:rect l="l" t="t" r="r" b="b"/>
                <a:pathLst>
                  <a:path w="292735" h="418465">
                    <a:moveTo>
                      <a:pt x="0" y="0"/>
                    </a:moveTo>
                    <a:lnTo>
                      <a:pt x="292595" y="20650"/>
                    </a:lnTo>
                    <a:lnTo>
                      <a:pt x="292595" y="321310"/>
                    </a:lnTo>
                    <a:lnTo>
                      <a:pt x="0" y="41836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ffd7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45" name="object 44"/>
              <p:cNvSpPr/>
              <p:nvPr/>
            </p:nvSpPr>
            <p:spPr>
              <a:xfrm>
                <a:off x="7485120" y="6490080"/>
                <a:ext cx="40320" cy="138600"/>
              </a:xfrm>
              <a:custGeom>
                <a:avLst/>
                <a:gdLst/>
                <a:ahLst/>
                <a:rect l="l" t="t" r="r" b="b"/>
                <a:pathLst>
                  <a:path w="74294" h="255904">
                    <a:moveTo>
                      <a:pt x="74231" y="233362"/>
                    </a:moveTo>
                    <a:lnTo>
                      <a:pt x="35902" y="211226"/>
                    </a:lnTo>
                    <a:lnTo>
                      <a:pt x="35902" y="226098"/>
                    </a:lnTo>
                    <a:lnTo>
                      <a:pt x="0" y="226098"/>
                    </a:lnTo>
                    <a:lnTo>
                      <a:pt x="0" y="240614"/>
                    </a:lnTo>
                    <a:lnTo>
                      <a:pt x="35902" y="240614"/>
                    </a:lnTo>
                    <a:lnTo>
                      <a:pt x="35902" y="255485"/>
                    </a:lnTo>
                    <a:lnTo>
                      <a:pt x="74231" y="233362"/>
                    </a:lnTo>
                    <a:close/>
                  </a:path>
                  <a:path w="74294" h="255904">
                    <a:moveTo>
                      <a:pt x="74231" y="22136"/>
                    </a:moveTo>
                    <a:lnTo>
                      <a:pt x="35902" y="0"/>
                    </a:lnTo>
                    <a:lnTo>
                      <a:pt x="35902" y="14859"/>
                    </a:lnTo>
                    <a:lnTo>
                      <a:pt x="0" y="14859"/>
                    </a:lnTo>
                    <a:lnTo>
                      <a:pt x="0" y="29375"/>
                    </a:lnTo>
                    <a:lnTo>
                      <a:pt x="35902" y="29375"/>
                    </a:lnTo>
                    <a:lnTo>
                      <a:pt x="35902" y="44259"/>
                    </a:lnTo>
                    <a:lnTo>
                      <a:pt x="74231" y="22136"/>
                    </a:lnTo>
                    <a:close/>
                  </a:path>
                </a:pathLst>
              </a:custGeom>
              <a:solidFill>
                <a:srgbClr val="91c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46" name="object 45"/>
              <p:cNvSpPr/>
              <p:nvPr/>
            </p:nvSpPr>
            <p:spPr>
              <a:xfrm>
                <a:off x="7497720" y="6411240"/>
                <a:ext cx="208080" cy="293760"/>
              </a:xfrm>
              <a:custGeom>
                <a:avLst/>
                <a:gdLst/>
                <a:ahLst/>
                <a:rect l="l" t="t" r="r" b="b"/>
                <a:pathLst>
                  <a:path w="381000" h="541654">
                    <a:moveTo>
                      <a:pt x="0" y="0"/>
                    </a:moveTo>
                    <a:lnTo>
                      <a:pt x="0" y="541426"/>
                    </a:lnTo>
                    <a:lnTo>
                      <a:pt x="380695" y="417233"/>
                    </a:lnTo>
                    <a:lnTo>
                      <a:pt x="380695" y="44957"/>
                    </a:lnTo>
                    <a:lnTo>
                      <a:pt x="10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47" name="object 46"/>
              <p:cNvSpPr/>
              <p:nvPr/>
            </p:nvSpPr>
            <p:spPr>
              <a:xfrm>
                <a:off x="7545600" y="6469560"/>
                <a:ext cx="131400" cy="192240"/>
              </a:xfrm>
              <a:custGeom>
                <a:avLst/>
                <a:gdLst/>
                <a:ahLst/>
                <a:rect l="l" t="t" r="r" b="b"/>
                <a:pathLst>
                  <a:path w="240664" h="354329">
                    <a:moveTo>
                      <a:pt x="0" y="0"/>
                    </a:moveTo>
                    <a:lnTo>
                      <a:pt x="0" y="353948"/>
                    </a:lnTo>
                    <a:lnTo>
                      <a:pt x="240423" y="274205"/>
                    </a:lnTo>
                    <a:lnTo>
                      <a:pt x="240423" y="169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f1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48" name="object 47"/>
              <p:cNvSpPr/>
              <p:nvPr/>
            </p:nvSpPr>
            <p:spPr>
              <a:xfrm>
                <a:off x="7539840" y="6469560"/>
                <a:ext cx="131400" cy="192240"/>
              </a:xfrm>
              <a:custGeom>
                <a:avLst/>
                <a:gdLst/>
                <a:ahLst/>
                <a:rect l="l" t="t" r="r" b="b"/>
                <a:pathLst>
                  <a:path w="240664" h="354329">
                    <a:moveTo>
                      <a:pt x="240411" y="274205"/>
                    </a:moveTo>
                    <a:lnTo>
                      <a:pt x="0" y="353948"/>
                    </a:lnTo>
                    <a:lnTo>
                      <a:pt x="0" y="0"/>
                    </a:lnTo>
                    <a:lnTo>
                      <a:pt x="240411" y="16954"/>
                    </a:lnTo>
                    <a:lnTo>
                      <a:pt x="240411" y="274205"/>
                    </a:lnTo>
                    <a:close/>
                  </a:path>
                </a:pathLst>
              </a:custGeom>
              <a:noFill/>
              <a:ln w="25200">
                <a:solidFill>
                  <a:srgbClr val="a3a4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49" name="object 48"/>
              <p:cNvSpPr/>
              <p:nvPr/>
            </p:nvSpPr>
            <p:spPr>
              <a:xfrm>
                <a:off x="7608960" y="6474960"/>
                <a:ext cx="13680" cy="162000"/>
              </a:xfrm>
              <a:custGeom>
                <a:avLst/>
                <a:gdLst/>
                <a:ahLst/>
                <a:rect l="l" t="t" r="r" b="b"/>
                <a:pathLst>
                  <a:path w="25400" h="298450">
                    <a:moveTo>
                      <a:pt x="0" y="297954"/>
                    </a:moveTo>
                    <a:lnTo>
                      <a:pt x="25374" y="297954"/>
                    </a:lnTo>
                    <a:lnTo>
                      <a:pt x="25374" y="0"/>
                    </a:lnTo>
                    <a:lnTo>
                      <a:pt x="0" y="0"/>
                    </a:lnTo>
                    <a:lnTo>
                      <a:pt x="0" y="297954"/>
                    </a:lnTo>
                    <a:close/>
                  </a:path>
                </a:pathLst>
              </a:custGeom>
              <a:solidFill>
                <a:srgbClr val="a3a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50" name="object 49"/>
              <p:cNvSpPr/>
              <p:nvPr/>
            </p:nvSpPr>
            <p:spPr>
              <a:xfrm>
                <a:off x="7545600" y="6469560"/>
                <a:ext cx="131400" cy="192240"/>
              </a:xfrm>
              <a:custGeom>
                <a:avLst/>
                <a:gdLst/>
                <a:ahLst/>
                <a:rect l="l" t="t" r="r" b="b"/>
                <a:pathLst>
                  <a:path w="240664" h="354329">
                    <a:moveTo>
                      <a:pt x="240423" y="274205"/>
                    </a:moveTo>
                    <a:lnTo>
                      <a:pt x="0" y="353948"/>
                    </a:lnTo>
                    <a:lnTo>
                      <a:pt x="0" y="0"/>
                    </a:lnTo>
                    <a:lnTo>
                      <a:pt x="240423" y="16954"/>
                    </a:lnTo>
                    <a:lnTo>
                      <a:pt x="240423" y="274205"/>
                    </a:lnTo>
                    <a:close/>
                  </a:path>
                </a:pathLst>
              </a:custGeom>
              <a:noFill/>
              <a:ln w="25200">
                <a:solidFill>
                  <a:srgbClr val="dbdb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51" name="object 50"/>
              <p:cNvSpPr/>
              <p:nvPr/>
            </p:nvSpPr>
            <p:spPr>
              <a:xfrm>
                <a:off x="7614720" y="6474960"/>
                <a:ext cx="13680" cy="162000"/>
              </a:xfrm>
              <a:custGeom>
                <a:avLst/>
                <a:gdLst/>
                <a:ahLst/>
                <a:rect l="l" t="t" r="r" b="b"/>
                <a:pathLst>
                  <a:path w="25400" h="298450">
                    <a:moveTo>
                      <a:pt x="0" y="297954"/>
                    </a:moveTo>
                    <a:lnTo>
                      <a:pt x="25374" y="297954"/>
                    </a:lnTo>
                    <a:lnTo>
                      <a:pt x="25374" y="0"/>
                    </a:lnTo>
                    <a:lnTo>
                      <a:pt x="0" y="0"/>
                    </a:lnTo>
                    <a:lnTo>
                      <a:pt x="0" y="297954"/>
                    </a:lnTo>
                    <a:close/>
                  </a:path>
                </a:pathLst>
              </a:custGeom>
              <a:solidFill>
                <a:srgbClr val="dbd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52" name="object 51"/>
              <p:cNvSpPr/>
              <p:nvPr/>
            </p:nvSpPr>
            <p:spPr>
              <a:xfrm>
                <a:off x="7690320" y="6490080"/>
                <a:ext cx="40320" cy="89280"/>
              </a:xfrm>
              <a:custGeom>
                <a:avLst/>
                <a:gdLst/>
                <a:ahLst/>
                <a:rect l="l" t="t" r="r" b="b"/>
                <a:pathLst>
                  <a:path w="74295" h="164465">
                    <a:moveTo>
                      <a:pt x="74244" y="134581"/>
                    </a:moveTo>
                    <a:lnTo>
                      <a:pt x="38328" y="134581"/>
                    </a:lnTo>
                    <a:lnTo>
                      <a:pt x="38328" y="119710"/>
                    </a:lnTo>
                    <a:lnTo>
                      <a:pt x="0" y="141846"/>
                    </a:lnTo>
                    <a:lnTo>
                      <a:pt x="38328" y="163969"/>
                    </a:lnTo>
                    <a:lnTo>
                      <a:pt x="38328" y="149098"/>
                    </a:lnTo>
                    <a:lnTo>
                      <a:pt x="74244" y="149098"/>
                    </a:lnTo>
                    <a:lnTo>
                      <a:pt x="74244" y="134581"/>
                    </a:lnTo>
                    <a:close/>
                  </a:path>
                  <a:path w="74295" h="164465">
                    <a:moveTo>
                      <a:pt x="74244" y="14871"/>
                    </a:moveTo>
                    <a:lnTo>
                      <a:pt x="38328" y="14871"/>
                    </a:lnTo>
                    <a:lnTo>
                      <a:pt x="38328" y="0"/>
                    </a:lnTo>
                    <a:lnTo>
                      <a:pt x="0" y="22136"/>
                    </a:lnTo>
                    <a:lnTo>
                      <a:pt x="38328" y="44259"/>
                    </a:lnTo>
                    <a:lnTo>
                      <a:pt x="38328" y="29387"/>
                    </a:lnTo>
                    <a:lnTo>
                      <a:pt x="74244" y="29387"/>
                    </a:lnTo>
                    <a:lnTo>
                      <a:pt x="74244" y="14871"/>
                    </a:lnTo>
                    <a:close/>
                  </a:path>
                </a:pathLst>
              </a:custGeom>
              <a:solidFill>
                <a:srgbClr val="91c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  <p:sp>
            <p:nvSpPr>
              <p:cNvPr id="553" name="object 52"/>
              <p:cNvSpPr/>
              <p:nvPr/>
            </p:nvSpPr>
            <p:spPr>
              <a:xfrm>
                <a:off x="7588080" y="6435360"/>
                <a:ext cx="159840" cy="227160"/>
              </a:xfrm>
              <a:custGeom>
                <a:avLst/>
                <a:gdLst/>
                <a:ahLst/>
                <a:rect l="l" t="t" r="r" b="b"/>
                <a:pathLst>
                  <a:path w="292735" h="418465">
                    <a:moveTo>
                      <a:pt x="0" y="0"/>
                    </a:moveTo>
                    <a:lnTo>
                      <a:pt x="292595" y="20650"/>
                    </a:lnTo>
                    <a:lnTo>
                      <a:pt x="292595" y="321310"/>
                    </a:lnTo>
                    <a:lnTo>
                      <a:pt x="0" y="41836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fb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egoe UI"/>
                </a:endParaRPr>
              </a:p>
            </p:txBody>
          </p:sp>
        </p:grpSp>
      </p:grpSp>
      <p:sp>
        <p:nvSpPr>
          <p:cNvPr id="554" name="object 2"/>
          <p:cNvSpPr/>
          <p:nvPr/>
        </p:nvSpPr>
        <p:spPr>
          <a:xfrm>
            <a:off x="5335560" y="569880"/>
            <a:ext cx="5084640" cy="3143160"/>
          </a:xfrm>
          <a:custGeom>
            <a:avLst/>
            <a:gdLst/>
            <a:ahLst/>
            <a:rect l="l" t="t" r="r" b="b"/>
            <a:pathLst>
              <a:path w="6408420" h="5076190">
                <a:moveTo>
                  <a:pt x="6408000" y="0"/>
                </a:moveTo>
                <a:lnTo>
                  <a:pt x="0" y="0"/>
                </a:lnTo>
                <a:lnTo>
                  <a:pt x="0" y="5075999"/>
                </a:lnTo>
                <a:lnTo>
                  <a:pt x="6408000" y="5075999"/>
                </a:lnTo>
                <a:lnTo>
                  <a:pt x="6408000" y="0"/>
                </a:lnTo>
                <a:close/>
              </a:path>
            </a:pathLst>
          </a:custGeom>
          <a:solidFill>
            <a:srgbClr val="e8e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5" name="object 4"/>
          <p:cNvSpPr/>
          <p:nvPr/>
        </p:nvSpPr>
        <p:spPr>
          <a:xfrm>
            <a:off x="5495760" y="1058760"/>
            <a:ext cx="4821480" cy="2559240"/>
          </a:xfrm>
          <a:custGeom>
            <a:avLst/>
            <a:gdLst/>
            <a:ahLst/>
            <a:rect l="l" t="t" r="r" b="b"/>
            <a:pathLst>
              <a:path w="6120130" h="4284345">
                <a:moveTo>
                  <a:pt x="6120002" y="0"/>
                </a:moveTo>
                <a:lnTo>
                  <a:pt x="0" y="0"/>
                </a:lnTo>
                <a:lnTo>
                  <a:pt x="0" y="4283989"/>
                </a:lnTo>
                <a:lnTo>
                  <a:pt x="6120002" y="4283989"/>
                </a:lnTo>
                <a:lnTo>
                  <a:pt x="612000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556" name="図 20" descr="屋内, 座る, 写真, ミラー が含まれている画像&#10;&#10;自動的に生成された説明"/>
          <p:cNvPicPr/>
          <p:nvPr/>
        </p:nvPicPr>
        <p:blipFill>
          <a:blip r:embed="rId4"/>
          <a:srcRect l="20026" t="50903" r="6508" b="9447"/>
          <a:stretch/>
        </p:blipFill>
        <p:spPr>
          <a:xfrm>
            <a:off x="5589720" y="1122480"/>
            <a:ext cx="2261880" cy="1527120"/>
          </a:xfrm>
          <a:prstGeom prst="rect">
            <a:avLst/>
          </a:prstGeom>
          <a:ln w="0">
            <a:noFill/>
          </a:ln>
        </p:spPr>
      </p:pic>
      <p:sp>
        <p:nvSpPr>
          <p:cNvPr id="557" name="object 2"/>
          <p:cNvSpPr/>
          <p:nvPr/>
        </p:nvSpPr>
        <p:spPr>
          <a:xfrm>
            <a:off x="239760" y="568440"/>
            <a:ext cx="5103720" cy="3143160"/>
          </a:xfrm>
          <a:custGeom>
            <a:avLst/>
            <a:gdLst/>
            <a:ahLst/>
            <a:rect l="l" t="t" r="r" b="b"/>
            <a:pathLst>
              <a:path w="6408420" h="5076190">
                <a:moveTo>
                  <a:pt x="6408000" y="0"/>
                </a:moveTo>
                <a:lnTo>
                  <a:pt x="0" y="0"/>
                </a:lnTo>
                <a:lnTo>
                  <a:pt x="0" y="5075999"/>
                </a:lnTo>
                <a:lnTo>
                  <a:pt x="6408000" y="5075999"/>
                </a:lnTo>
                <a:lnTo>
                  <a:pt x="6408000" y="0"/>
                </a:lnTo>
                <a:close/>
              </a:path>
            </a:pathLst>
          </a:custGeom>
          <a:solidFill>
            <a:srgbClr val="e9f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8" name="object 4"/>
          <p:cNvSpPr/>
          <p:nvPr/>
        </p:nvSpPr>
        <p:spPr>
          <a:xfrm>
            <a:off x="357120" y="1055520"/>
            <a:ext cx="4821480" cy="2565720"/>
          </a:xfrm>
          <a:custGeom>
            <a:avLst/>
            <a:gdLst/>
            <a:ahLst/>
            <a:rect l="l" t="t" r="r" b="b"/>
            <a:pathLst>
              <a:path w="6120130" h="4284345">
                <a:moveTo>
                  <a:pt x="6120002" y="0"/>
                </a:moveTo>
                <a:lnTo>
                  <a:pt x="0" y="0"/>
                </a:lnTo>
                <a:lnTo>
                  <a:pt x="0" y="4283989"/>
                </a:lnTo>
                <a:lnTo>
                  <a:pt x="6120002" y="4283989"/>
                </a:lnTo>
                <a:lnTo>
                  <a:pt x="612000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559" name="図 5" descr=""/>
          <p:cNvPicPr/>
          <p:nvPr/>
        </p:nvPicPr>
        <p:blipFill>
          <a:blip r:embed="rId5"/>
          <a:srcRect l="22697" t="58969" r="5307" b="3053"/>
          <a:stretch/>
        </p:blipFill>
        <p:spPr>
          <a:xfrm>
            <a:off x="430200" y="1117440"/>
            <a:ext cx="2308320" cy="1522440"/>
          </a:xfrm>
          <a:prstGeom prst="rect">
            <a:avLst/>
          </a:prstGeom>
          <a:ln w="0">
            <a:noFill/>
          </a:ln>
        </p:spPr>
      </p:pic>
      <p:pic>
        <p:nvPicPr>
          <p:cNvPr id="560" name="図 14" descr=""/>
          <p:cNvPicPr/>
          <p:nvPr/>
        </p:nvPicPr>
        <p:blipFill>
          <a:blip r:embed="rId6"/>
          <a:stretch/>
        </p:blipFill>
        <p:spPr>
          <a:xfrm>
            <a:off x="5477040" y="938160"/>
            <a:ext cx="539640" cy="514440"/>
          </a:xfrm>
          <a:prstGeom prst="rect">
            <a:avLst/>
          </a:prstGeom>
          <a:ln w="0">
            <a:noFill/>
          </a:ln>
        </p:spPr>
      </p:pic>
      <p:sp>
        <p:nvSpPr>
          <p:cNvPr id="561" name="object 14"/>
          <p:cNvSpPr/>
          <p:nvPr/>
        </p:nvSpPr>
        <p:spPr>
          <a:xfrm>
            <a:off x="357120" y="625320"/>
            <a:ext cx="102240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760" bIns="0" anchor="t">
            <a:spAutoFit/>
          </a:bodyPr>
          <a:p>
            <a:pPr marL="1260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居室仕様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2" name="object 16"/>
          <p:cNvSpPr/>
          <p:nvPr/>
        </p:nvSpPr>
        <p:spPr>
          <a:xfrm flipH="1">
            <a:off x="2625840" y="679320"/>
            <a:ext cx="46080" cy="249480"/>
          </a:xfrm>
          <a:custGeom>
            <a:avLst/>
            <a:gdLst/>
            <a:ahLst/>
            <a:rect l="l" t="t" r="r" b="b"/>
            <a:pathLst>
              <a:path w="45719" h="288290">
                <a:moveTo>
                  <a:pt x="0" y="0"/>
                </a:moveTo>
                <a:lnTo>
                  <a:pt x="0" y="287997"/>
                </a:lnTo>
              </a:path>
            </a:pathLst>
          </a:custGeom>
          <a:noFill/>
          <a:ln w="9000">
            <a:solidFill>
              <a:srgbClr val="140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3" name="object 19"/>
          <p:cNvSpPr/>
          <p:nvPr/>
        </p:nvSpPr>
        <p:spPr>
          <a:xfrm>
            <a:off x="2795760" y="633240"/>
            <a:ext cx="17190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25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カンタン現調・カンタン施工で、</a:t>
            </a: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 marL="12600">
              <a:lnSpc>
                <a:spcPct val="125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段差が小さいスッキリデザイン。</a:t>
            </a: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4" name="Text Box 1039"/>
          <p:cNvSpPr/>
          <p:nvPr/>
        </p:nvSpPr>
        <p:spPr>
          <a:xfrm>
            <a:off x="911160" y="117360"/>
            <a:ext cx="20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窓リフォーム　取替窓リプラス　ラインアップ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5" name="object 148"/>
          <p:cNvSpPr/>
          <p:nvPr/>
        </p:nvSpPr>
        <p:spPr>
          <a:xfrm>
            <a:off x="5594400" y="2925720"/>
            <a:ext cx="2262240" cy="587520"/>
          </a:xfrm>
          <a:custGeom>
            <a:avLst/>
            <a:gdLst/>
            <a:ahLst/>
            <a:rect l="l" t="t" r="r" b="b"/>
            <a:pathLst>
              <a:path w="2664460" h="1044575">
                <a:moveTo>
                  <a:pt x="2664002" y="0"/>
                </a:moveTo>
                <a:lnTo>
                  <a:pt x="0" y="0"/>
                </a:lnTo>
                <a:lnTo>
                  <a:pt x="0" y="1044003"/>
                </a:lnTo>
                <a:lnTo>
                  <a:pt x="2664002" y="1044003"/>
                </a:lnTo>
                <a:lnTo>
                  <a:pt x="2664002" y="0"/>
                </a:lnTo>
                <a:close/>
              </a:path>
            </a:pathLst>
          </a:custGeom>
          <a:solidFill>
            <a:srgbClr val="e8e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6" name="object 14"/>
          <p:cNvSpPr/>
          <p:nvPr/>
        </p:nvSpPr>
        <p:spPr>
          <a:xfrm>
            <a:off x="376200" y="3946680"/>
            <a:ext cx="200520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760" bIns="0" anchor="t">
            <a:spAutoFit/>
          </a:bodyPr>
          <a:p>
            <a:pPr marL="1260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アタッチ枠</a:t>
            </a:r>
            <a:endParaRPr b="0" lang="en-US" sz="1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7" name="object 19"/>
          <p:cNvSpPr/>
          <p:nvPr/>
        </p:nvSpPr>
        <p:spPr>
          <a:xfrm>
            <a:off x="2187720" y="3897360"/>
            <a:ext cx="26510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25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新しく設置する窓が</a:t>
            </a:r>
            <a:r>
              <a:rPr b="0" lang="en-US" sz="8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TW</a:t>
            </a:r>
            <a:r>
              <a:rPr b="0" lang="ja-JP" sz="8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やサーモスの際に取付ける</a:t>
            </a: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 marL="12600">
              <a:lnSpc>
                <a:spcPct val="125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窓リフォーム用部材。多様な窓に取替可能。</a:t>
            </a: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8" name="object 55"/>
          <p:cNvSpPr/>
          <p:nvPr/>
        </p:nvSpPr>
        <p:spPr>
          <a:xfrm>
            <a:off x="1824120" y="5278320"/>
            <a:ext cx="36360" cy="34920"/>
          </a:xfrm>
          <a:custGeom>
            <a:avLst/>
            <a:gdLst/>
            <a:ahLst/>
            <a:rect l="l" t="t" r="r" b="b"/>
            <a:pathLst>
              <a:path w="36194" h="36195">
                <a:moveTo>
                  <a:pt x="17995" y="0"/>
                </a:moveTo>
                <a:lnTo>
                  <a:pt x="10988" y="1415"/>
                </a:lnTo>
                <a:lnTo>
                  <a:pt x="5268" y="5275"/>
                </a:lnTo>
                <a:lnTo>
                  <a:pt x="1413" y="10999"/>
                </a:lnTo>
                <a:lnTo>
                  <a:pt x="0" y="18008"/>
                </a:lnTo>
                <a:lnTo>
                  <a:pt x="1413" y="25010"/>
                </a:lnTo>
                <a:lnTo>
                  <a:pt x="5268" y="30730"/>
                </a:lnTo>
                <a:lnTo>
                  <a:pt x="10988" y="-30947"/>
                </a:lnTo>
                <a:lnTo>
                  <a:pt x="17995" y="-29532"/>
                </a:lnTo>
                <a:lnTo>
                  <a:pt x="25002" y="-30947"/>
                </a:lnTo>
                <a:lnTo>
                  <a:pt x="30722" y="30730"/>
                </a:lnTo>
                <a:lnTo>
                  <a:pt x="-30958" y="25010"/>
                </a:lnTo>
                <a:lnTo>
                  <a:pt x="-29545" y="18008"/>
                </a:lnTo>
                <a:lnTo>
                  <a:pt x="-30958" y="10999"/>
                </a:lnTo>
                <a:lnTo>
                  <a:pt x="30722" y="5275"/>
                </a:lnTo>
                <a:lnTo>
                  <a:pt x="25002" y="1415"/>
                </a:lnTo>
                <a:lnTo>
                  <a:pt x="179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9" name="object 60"/>
          <p:cNvSpPr/>
          <p:nvPr/>
        </p:nvSpPr>
        <p:spPr>
          <a:xfrm>
            <a:off x="461880" y="6127920"/>
            <a:ext cx="2265480" cy="631800"/>
          </a:xfrm>
          <a:custGeom>
            <a:avLst/>
            <a:gdLst/>
            <a:ahLst/>
            <a:rect l="l" t="t" r="r" b="b"/>
            <a:pathLst>
              <a:path w="2664460" h="1044575">
                <a:moveTo>
                  <a:pt x="2664002" y="0"/>
                </a:moveTo>
                <a:lnTo>
                  <a:pt x="0" y="0"/>
                </a:lnTo>
                <a:lnTo>
                  <a:pt x="0" y="1044003"/>
                </a:lnTo>
                <a:lnTo>
                  <a:pt x="2664002" y="1044003"/>
                </a:lnTo>
                <a:lnTo>
                  <a:pt x="2664002" y="0"/>
                </a:lnTo>
                <a:close/>
              </a:path>
            </a:pathLst>
          </a:custGeom>
          <a:solidFill>
            <a:srgbClr val="f9f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0" name="object 61"/>
          <p:cNvSpPr/>
          <p:nvPr/>
        </p:nvSpPr>
        <p:spPr>
          <a:xfrm>
            <a:off x="1182600" y="6105600"/>
            <a:ext cx="933480" cy="704880"/>
          </a:xfrm>
          <a:custGeom>
            <a:avLst/>
            <a:gdLst/>
            <a:ahLst/>
            <a:rect l="l" t="t" r="r" b="b"/>
            <a:pathLst>
              <a:path w="1080135" h="1044575">
                <a:moveTo>
                  <a:pt x="198005" y="521995"/>
                </a:moveTo>
                <a:lnTo>
                  <a:pt x="54000" y="0"/>
                </a:lnTo>
                <a:lnTo>
                  <a:pt x="0" y="0"/>
                </a:lnTo>
                <a:lnTo>
                  <a:pt x="144005" y="521982"/>
                </a:lnTo>
                <a:lnTo>
                  <a:pt x="0" y="1044003"/>
                </a:lnTo>
                <a:lnTo>
                  <a:pt x="54000" y="1044003"/>
                </a:lnTo>
                <a:lnTo>
                  <a:pt x="198005" y="521995"/>
                </a:lnTo>
                <a:close/>
              </a:path>
              <a:path w="1080135" h="1044575">
                <a:moveTo>
                  <a:pt x="1079995" y="521995"/>
                </a:moveTo>
                <a:lnTo>
                  <a:pt x="935990" y="0"/>
                </a:lnTo>
                <a:lnTo>
                  <a:pt x="881989" y="0"/>
                </a:lnTo>
                <a:lnTo>
                  <a:pt x="1025994" y="521982"/>
                </a:lnTo>
                <a:lnTo>
                  <a:pt x="881989" y="1044003"/>
                </a:lnTo>
                <a:lnTo>
                  <a:pt x="935990" y="1044003"/>
                </a:lnTo>
                <a:lnTo>
                  <a:pt x="1079995" y="5219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1" name="object 215"/>
          <p:cNvSpPr/>
          <p:nvPr/>
        </p:nvSpPr>
        <p:spPr>
          <a:xfrm>
            <a:off x="3897360" y="4951440"/>
            <a:ext cx="127080" cy="71280"/>
          </a:xfrm>
          <a:custGeom>
            <a:avLst/>
            <a:gdLst/>
            <a:ahLst/>
            <a:rect l="l" t="t" r="r" b="b"/>
            <a:pathLst>
              <a:path w="189229" h="108585">
                <a:moveTo>
                  <a:pt x="189001" y="0"/>
                </a:moveTo>
                <a:lnTo>
                  <a:pt x="0" y="0"/>
                </a:lnTo>
                <a:lnTo>
                  <a:pt x="94500" y="108000"/>
                </a:lnTo>
                <a:lnTo>
                  <a:pt x="189001" y="0"/>
                </a:lnTo>
                <a:close/>
              </a:path>
            </a:pathLst>
          </a:custGeom>
          <a:solidFill>
            <a:srgbClr val="6d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2" name="テキスト ボックス 752"/>
          <p:cNvSpPr/>
          <p:nvPr/>
        </p:nvSpPr>
        <p:spPr>
          <a:xfrm>
            <a:off x="3352680" y="4443480"/>
            <a:ext cx="170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取替リフォーム可能な既設サッシの種類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3" name="テキスト ボックス 762"/>
          <p:cNvSpPr/>
          <p:nvPr/>
        </p:nvSpPr>
        <p:spPr>
          <a:xfrm>
            <a:off x="3355920" y="5186520"/>
            <a:ext cx="1347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新しく設置できる窓の種類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4" name="テキスト ボックス 338"/>
          <p:cNvSpPr/>
          <p:nvPr/>
        </p:nvSpPr>
        <p:spPr>
          <a:xfrm>
            <a:off x="1322280" y="6157800"/>
            <a:ext cx="738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❷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アタッチ枠と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      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新しい窓を取付ける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5" name="object 55"/>
          <p:cNvSpPr/>
          <p:nvPr/>
        </p:nvSpPr>
        <p:spPr>
          <a:xfrm>
            <a:off x="1990800" y="1774800"/>
            <a:ext cx="34920" cy="38160"/>
          </a:xfrm>
          <a:custGeom>
            <a:avLst/>
            <a:gdLst/>
            <a:ahLst/>
            <a:rect l="l" t="t" r="r" b="b"/>
            <a:pathLst>
              <a:path w="36194" h="36195">
                <a:moveTo>
                  <a:pt x="17995" y="0"/>
                </a:moveTo>
                <a:lnTo>
                  <a:pt x="10988" y="1415"/>
                </a:lnTo>
                <a:lnTo>
                  <a:pt x="5268" y="5275"/>
                </a:lnTo>
                <a:lnTo>
                  <a:pt x="1413" y="10999"/>
                </a:lnTo>
                <a:lnTo>
                  <a:pt x="0" y="18008"/>
                </a:lnTo>
                <a:lnTo>
                  <a:pt x="1413" y="25010"/>
                </a:lnTo>
                <a:lnTo>
                  <a:pt x="5268" y="30730"/>
                </a:lnTo>
                <a:lnTo>
                  <a:pt x="10988" y="-30947"/>
                </a:lnTo>
                <a:lnTo>
                  <a:pt x="17995" y="-29532"/>
                </a:lnTo>
                <a:lnTo>
                  <a:pt x="25002" y="-30947"/>
                </a:lnTo>
                <a:lnTo>
                  <a:pt x="30722" y="30730"/>
                </a:lnTo>
                <a:lnTo>
                  <a:pt x="-30958" y="25010"/>
                </a:lnTo>
                <a:lnTo>
                  <a:pt x="-29545" y="18008"/>
                </a:lnTo>
                <a:lnTo>
                  <a:pt x="-30958" y="10999"/>
                </a:lnTo>
                <a:lnTo>
                  <a:pt x="30722" y="5275"/>
                </a:lnTo>
                <a:lnTo>
                  <a:pt x="25002" y="1415"/>
                </a:lnTo>
                <a:lnTo>
                  <a:pt x="179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6" name="object 56"/>
          <p:cNvSpPr/>
          <p:nvPr/>
        </p:nvSpPr>
        <p:spPr>
          <a:xfrm>
            <a:off x="554040" y="1973160"/>
            <a:ext cx="981000" cy="576360"/>
          </a:xfrm>
          <a:custGeom>
            <a:avLst/>
            <a:gdLst/>
            <a:ahLst/>
            <a:rect l="l" t="t" r="r" b="b"/>
            <a:pathLst>
              <a:path w="1179195" h="495300">
                <a:moveTo>
                  <a:pt x="1179004" y="0"/>
                </a:moveTo>
                <a:lnTo>
                  <a:pt x="0" y="0"/>
                </a:lnTo>
                <a:lnTo>
                  <a:pt x="0" y="494995"/>
                </a:lnTo>
                <a:lnTo>
                  <a:pt x="1179004" y="494995"/>
                </a:lnTo>
                <a:lnTo>
                  <a:pt x="1179004" y="0"/>
                </a:lnTo>
                <a:close/>
              </a:path>
            </a:pathLst>
          </a:custGeom>
          <a:solidFill>
            <a:srgbClr val="eb615a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7" name="object 60"/>
          <p:cNvSpPr/>
          <p:nvPr/>
        </p:nvSpPr>
        <p:spPr>
          <a:xfrm>
            <a:off x="455760" y="2882880"/>
            <a:ext cx="2278080" cy="627120"/>
          </a:xfrm>
          <a:custGeom>
            <a:avLst/>
            <a:gdLst/>
            <a:ahLst/>
            <a:rect l="l" t="t" r="r" b="b"/>
            <a:pathLst>
              <a:path w="2664460" h="1044575">
                <a:moveTo>
                  <a:pt x="2664002" y="0"/>
                </a:moveTo>
                <a:lnTo>
                  <a:pt x="0" y="0"/>
                </a:lnTo>
                <a:lnTo>
                  <a:pt x="0" y="1044003"/>
                </a:lnTo>
                <a:lnTo>
                  <a:pt x="2664002" y="1044003"/>
                </a:lnTo>
                <a:lnTo>
                  <a:pt x="2664002" y="0"/>
                </a:lnTo>
                <a:close/>
              </a:path>
            </a:pathLst>
          </a:custGeom>
          <a:solidFill>
            <a:srgbClr val="e9f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8" name="object 61"/>
          <p:cNvSpPr/>
          <p:nvPr/>
        </p:nvSpPr>
        <p:spPr>
          <a:xfrm>
            <a:off x="1209600" y="2819520"/>
            <a:ext cx="825480" cy="741240"/>
          </a:xfrm>
          <a:custGeom>
            <a:avLst/>
            <a:gdLst/>
            <a:ahLst/>
            <a:rect l="l" t="t" r="r" b="b"/>
            <a:pathLst>
              <a:path w="1080135" h="1044575">
                <a:moveTo>
                  <a:pt x="198005" y="521995"/>
                </a:moveTo>
                <a:lnTo>
                  <a:pt x="54000" y="0"/>
                </a:lnTo>
                <a:lnTo>
                  <a:pt x="0" y="0"/>
                </a:lnTo>
                <a:lnTo>
                  <a:pt x="144005" y="521982"/>
                </a:lnTo>
                <a:lnTo>
                  <a:pt x="0" y="1044003"/>
                </a:lnTo>
                <a:lnTo>
                  <a:pt x="54000" y="1044003"/>
                </a:lnTo>
                <a:lnTo>
                  <a:pt x="198005" y="521995"/>
                </a:lnTo>
                <a:close/>
              </a:path>
              <a:path w="1080135" h="1044575">
                <a:moveTo>
                  <a:pt x="1079995" y="521995"/>
                </a:moveTo>
                <a:lnTo>
                  <a:pt x="935990" y="0"/>
                </a:lnTo>
                <a:lnTo>
                  <a:pt x="881989" y="0"/>
                </a:lnTo>
                <a:lnTo>
                  <a:pt x="1025994" y="521982"/>
                </a:lnTo>
                <a:lnTo>
                  <a:pt x="881989" y="1044003"/>
                </a:lnTo>
                <a:lnTo>
                  <a:pt x="935990" y="1044003"/>
                </a:lnTo>
                <a:lnTo>
                  <a:pt x="1079995" y="5219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9" name="object 140"/>
          <p:cNvSpPr/>
          <p:nvPr/>
        </p:nvSpPr>
        <p:spPr>
          <a:xfrm>
            <a:off x="509760" y="2922480"/>
            <a:ext cx="7045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93600" indent="-93600"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❶ 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今ある窓の障子を外す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0" name="object 145"/>
          <p:cNvSpPr/>
          <p:nvPr/>
        </p:nvSpPr>
        <p:spPr>
          <a:xfrm>
            <a:off x="650880" y="2671920"/>
            <a:ext cx="1189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spAutoFit/>
          </a:bodyPr>
          <a:p>
            <a:pPr marL="2556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約半日</a:t>
            </a:r>
            <a:r>
              <a:rPr b="1" lang="ja-JP" sz="800" spc="-1" strike="noStrike" baseline="74000">
                <a:solidFill>
                  <a:srgbClr val="140700"/>
                </a:solidFill>
                <a:latin typeface="游ゴシック"/>
                <a:ea typeface="游ゴシック"/>
              </a:rPr>
              <a:t>※ </a:t>
            </a:r>
            <a:r>
              <a:rPr b="1" lang="ja-JP" sz="8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で完了</a:t>
            </a: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581" name="object 146" descr=""/>
          <p:cNvPicPr/>
          <p:nvPr/>
        </p:nvPicPr>
        <p:blipFill>
          <a:blip r:embed="rId7"/>
          <a:stretch/>
        </p:blipFill>
        <p:spPr>
          <a:xfrm>
            <a:off x="480960" y="2695680"/>
            <a:ext cx="128520" cy="128520"/>
          </a:xfrm>
          <a:prstGeom prst="rect">
            <a:avLst/>
          </a:prstGeom>
          <a:ln w="0">
            <a:noFill/>
          </a:ln>
        </p:spPr>
      </p:pic>
      <p:sp>
        <p:nvSpPr>
          <p:cNvPr id="582" name="テキスト ボックス 877"/>
          <p:cNvSpPr/>
          <p:nvPr/>
        </p:nvSpPr>
        <p:spPr>
          <a:xfrm>
            <a:off x="3355920" y="1182600"/>
            <a:ext cx="1709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取替リフォーム可能な既設サッシの種類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3" name="テキスト ボックス 887"/>
          <p:cNvSpPr/>
          <p:nvPr/>
        </p:nvSpPr>
        <p:spPr>
          <a:xfrm>
            <a:off x="3346560" y="1744560"/>
            <a:ext cx="1346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新しく設置できる窓の種類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4" name="テキスト ボックス 369"/>
          <p:cNvSpPr/>
          <p:nvPr/>
        </p:nvSpPr>
        <p:spPr>
          <a:xfrm>
            <a:off x="1368360" y="2924280"/>
            <a:ext cx="4827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❷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新しい窓を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    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取付ける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585" name="グループ化 16"/>
          <p:cNvGrpSpPr/>
          <p:nvPr/>
        </p:nvGrpSpPr>
        <p:grpSpPr>
          <a:xfrm>
            <a:off x="5499000" y="3889440"/>
            <a:ext cx="4848480" cy="298080"/>
            <a:chOff x="5499000" y="3889440"/>
            <a:chExt cx="4848480" cy="298080"/>
          </a:xfrm>
        </p:grpSpPr>
        <p:sp>
          <p:nvSpPr>
            <p:cNvPr id="586" name="object 19"/>
            <p:cNvSpPr/>
            <p:nvPr/>
          </p:nvSpPr>
          <p:spPr>
            <a:xfrm>
              <a:off x="7284960" y="3889440"/>
              <a:ext cx="306252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600" bIns="0" anchor="t">
              <a:spAutoFit/>
            </a:bodyPr>
            <a:p>
              <a:pPr marL="12600">
                <a:lnSpc>
                  <a:spcPct val="125000"/>
                </a:lnSpc>
                <a:spcBef>
                  <a:spcPts val="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8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外壁を切って窓リフォームする際のモール材。開口面積をそのままにしたい場合や、出窓・雨戸付サッシの取替えにおすすめ。</a:t>
              </a:r>
              <a:endParaRPr b="0" lang="en-US" sz="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587" name="object 14"/>
            <p:cNvSpPr/>
            <p:nvPr/>
          </p:nvSpPr>
          <p:spPr>
            <a:xfrm>
              <a:off x="5499000" y="3938400"/>
              <a:ext cx="1582560" cy="2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760" bIns="0" anchor="t">
              <a:spAutoFit/>
            </a:bodyPr>
            <a:p>
              <a:pPr marL="12600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汎用カットモール</a:t>
              </a:r>
              <a:endParaRPr b="0" lang="en-US" sz="1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588" name="object 16"/>
            <p:cNvSpPr/>
            <p:nvPr/>
          </p:nvSpPr>
          <p:spPr>
            <a:xfrm flipH="1">
              <a:off x="7131960" y="3938400"/>
              <a:ext cx="51480" cy="249120"/>
            </a:xfrm>
            <a:custGeom>
              <a:avLst/>
              <a:gdLst/>
              <a:ahLst/>
              <a:rect l="l" t="t" r="r" b="b"/>
              <a:pathLst>
                <a:path w="45719" h="288290">
                  <a:moveTo>
                    <a:pt x="0" y="0"/>
                  </a:moveTo>
                  <a:lnTo>
                    <a:pt x="0" y="287997"/>
                  </a:lnTo>
                </a:path>
              </a:pathLst>
            </a:custGeom>
            <a:noFill/>
            <a:ln w="9000">
              <a:solidFill>
                <a:srgbClr val="140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589" name="テキスト ボックス 1017"/>
          <p:cNvSpPr/>
          <p:nvPr/>
        </p:nvSpPr>
        <p:spPr>
          <a:xfrm>
            <a:off x="8474040" y="4422600"/>
            <a:ext cx="175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取替リフォーム可能な既設サッシの種類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0" name="テキスト ボックス 1027"/>
          <p:cNvSpPr/>
          <p:nvPr/>
        </p:nvSpPr>
        <p:spPr>
          <a:xfrm>
            <a:off x="8475840" y="5167440"/>
            <a:ext cx="1346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新しく設置できる窓の種類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1" name="object 217"/>
          <p:cNvSpPr/>
          <p:nvPr/>
        </p:nvSpPr>
        <p:spPr>
          <a:xfrm>
            <a:off x="7985160" y="5369040"/>
            <a:ext cx="2065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異なる種類の窓への取替えも可能です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2" name="object 145"/>
          <p:cNvSpPr/>
          <p:nvPr/>
        </p:nvSpPr>
        <p:spPr>
          <a:xfrm>
            <a:off x="5786280" y="2695680"/>
            <a:ext cx="18241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spAutoFit/>
          </a:bodyPr>
          <a:p>
            <a:pPr marL="2556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約半日</a:t>
            </a:r>
            <a:r>
              <a:rPr b="1" lang="ja-JP" sz="800" spc="-1" strike="noStrike" baseline="74000">
                <a:solidFill>
                  <a:srgbClr val="140700"/>
                </a:solidFill>
                <a:latin typeface="游ゴシック"/>
                <a:ea typeface="游ゴシック"/>
              </a:rPr>
              <a:t>※ </a:t>
            </a:r>
            <a:r>
              <a:rPr b="1" lang="ja-JP" sz="8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で完了</a:t>
            </a:r>
            <a:r>
              <a:rPr b="0" lang="ja-JP" sz="6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（窓部分の工事時間のみ） </a:t>
            </a: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593" name="object 146" descr=""/>
          <p:cNvPicPr/>
          <p:nvPr/>
        </p:nvPicPr>
        <p:blipFill>
          <a:blip r:embed="rId8"/>
          <a:stretch/>
        </p:blipFill>
        <p:spPr>
          <a:xfrm>
            <a:off x="5629320" y="2716200"/>
            <a:ext cx="128520" cy="128520"/>
          </a:xfrm>
          <a:prstGeom prst="rect">
            <a:avLst/>
          </a:prstGeom>
          <a:ln w="0">
            <a:noFill/>
          </a:ln>
        </p:spPr>
      </p:pic>
      <p:sp>
        <p:nvSpPr>
          <p:cNvPr id="594" name="テキスト ボックス 1157"/>
          <p:cNvSpPr/>
          <p:nvPr/>
        </p:nvSpPr>
        <p:spPr>
          <a:xfrm>
            <a:off x="8470800" y="1171440"/>
            <a:ext cx="16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取替リフォーム可能な既設サッシの種類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5" name="テキスト ボックス 1167"/>
          <p:cNvSpPr/>
          <p:nvPr/>
        </p:nvSpPr>
        <p:spPr>
          <a:xfrm>
            <a:off x="8478720" y="1682640"/>
            <a:ext cx="1346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7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新しく設置できる窓の種類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6" name="object 14"/>
          <p:cNvSpPr/>
          <p:nvPr/>
        </p:nvSpPr>
        <p:spPr>
          <a:xfrm>
            <a:off x="5506920" y="722160"/>
            <a:ext cx="92736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760" bIns="0" anchor="t">
            <a:spAutoFit/>
          </a:bodyPr>
          <a:p>
            <a:pPr marL="1260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浴室仕様</a:t>
            </a:r>
            <a:endParaRPr b="0" lang="en-US" sz="1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7" name="object 19"/>
          <p:cNvSpPr/>
          <p:nvPr/>
        </p:nvSpPr>
        <p:spPr>
          <a:xfrm>
            <a:off x="6541920" y="628560"/>
            <a:ext cx="23209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25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浴室リフォーム時に、最適な仕様。</a:t>
            </a: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 marL="12600">
              <a:lnSpc>
                <a:spcPct val="125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窓種の変更や開口縮小にも対応。</a:t>
            </a: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598" name="図 12" descr=""/>
          <p:cNvPicPr/>
          <p:nvPr/>
        </p:nvPicPr>
        <p:blipFill>
          <a:blip r:embed="rId9"/>
          <a:stretch/>
        </p:blipFill>
        <p:spPr>
          <a:xfrm>
            <a:off x="5781600" y="3070080"/>
            <a:ext cx="411120" cy="419400"/>
          </a:xfrm>
          <a:prstGeom prst="rect">
            <a:avLst/>
          </a:prstGeom>
          <a:ln w="0">
            <a:noFill/>
          </a:ln>
        </p:spPr>
      </p:pic>
      <p:sp>
        <p:nvSpPr>
          <p:cNvPr id="599" name="フリーフォーム: 図形 424"/>
          <p:cNvSpPr/>
          <p:nvPr/>
        </p:nvSpPr>
        <p:spPr>
          <a:xfrm flipH="1">
            <a:off x="1840680" y="5292720"/>
            <a:ext cx="198360" cy="268200"/>
          </a:xfrm>
          <a:custGeom>
            <a:avLst/>
            <a:gdLst/>
            <a:ahLst/>
            <a:rect l="l" t="t" r="r" b="b"/>
            <a:pathLst>
              <a:path w="361336" h="235974">
                <a:moveTo>
                  <a:pt x="361336" y="0"/>
                </a:moveTo>
                <a:lnTo>
                  <a:pt x="361336" y="235974"/>
                </a:lnTo>
                <a:lnTo>
                  <a:pt x="0" y="235974"/>
                </a:lnTo>
                <a:lnTo>
                  <a:pt x="0" y="235974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0" name="object 215"/>
          <p:cNvSpPr/>
          <p:nvPr/>
        </p:nvSpPr>
        <p:spPr>
          <a:xfrm>
            <a:off x="3895560" y="1608120"/>
            <a:ext cx="125640" cy="73080"/>
          </a:xfrm>
          <a:custGeom>
            <a:avLst/>
            <a:gdLst/>
            <a:ahLst/>
            <a:rect l="l" t="t" r="r" b="b"/>
            <a:pathLst>
              <a:path w="189229" h="108585">
                <a:moveTo>
                  <a:pt x="189001" y="0"/>
                </a:moveTo>
                <a:lnTo>
                  <a:pt x="0" y="0"/>
                </a:lnTo>
                <a:lnTo>
                  <a:pt x="94500" y="108000"/>
                </a:lnTo>
                <a:lnTo>
                  <a:pt x="189001" y="0"/>
                </a:lnTo>
                <a:close/>
              </a:path>
            </a:pathLst>
          </a:custGeom>
          <a:solidFill>
            <a:srgbClr val="6d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1" name="object 215"/>
          <p:cNvSpPr/>
          <p:nvPr/>
        </p:nvSpPr>
        <p:spPr>
          <a:xfrm>
            <a:off x="9010800" y="1579680"/>
            <a:ext cx="125280" cy="73080"/>
          </a:xfrm>
          <a:custGeom>
            <a:avLst/>
            <a:gdLst/>
            <a:ahLst/>
            <a:rect l="l" t="t" r="r" b="b"/>
            <a:pathLst>
              <a:path w="189229" h="108585">
                <a:moveTo>
                  <a:pt x="189001" y="0"/>
                </a:moveTo>
                <a:lnTo>
                  <a:pt x="0" y="0"/>
                </a:lnTo>
                <a:lnTo>
                  <a:pt x="94500" y="108000"/>
                </a:lnTo>
                <a:lnTo>
                  <a:pt x="189001" y="0"/>
                </a:lnTo>
                <a:close/>
              </a:path>
            </a:pathLst>
          </a:custGeom>
          <a:solidFill>
            <a:srgbClr val="6d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2" name="object 215"/>
          <p:cNvSpPr/>
          <p:nvPr/>
        </p:nvSpPr>
        <p:spPr>
          <a:xfrm>
            <a:off x="9010800" y="4954680"/>
            <a:ext cx="125280" cy="71280"/>
          </a:xfrm>
          <a:custGeom>
            <a:avLst/>
            <a:gdLst/>
            <a:ahLst/>
            <a:rect l="l" t="t" r="r" b="b"/>
            <a:pathLst>
              <a:path w="189229" h="108585">
                <a:moveTo>
                  <a:pt x="189001" y="0"/>
                </a:moveTo>
                <a:lnTo>
                  <a:pt x="0" y="0"/>
                </a:lnTo>
                <a:lnTo>
                  <a:pt x="94500" y="108000"/>
                </a:lnTo>
                <a:lnTo>
                  <a:pt x="189001" y="0"/>
                </a:lnTo>
                <a:close/>
              </a:path>
            </a:pathLst>
          </a:custGeom>
          <a:solidFill>
            <a:srgbClr val="6d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3" name="テキスト ボックス 447"/>
          <p:cNvSpPr/>
          <p:nvPr/>
        </p:nvSpPr>
        <p:spPr>
          <a:xfrm>
            <a:off x="7313760" y="6178680"/>
            <a:ext cx="561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❹</a:t>
            </a:r>
            <a:r>
              <a:rPr b="1" lang="ja-JP" sz="5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室内と室外に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    </a:t>
            </a:r>
            <a:r>
              <a:rPr b="1" lang="ja-JP" sz="5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モールを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    </a:t>
            </a:r>
            <a:r>
              <a:rPr b="1" lang="ja-JP" sz="5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かぶせて完了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4" name="object 145"/>
          <p:cNvSpPr/>
          <p:nvPr/>
        </p:nvSpPr>
        <p:spPr>
          <a:xfrm>
            <a:off x="5853240" y="5913360"/>
            <a:ext cx="1189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spAutoFit/>
          </a:bodyPr>
          <a:p>
            <a:pPr marL="2556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約</a:t>
            </a:r>
            <a:r>
              <a:rPr b="1" lang="en-US" sz="10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 </a:t>
            </a:r>
            <a:r>
              <a:rPr b="1" lang="en-US" sz="10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1</a:t>
            </a:r>
            <a:r>
              <a:rPr b="1" lang="ja-JP" sz="10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日</a:t>
            </a:r>
            <a:r>
              <a:rPr b="1" lang="ja-JP" sz="800" spc="-1" strike="noStrike" baseline="74000">
                <a:solidFill>
                  <a:srgbClr val="140700"/>
                </a:solidFill>
                <a:latin typeface="游ゴシック"/>
                <a:ea typeface="游ゴシック"/>
              </a:rPr>
              <a:t>※ </a:t>
            </a:r>
            <a:r>
              <a:rPr b="1" lang="ja-JP" sz="8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で完了</a:t>
            </a: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05" name="object 146" descr=""/>
          <p:cNvPicPr/>
          <p:nvPr/>
        </p:nvPicPr>
        <p:blipFill>
          <a:blip r:embed="rId10"/>
          <a:stretch/>
        </p:blipFill>
        <p:spPr>
          <a:xfrm>
            <a:off x="5691240" y="5937120"/>
            <a:ext cx="128520" cy="128880"/>
          </a:xfrm>
          <a:prstGeom prst="rect">
            <a:avLst/>
          </a:prstGeom>
          <a:ln w="0">
            <a:noFill/>
          </a:ln>
        </p:spPr>
      </p:pic>
      <p:pic>
        <p:nvPicPr>
          <p:cNvPr id="606" name="図 14" descr=""/>
          <p:cNvPicPr/>
          <p:nvPr/>
        </p:nvPicPr>
        <p:blipFill>
          <a:blip r:embed="rId11"/>
          <a:stretch/>
        </p:blipFill>
        <p:spPr>
          <a:xfrm>
            <a:off x="320760" y="934920"/>
            <a:ext cx="539640" cy="514440"/>
          </a:xfrm>
          <a:prstGeom prst="rect">
            <a:avLst/>
          </a:prstGeom>
          <a:ln w="0">
            <a:noFill/>
          </a:ln>
        </p:spPr>
      </p:pic>
      <p:pic>
        <p:nvPicPr>
          <p:cNvPr id="607" name="図 8" descr=""/>
          <p:cNvPicPr/>
          <p:nvPr/>
        </p:nvPicPr>
        <p:blipFill>
          <a:blip r:embed="rId12"/>
          <a:stretch/>
        </p:blipFill>
        <p:spPr>
          <a:xfrm>
            <a:off x="5400720" y="4208400"/>
            <a:ext cx="581040" cy="506520"/>
          </a:xfrm>
          <a:prstGeom prst="rect">
            <a:avLst/>
          </a:prstGeom>
          <a:ln w="0">
            <a:noFill/>
          </a:ln>
        </p:spPr>
      </p:pic>
      <p:pic>
        <p:nvPicPr>
          <p:cNvPr id="608" name="図 116" descr=""/>
          <p:cNvPicPr/>
          <p:nvPr/>
        </p:nvPicPr>
        <p:blipFill>
          <a:blip r:embed="rId13"/>
          <a:stretch/>
        </p:blipFill>
        <p:spPr>
          <a:xfrm>
            <a:off x="334800" y="4192560"/>
            <a:ext cx="540000" cy="514440"/>
          </a:xfrm>
          <a:prstGeom prst="rect">
            <a:avLst/>
          </a:prstGeom>
          <a:ln w="0">
            <a:noFill/>
          </a:ln>
        </p:spPr>
      </p:pic>
      <p:sp>
        <p:nvSpPr>
          <p:cNvPr id="609" name="フリーフォーム: 図形 475"/>
          <p:cNvSpPr/>
          <p:nvPr/>
        </p:nvSpPr>
        <p:spPr>
          <a:xfrm>
            <a:off x="1531800" y="1793880"/>
            <a:ext cx="479520" cy="530280"/>
          </a:xfrm>
          <a:custGeom>
            <a:avLst/>
            <a:gdLst/>
            <a:ahLst/>
            <a:rect l="l" t="t" r="r" b="b"/>
            <a:pathLst>
              <a:path w="361336" h="235974">
                <a:moveTo>
                  <a:pt x="361336" y="0"/>
                </a:moveTo>
                <a:lnTo>
                  <a:pt x="361336" y="235974"/>
                </a:lnTo>
                <a:lnTo>
                  <a:pt x="0" y="235974"/>
                </a:lnTo>
                <a:lnTo>
                  <a:pt x="0" y="235974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0" name="object 140"/>
          <p:cNvSpPr/>
          <p:nvPr/>
        </p:nvSpPr>
        <p:spPr>
          <a:xfrm>
            <a:off x="5629320" y="2949480"/>
            <a:ext cx="7048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93600" indent="-93600"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❶ 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今ある窓の障子を外す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1" name="object 61"/>
          <p:cNvSpPr/>
          <p:nvPr/>
        </p:nvSpPr>
        <p:spPr>
          <a:xfrm>
            <a:off x="6286680" y="2840040"/>
            <a:ext cx="842760" cy="741240"/>
          </a:xfrm>
          <a:custGeom>
            <a:avLst/>
            <a:gdLst/>
            <a:ahLst/>
            <a:rect l="l" t="t" r="r" b="b"/>
            <a:pathLst>
              <a:path w="1080135" h="1044575">
                <a:moveTo>
                  <a:pt x="198005" y="521995"/>
                </a:moveTo>
                <a:lnTo>
                  <a:pt x="54000" y="0"/>
                </a:lnTo>
                <a:lnTo>
                  <a:pt x="0" y="0"/>
                </a:lnTo>
                <a:lnTo>
                  <a:pt x="144005" y="521982"/>
                </a:lnTo>
                <a:lnTo>
                  <a:pt x="0" y="1044003"/>
                </a:lnTo>
                <a:lnTo>
                  <a:pt x="54000" y="1044003"/>
                </a:lnTo>
                <a:lnTo>
                  <a:pt x="198005" y="521995"/>
                </a:lnTo>
                <a:close/>
              </a:path>
              <a:path w="1080135" h="1044575">
                <a:moveTo>
                  <a:pt x="1079995" y="521995"/>
                </a:moveTo>
                <a:lnTo>
                  <a:pt x="935990" y="0"/>
                </a:lnTo>
                <a:lnTo>
                  <a:pt x="881989" y="0"/>
                </a:lnTo>
                <a:lnTo>
                  <a:pt x="1025994" y="521982"/>
                </a:lnTo>
                <a:lnTo>
                  <a:pt x="881989" y="1044003"/>
                </a:lnTo>
                <a:lnTo>
                  <a:pt x="935990" y="1044003"/>
                </a:lnTo>
                <a:lnTo>
                  <a:pt x="1079995" y="5219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2" name="object 140"/>
          <p:cNvSpPr/>
          <p:nvPr/>
        </p:nvSpPr>
        <p:spPr>
          <a:xfrm>
            <a:off x="493560" y="6156360"/>
            <a:ext cx="7034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93600" indent="-93600"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❶ 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今ある窓の障子を外す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3" name="テキスト ボックス 148"/>
          <p:cNvSpPr/>
          <p:nvPr/>
        </p:nvSpPr>
        <p:spPr>
          <a:xfrm>
            <a:off x="7961400" y="1832040"/>
            <a:ext cx="23731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新設サッシは、専用のアルミ樹脂複合窓を使用します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既設サッシと異なる新設サッシへの取替えも可能です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また、窓のサイズを小さくすることもできます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そして、引違い窓にはより断熱性能の高いブリッジ枠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ご用意しています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4" name="テキスト ボックス 1556"/>
          <p:cNvSpPr/>
          <p:nvPr/>
        </p:nvSpPr>
        <p:spPr>
          <a:xfrm>
            <a:off x="2889360" y="6626160"/>
            <a:ext cx="21970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※</a:t>
            </a:r>
            <a:r>
              <a:rPr b="0" lang="ja-JP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上記に掲載のない品種は、フィンカットすることで使用できます。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※</a:t>
            </a:r>
            <a:r>
              <a:rPr b="0" lang="ja-JP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浴室にはご使用できません。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5" name="テキスト ボックス 18"/>
          <p:cNvSpPr/>
          <p:nvPr/>
        </p:nvSpPr>
        <p:spPr>
          <a:xfrm>
            <a:off x="592200" y="2190600"/>
            <a:ext cx="930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600" spc="-1" strike="noStrike">
                <a:solidFill>
                  <a:srgbClr val="ffffff"/>
                </a:solidFill>
                <a:latin typeface="游ゴシック"/>
                <a:ea typeface="游ゴシック"/>
              </a:rPr>
              <a:t>リフォーム専用の形状で、段差を小さく、開口を広く納められる</a:t>
            </a: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16" name="図 20" descr=""/>
          <p:cNvPicPr/>
          <p:nvPr/>
        </p:nvPicPr>
        <p:blipFill>
          <a:blip r:embed="rId14"/>
          <a:stretch/>
        </p:blipFill>
        <p:spPr>
          <a:xfrm>
            <a:off x="723960" y="3086280"/>
            <a:ext cx="352440" cy="385560"/>
          </a:xfrm>
          <a:prstGeom prst="rect">
            <a:avLst/>
          </a:prstGeom>
          <a:ln w="0">
            <a:noFill/>
          </a:ln>
        </p:spPr>
      </p:pic>
      <p:sp>
        <p:nvSpPr>
          <p:cNvPr id="617" name="テキスト ボックス 1556"/>
          <p:cNvSpPr/>
          <p:nvPr/>
        </p:nvSpPr>
        <p:spPr>
          <a:xfrm>
            <a:off x="2125800" y="5786280"/>
            <a:ext cx="61416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" spc="-1" strike="noStrike">
                <a:solidFill>
                  <a:srgbClr val="ffffff"/>
                </a:solidFill>
                <a:latin typeface="游ゴシック"/>
                <a:ea typeface="游ゴシック"/>
              </a:rPr>
              <a:t>※</a:t>
            </a:r>
            <a:r>
              <a:rPr b="1" lang="ja-JP" sz="400" spc="-1" strike="noStrike">
                <a:solidFill>
                  <a:srgbClr val="ffffff"/>
                </a:solidFill>
                <a:latin typeface="游ゴシック"/>
                <a:ea typeface="游ゴシック"/>
              </a:rPr>
              <a:t>画像はサーモス用です。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8" name="object 145"/>
          <p:cNvSpPr/>
          <p:nvPr/>
        </p:nvSpPr>
        <p:spPr>
          <a:xfrm>
            <a:off x="693720" y="5924520"/>
            <a:ext cx="1189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spAutoFit/>
          </a:bodyPr>
          <a:p>
            <a:pPr marL="2556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0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約半日</a:t>
            </a:r>
            <a:r>
              <a:rPr b="1" lang="ja-JP" sz="800" spc="-1" strike="noStrike" baseline="74000">
                <a:solidFill>
                  <a:srgbClr val="140700"/>
                </a:solidFill>
                <a:latin typeface="游ゴシック"/>
                <a:ea typeface="游ゴシック"/>
              </a:rPr>
              <a:t>※ </a:t>
            </a:r>
            <a:r>
              <a:rPr b="1" lang="ja-JP" sz="8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で完了</a:t>
            </a: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9" name="テキスト ボックス 148"/>
          <p:cNvSpPr/>
          <p:nvPr/>
        </p:nvSpPr>
        <p:spPr>
          <a:xfrm>
            <a:off x="2851200" y="5356080"/>
            <a:ext cx="232740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居室仕様に設定のない窓の種類も取替可能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新設サッシは、専用のアルミ樹脂複合窓を使用します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TW</a:t>
            </a: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用では専用の高性能樹脂アルミ複合窓のご用意もあります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620" name="グループ化 6"/>
          <p:cNvGrpSpPr/>
          <p:nvPr/>
        </p:nvGrpSpPr>
        <p:grpSpPr>
          <a:xfrm>
            <a:off x="2817720" y="1725480"/>
            <a:ext cx="447840" cy="128880"/>
            <a:chOff x="2817720" y="1725480"/>
            <a:chExt cx="447840" cy="128880"/>
          </a:xfrm>
        </p:grpSpPr>
        <p:sp>
          <p:nvSpPr>
            <p:cNvPr id="621" name="object 218"/>
            <p:cNvSpPr/>
            <p:nvPr/>
          </p:nvSpPr>
          <p:spPr>
            <a:xfrm>
              <a:off x="2817720" y="1725480"/>
              <a:ext cx="447840" cy="124200"/>
            </a:xfrm>
            <a:prstGeom prst="rect">
              <a:avLst/>
            </a:prstGeom>
            <a:noFill/>
            <a:ln w="3600">
              <a:solidFill>
                <a:srgbClr val="5297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622" name="object 218"/>
            <p:cNvSpPr/>
            <p:nvPr/>
          </p:nvSpPr>
          <p:spPr>
            <a:xfrm>
              <a:off x="2817720" y="1730160"/>
              <a:ext cx="447840" cy="1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52973c"/>
                  </a:solidFill>
                  <a:latin typeface="游ゴシック"/>
                  <a:ea typeface="游ゴシック"/>
                </a:rPr>
                <a:t>AFTER</a:t>
              </a:r>
              <a:endParaRPr b="0" lang="en-US" sz="7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623" name="グループ化 21"/>
          <p:cNvGrpSpPr/>
          <p:nvPr/>
        </p:nvGrpSpPr>
        <p:grpSpPr>
          <a:xfrm>
            <a:off x="2790720" y="1162080"/>
            <a:ext cx="470160" cy="126360"/>
            <a:chOff x="2790720" y="1162080"/>
            <a:chExt cx="470160" cy="126360"/>
          </a:xfrm>
        </p:grpSpPr>
        <p:sp>
          <p:nvSpPr>
            <p:cNvPr id="624" name="object 218"/>
            <p:cNvSpPr/>
            <p:nvPr/>
          </p:nvSpPr>
          <p:spPr>
            <a:xfrm>
              <a:off x="2811240" y="1162080"/>
              <a:ext cx="449640" cy="122400"/>
            </a:xfrm>
            <a:prstGeom prst="rect">
              <a:avLst/>
            </a:prstGeom>
            <a:noFill/>
            <a:ln w="3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625" name="object 218"/>
            <p:cNvSpPr/>
            <p:nvPr/>
          </p:nvSpPr>
          <p:spPr>
            <a:xfrm>
              <a:off x="2790720" y="1181520"/>
              <a:ext cx="46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595959"/>
                  </a:solidFill>
                  <a:latin typeface="游ゴシック"/>
                  <a:ea typeface="游ゴシック"/>
                </a:rPr>
                <a:t>BEFORE</a:t>
              </a:r>
              <a:endParaRPr b="0" lang="en-US" sz="7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626" name="グループ化 18"/>
          <p:cNvGrpSpPr/>
          <p:nvPr/>
        </p:nvGrpSpPr>
        <p:grpSpPr>
          <a:xfrm>
            <a:off x="2814480" y="5154480"/>
            <a:ext cx="459000" cy="122400"/>
            <a:chOff x="2814480" y="5154480"/>
            <a:chExt cx="459000" cy="122400"/>
          </a:xfrm>
        </p:grpSpPr>
        <p:sp>
          <p:nvSpPr>
            <p:cNvPr id="627" name="object 218"/>
            <p:cNvSpPr/>
            <p:nvPr/>
          </p:nvSpPr>
          <p:spPr>
            <a:xfrm>
              <a:off x="2814480" y="5154480"/>
              <a:ext cx="449640" cy="122400"/>
            </a:xfrm>
            <a:prstGeom prst="rect">
              <a:avLst/>
            </a:prstGeom>
            <a:noFill/>
            <a:ln w="3600">
              <a:solidFill>
                <a:srgbClr val="d79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628" name="object 218"/>
            <p:cNvSpPr/>
            <p:nvPr/>
          </p:nvSpPr>
          <p:spPr>
            <a:xfrm>
              <a:off x="2825280" y="5178240"/>
              <a:ext cx="44820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d79c56"/>
                  </a:solidFill>
                  <a:latin typeface="游ゴシック"/>
                  <a:ea typeface="游ゴシック"/>
                </a:rPr>
                <a:t>AFTER</a:t>
              </a:r>
              <a:endParaRPr b="0" lang="en-US" sz="7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629" name="object 16"/>
          <p:cNvSpPr/>
          <p:nvPr/>
        </p:nvSpPr>
        <p:spPr>
          <a:xfrm flipH="1">
            <a:off x="2011320" y="3943440"/>
            <a:ext cx="46080" cy="250560"/>
          </a:xfrm>
          <a:custGeom>
            <a:avLst/>
            <a:gdLst/>
            <a:ahLst/>
            <a:rect l="l" t="t" r="r" b="b"/>
            <a:pathLst>
              <a:path w="45719" h="288290">
                <a:moveTo>
                  <a:pt x="0" y="0"/>
                </a:moveTo>
                <a:lnTo>
                  <a:pt x="0" y="287997"/>
                </a:lnTo>
              </a:path>
            </a:pathLst>
          </a:custGeom>
          <a:noFill/>
          <a:ln w="9000">
            <a:solidFill>
              <a:srgbClr val="140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630" name="グループ化 23"/>
          <p:cNvGrpSpPr/>
          <p:nvPr/>
        </p:nvGrpSpPr>
        <p:grpSpPr>
          <a:xfrm>
            <a:off x="7948440" y="1663560"/>
            <a:ext cx="451080" cy="130320"/>
            <a:chOff x="7948440" y="1663560"/>
            <a:chExt cx="451080" cy="130320"/>
          </a:xfrm>
        </p:grpSpPr>
        <p:sp>
          <p:nvSpPr>
            <p:cNvPr id="631" name="object 218"/>
            <p:cNvSpPr/>
            <p:nvPr/>
          </p:nvSpPr>
          <p:spPr>
            <a:xfrm>
              <a:off x="7949880" y="1663560"/>
              <a:ext cx="449640" cy="124200"/>
            </a:xfrm>
            <a:prstGeom prst="rect">
              <a:avLst/>
            </a:prstGeom>
            <a:noFill/>
            <a:ln w="3600">
              <a:solidFill>
                <a:srgbClr val="3d88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632" name="object 218"/>
            <p:cNvSpPr/>
            <p:nvPr/>
          </p:nvSpPr>
          <p:spPr>
            <a:xfrm>
              <a:off x="7948440" y="1669680"/>
              <a:ext cx="448200" cy="1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3d88b5"/>
                  </a:solidFill>
                  <a:latin typeface="游ゴシック"/>
                  <a:ea typeface="游ゴシック"/>
                </a:rPr>
                <a:t>AFTER</a:t>
              </a:r>
              <a:endParaRPr b="0" lang="en-US" sz="7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633" name="グループ化 22"/>
          <p:cNvGrpSpPr/>
          <p:nvPr/>
        </p:nvGrpSpPr>
        <p:grpSpPr>
          <a:xfrm>
            <a:off x="7948440" y="5151600"/>
            <a:ext cx="452520" cy="134640"/>
            <a:chOff x="7948440" y="5151600"/>
            <a:chExt cx="452520" cy="134640"/>
          </a:xfrm>
        </p:grpSpPr>
        <p:sp>
          <p:nvSpPr>
            <p:cNvPr id="634" name="object 218"/>
            <p:cNvSpPr/>
            <p:nvPr/>
          </p:nvSpPr>
          <p:spPr>
            <a:xfrm>
              <a:off x="7948440" y="5151600"/>
              <a:ext cx="447840" cy="123840"/>
            </a:xfrm>
            <a:prstGeom prst="rect">
              <a:avLst/>
            </a:prstGeom>
            <a:noFill/>
            <a:ln w="3600">
              <a:solidFill>
                <a:srgbClr val="cf6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635" name="object 218"/>
            <p:cNvSpPr/>
            <p:nvPr/>
          </p:nvSpPr>
          <p:spPr>
            <a:xfrm>
              <a:off x="7953120" y="5162400"/>
              <a:ext cx="4478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cf616c"/>
                  </a:solidFill>
                  <a:latin typeface="游ゴシック"/>
                  <a:ea typeface="游ゴシック"/>
                </a:rPr>
                <a:t>AFTER</a:t>
              </a:r>
              <a:endParaRPr b="0" lang="en-US" sz="7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pic>
        <p:nvPicPr>
          <p:cNvPr id="636" name="object 146" descr=""/>
          <p:cNvPicPr/>
          <p:nvPr/>
        </p:nvPicPr>
        <p:blipFill>
          <a:blip r:embed="rId15"/>
          <a:stretch/>
        </p:blipFill>
        <p:spPr>
          <a:xfrm>
            <a:off x="519120" y="5950080"/>
            <a:ext cx="128520" cy="128520"/>
          </a:xfrm>
          <a:prstGeom prst="rect">
            <a:avLst/>
          </a:prstGeom>
          <a:ln w="0">
            <a:noFill/>
          </a:ln>
        </p:spPr>
      </p:pic>
      <p:sp>
        <p:nvSpPr>
          <p:cNvPr id="637" name="テキスト ボックス 148"/>
          <p:cNvSpPr/>
          <p:nvPr/>
        </p:nvSpPr>
        <p:spPr>
          <a:xfrm>
            <a:off x="2811600" y="1901880"/>
            <a:ext cx="23670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新設サッシは、専用のアルミ樹脂複合窓を使用します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既設サッシと異なる新設サッシへの取替えも可能です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また、引違い窓にはより断熱性能の高いブリッジ枠と、トリプル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ガラス仕様の</a:t>
            </a:r>
            <a:r>
              <a:rPr b="0" lang="en-US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TW</a:t>
            </a: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タイプ、樹脂窓の</a:t>
            </a:r>
            <a:r>
              <a:rPr b="0" lang="en-US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EW</a:t>
            </a: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タイプもご用意しています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38" name="図 294" descr=""/>
          <p:cNvPicPr/>
          <p:nvPr/>
        </p:nvPicPr>
        <p:blipFill>
          <a:blip r:embed="rId16"/>
          <a:stretch/>
        </p:blipFill>
        <p:spPr>
          <a:xfrm>
            <a:off x="1477800" y="3086280"/>
            <a:ext cx="373320" cy="407880"/>
          </a:xfrm>
          <a:prstGeom prst="rect">
            <a:avLst/>
          </a:prstGeom>
          <a:ln w="0">
            <a:noFill/>
          </a:ln>
        </p:spPr>
      </p:pic>
      <p:pic>
        <p:nvPicPr>
          <p:cNvPr id="639" name="図 295" descr=""/>
          <p:cNvPicPr/>
          <p:nvPr/>
        </p:nvPicPr>
        <p:blipFill>
          <a:blip r:embed="rId17"/>
          <a:stretch/>
        </p:blipFill>
        <p:spPr>
          <a:xfrm>
            <a:off x="2233440" y="3129120"/>
            <a:ext cx="373320" cy="355320"/>
          </a:xfrm>
          <a:prstGeom prst="rect">
            <a:avLst/>
          </a:prstGeom>
          <a:ln w="0">
            <a:noFill/>
          </a:ln>
        </p:spPr>
      </p:pic>
      <p:sp>
        <p:nvSpPr>
          <p:cNvPr id="640" name="object 16"/>
          <p:cNvSpPr/>
          <p:nvPr/>
        </p:nvSpPr>
        <p:spPr>
          <a:xfrm flipH="1">
            <a:off x="6378480" y="689040"/>
            <a:ext cx="46080" cy="250920"/>
          </a:xfrm>
          <a:custGeom>
            <a:avLst/>
            <a:gdLst/>
            <a:ahLst/>
            <a:rect l="l" t="t" r="r" b="b"/>
            <a:pathLst>
              <a:path w="45719" h="288290">
                <a:moveTo>
                  <a:pt x="0" y="0"/>
                </a:moveTo>
                <a:lnTo>
                  <a:pt x="0" y="287997"/>
                </a:lnTo>
              </a:path>
            </a:pathLst>
          </a:custGeom>
          <a:noFill/>
          <a:ln w="9000">
            <a:solidFill>
              <a:srgbClr val="140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1" name="object 217"/>
          <p:cNvSpPr/>
          <p:nvPr/>
        </p:nvSpPr>
        <p:spPr>
          <a:xfrm>
            <a:off x="2833560" y="1338120"/>
            <a:ext cx="233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メーカー・シリーズを問わず、さまざまな種類の窓が取替可能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2" name="テキスト ボックス 885"/>
          <p:cNvSpPr/>
          <p:nvPr/>
        </p:nvSpPr>
        <p:spPr>
          <a:xfrm>
            <a:off x="2824200" y="1469880"/>
            <a:ext cx="230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※</a:t>
            </a:r>
            <a:r>
              <a:rPr b="0" lang="ja-JP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樹脂製や木製のサッシには取付できません。 </a:t>
            </a:r>
            <a:r>
              <a:rPr b="0" lang="en-US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※</a:t>
            </a:r>
            <a:r>
              <a:rPr b="0" lang="ja-JP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取付可否については、商品カタログをご確認ください。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3" name="テキスト ボックス 370"/>
          <p:cNvSpPr/>
          <p:nvPr/>
        </p:nvSpPr>
        <p:spPr>
          <a:xfrm>
            <a:off x="7132680" y="2949480"/>
            <a:ext cx="6811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❸ 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室外に化粧カバーを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      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取付けて完了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44" name="図 18" descr=""/>
          <p:cNvPicPr/>
          <p:nvPr/>
        </p:nvPicPr>
        <p:blipFill>
          <a:blip r:embed="rId18"/>
          <a:srcRect l="0" t="4593" r="0" b="0"/>
          <a:stretch/>
        </p:blipFill>
        <p:spPr>
          <a:xfrm>
            <a:off x="7370640" y="3105000"/>
            <a:ext cx="347760" cy="397080"/>
          </a:xfrm>
          <a:prstGeom prst="rect">
            <a:avLst/>
          </a:prstGeom>
          <a:ln w="0">
            <a:noFill/>
          </a:ln>
        </p:spPr>
      </p:pic>
      <p:pic>
        <p:nvPicPr>
          <p:cNvPr id="645" name="図 6" descr=""/>
          <p:cNvPicPr/>
          <p:nvPr/>
        </p:nvPicPr>
        <p:blipFill>
          <a:blip r:embed="rId19"/>
          <a:stretch/>
        </p:blipFill>
        <p:spPr>
          <a:xfrm>
            <a:off x="6488280" y="3089160"/>
            <a:ext cx="436320" cy="419040"/>
          </a:xfrm>
          <a:prstGeom prst="rect">
            <a:avLst/>
          </a:prstGeom>
          <a:ln w="0">
            <a:noFill/>
          </a:ln>
        </p:spPr>
      </p:pic>
      <p:grpSp>
        <p:nvGrpSpPr>
          <p:cNvPr id="646" name="グループ化 8"/>
          <p:cNvGrpSpPr/>
          <p:nvPr/>
        </p:nvGrpSpPr>
        <p:grpSpPr>
          <a:xfrm>
            <a:off x="2833560" y="2427120"/>
            <a:ext cx="2295720" cy="1091160"/>
            <a:chOff x="2833560" y="2427120"/>
            <a:chExt cx="2295720" cy="1091160"/>
          </a:xfrm>
        </p:grpSpPr>
        <p:pic>
          <p:nvPicPr>
            <p:cNvPr id="647" name="object 206" descr=""/>
            <p:cNvPicPr/>
            <p:nvPr/>
          </p:nvPicPr>
          <p:blipFill>
            <a:blip r:embed="rId20"/>
            <a:stretch/>
          </p:blipFill>
          <p:spPr>
            <a:xfrm>
              <a:off x="2872440" y="2439000"/>
              <a:ext cx="312480" cy="36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object 207" descr=""/>
            <p:cNvPicPr/>
            <p:nvPr/>
          </p:nvPicPr>
          <p:blipFill>
            <a:blip r:embed="rId21"/>
            <a:stretch/>
          </p:blipFill>
          <p:spPr>
            <a:xfrm>
              <a:off x="3501000" y="2427480"/>
              <a:ext cx="3157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object 208" descr=""/>
            <p:cNvPicPr/>
            <p:nvPr/>
          </p:nvPicPr>
          <p:blipFill>
            <a:blip r:embed="rId22"/>
            <a:stretch/>
          </p:blipFill>
          <p:spPr>
            <a:xfrm>
              <a:off x="4142520" y="2974680"/>
              <a:ext cx="179280" cy="3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object 209" descr=""/>
            <p:cNvPicPr/>
            <p:nvPr/>
          </p:nvPicPr>
          <p:blipFill>
            <a:blip r:embed="rId23"/>
            <a:stretch/>
          </p:blipFill>
          <p:spPr>
            <a:xfrm>
              <a:off x="4098600" y="2427120"/>
              <a:ext cx="24372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object 210" descr=""/>
            <p:cNvPicPr/>
            <p:nvPr/>
          </p:nvPicPr>
          <p:blipFill>
            <a:blip r:embed="rId24"/>
            <a:stretch/>
          </p:blipFill>
          <p:spPr>
            <a:xfrm>
              <a:off x="4688640" y="2527560"/>
              <a:ext cx="258480" cy="23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object 211" descr=""/>
            <p:cNvPicPr/>
            <p:nvPr/>
          </p:nvPicPr>
          <p:blipFill>
            <a:blip r:embed="rId25"/>
            <a:stretch/>
          </p:blipFill>
          <p:spPr>
            <a:xfrm>
              <a:off x="2910960" y="3063240"/>
              <a:ext cx="258480" cy="23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object 212" descr=""/>
            <p:cNvPicPr/>
            <p:nvPr/>
          </p:nvPicPr>
          <p:blipFill>
            <a:blip r:embed="rId26"/>
            <a:stretch/>
          </p:blipFill>
          <p:spPr>
            <a:xfrm>
              <a:off x="3578040" y="2966760"/>
              <a:ext cx="18360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object 213" descr=""/>
            <p:cNvPicPr/>
            <p:nvPr/>
          </p:nvPicPr>
          <p:blipFill>
            <a:blip r:embed="rId27"/>
            <a:stretch/>
          </p:blipFill>
          <p:spPr>
            <a:xfrm>
              <a:off x="4711320" y="2951640"/>
              <a:ext cx="209160" cy="38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object 214"/>
            <p:cNvSpPr/>
            <p:nvPr/>
          </p:nvSpPr>
          <p:spPr>
            <a:xfrm>
              <a:off x="2893680" y="2814480"/>
              <a:ext cx="306360" cy="9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760" bIns="0" anchor="t">
              <a:spAutoFit/>
            </a:bodyPr>
            <a:p>
              <a:pPr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引違い窓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656" name="object 214"/>
            <p:cNvSpPr/>
            <p:nvPr/>
          </p:nvSpPr>
          <p:spPr>
            <a:xfrm>
              <a:off x="3430440" y="2798640"/>
              <a:ext cx="51732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76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縦すべり出し窓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（オペレーター）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657" name="object 214"/>
            <p:cNvSpPr/>
            <p:nvPr/>
          </p:nvSpPr>
          <p:spPr>
            <a:xfrm>
              <a:off x="4010040" y="2798640"/>
              <a:ext cx="51732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76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縦すべり出し窓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（カムラッチ）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658" name="object 214"/>
            <p:cNvSpPr/>
            <p:nvPr/>
          </p:nvSpPr>
          <p:spPr>
            <a:xfrm>
              <a:off x="4567320" y="2798640"/>
              <a:ext cx="51732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76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横すべり出し窓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（オペレーター）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659" name="object 214"/>
            <p:cNvSpPr/>
            <p:nvPr/>
          </p:nvSpPr>
          <p:spPr>
            <a:xfrm>
              <a:off x="2833560" y="3351240"/>
              <a:ext cx="51732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76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横すべり出し窓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（カムラッチ）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660" name="object 214"/>
            <p:cNvSpPr/>
            <p:nvPr/>
          </p:nvSpPr>
          <p:spPr>
            <a:xfrm>
              <a:off x="3327120" y="3346560"/>
              <a:ext cx="63324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76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上げ下げ窓</a:t>
              </a:r>
              <a:r>
                <a:rPr b="0" lang="en-US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FS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（フラットスライド）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661" name="object 214"/>
            <p:cNvSpPr/>
            <p:nvPr/>
          </p:nvSpPr>
          <p:spPr>
            <a:xfrm>
              <a:off x="3914640" y="3346560"/>
              <a:ext cx="63324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76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FIX</a:t>
              </a: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窓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（外押縁タイプ）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662" name="object 214"/>
            <p:cNvSpPr/>
            <p:nvPr/>
          </p:nvSpPr>
          <p:spPr>
            <a:xfrm>
              <a:off x="4496040" y="3346560"/>
              <a:ext cx="63324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76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FIX</a:t>
              </a: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窓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（内押縁タイプ）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663" name="object 25"/>
          <p:cNvSpPr/>
          <p:nvPr/>
        </p:nvSpPr>
        <p:spPr>
          <a:xfrm>
            <a:off x="1398600" y="3929040"/>
            <a:ext cx="72720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TW</a:t>
            </a:r>
            <a:r>
              <a:rPr b="0" lang="ja-JP" sz="8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用</a:t>
            </a: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4" name="object 25"/>
          <p:cNvSpPr/>
          <p:nvPr/>
        </p:nvSpPr>
        <p:spPr>
          <a:xfrm>
            <a:off x="1398600" y="4067280"/>
            <a:ext cx="130824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サーモス用</a:t>
            </a: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5" name="object 56"/>
          <p:cNvSpPr/>
          <p:nvPr/>
        </p:nvSpPr>
        <p:spPr>
          <a:xfrm>
            <a:off x="1984320" y="5481720"/>
            <a:ext cx="468360" cy="168120"/>
          </a:xfrm>
          <a:custGeom>
            <a:avLst/>
            <a:gdLst/>
            <a:ahLst/>
            <a:rect l="l" t="t" r="r" b="b"/>
            <a:pathLst>
              <a:path w="1179195" h="495300">
                <a:moveTo>
                  <a:pt x="1179004" y="0"/>
                </a:moveTo>
                <a:lnTo>
                  <a:pt x="0" y="0"/>
                </a:lnTo>
                <a:lnTo>
                  <a:pt x="0" y="494995"/>
                </a:lnTo>
                <a:lnTo>
                  <a:pt x="1179004" y="494995"/>
                </a:lnTo>
                <a:lnTo>
                  <a:pt x="117900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6" name="テキスト ボックス 430"/>
          <p:cNvSpPr/>
          <p:nvPr/>
        </p:nvSpPr>
        <p:spPr>
          <a:xfrm>
            <a:off x="2039760" y="5511960"/>
            <a:ext cx="463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600" spc="-1" strike="noStrike">
                <a:solidFill>
                  <a:srgbClr val="595959"/>
                </a:solidFill>
                <a:latin typeface="游ゴシック"/>
                <a:ea typeface="游ゴシック"/>
              </a:rPr>
              <a:t>アタッチ枠</a:t>
            </a: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7" name="フリーフォーム: 図形 443"/>
          <p:cNvSpPr/>
          <p:nvPr/>
        </p:nvSpPr>
        <p:spPr>
          <a:xfrm flipH="1" rot="5400000">
            <a:off x="808560" y="5205240"/>
            <a:ext cx="571680" cy="165240"/>
          </a:xfrm>
          <a:custGeom>
            <a:avLst/>
            <a:gdLst/>
            <a:ahLst/>
            <a:rect l="l" t="t" r="r" b="b"/>
            <a:pathLst>
              <a:path w="361336" h="235974">
                <a:moveTo>
                  <a:pt x="361336" y="0"/>
                </a:moveTo>
                <a:lnTo>
                  <a:pt x="361336" y="235974"/>
                </a:lnTo>
                <a:lnTo>
                  <a:pt x="0" y="235974"/>
                </a:lnTo>
                <a:lnTo>
                  <a:pt x="0" y="235974"/>
                </a:lnTo>
              </a:path>
            </a:pathLst>
          </a:custGeom>
          <a:noFill/>
          <a:ln w="9360">
            <a:solidFill>
              <a:srgbClr val="5959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8" name="object 55"/>
          <p:cNvSpPr/>
          <p:nvPr/>
        </p:nvSpPr>
        <p:spPr>
          <a:xfrm>
            <a:off x="1160640" y="4986360"/>
            <a:ext cx="36360" cy="34920"/>
          </a:xfrm>
          <a:custGeom>
            <a:avLst/>
            <a:gdLst/>
            <a:ahLst/>
            <a:rect l="l" t="t" r="r" b="b"/>
            <a:pathLst>
              <a:path w="36194" h="36195">
                <a:moveTo>
                  <a:pt x="17995" y="0"/>
                </a:moveTo>
                <a:lnTo>
                  <a:pt x="10988" y="1415"/>
                </a:lnTo>
                <a:lnTo>
                  <a:pt x="5268" y="5275"/>
                </a:lnTo>
                <a:lnTo>
                  <a:pt x="1413" y="10999"/>
                </a:lnTo>
                <a:lnTo>
                  <a:pt x="0" y="18008"/>
                </a:lnTo>
                <a:lnTo>
                  <a:pt x="1413" y="25010"/>
                </a:lnTo>
                <a:lnTo>
                  <a:pt x="5268" y="30730"/>
                </a:lnTo>
                <a:lnTo>
                  <a:pt x="10988" y="-30947"/>
                </a:lnTo>
                <a:lnTo>
                  <a:pt x="17995" y="-29532"/>
                </a:lnTo>
                <a:lnTo>
                  <a:pt x="25002" y="-30947"/>
                </a:lnTo>
                <a:lnTo>
                  <a:pt x="30722" y="30730"/>
                </a:lnTo>
                <a:lnTo>
                  <a:pt x="-30958" y="25010"/>
                </a:lnTo>
                <a:lnTo>
                  <a:pt x="-29545" y="18008"/>
                </a:lnTo>
                <a:lnTo>
                  <a:pt x="-30958" y="10999"/>
                </a:lnTo>
                <a:lnTo>
                  <a:pt x="30722" y="5275"/>
                </a:lnTo>
                <a:lnTo>
                  <a:pt x="25002" y="1415"/>
                </a:lnTo>
                <a:lnTo>
                  <a:pt x="17995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9" name="object 56"/>
          <p:cNvSpPr/>
          <p:nvPr/>
        </p:nvSpPr>
        <p:spPr>
          <a:xfrm>
            <a:off x="785880" y="5470560"/>
            <a:ext cx="468360" cy="176040"/>
          </a:xfrm>
          <a:custGeom>
            <a:avLst/>
            <a:gdLst/>
            <a:ahLst/>
            <a:rect l="l" t="t" r="r" b="b"/>
            <a:pathLst>
              <a:path w="1179195" h="495300">
                <a:moveTo>
                  <a:pt x="1179004" y="0"/>
                </a:moveTo>
                <a:lnTo>
                  <a:pt x="0" y="0"/>
                </a:lnTo>
                <a:lnTo>
                  <a:pt x="0" y="494995"/>
                </a:lnTo>
                <a:lnTo>
                  <a:pt x="1179004" y="494995"/>
                </a:lnTo>
                <a:lnTo>
                  <a:pt x="1179004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0" name="テキスト ボックス 430"/>
          <p:cNvSpPr/>
          <p:nvPr/>
        </p:nvSpPr>
        <p:spPr>
          <a:xfrm>
            <a:off x="865080" y="5505480"/>
            <a:ext cx="362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600" spc="-1" strike="noStrike">
                <a:solidFill>
                  <a:srgbClr val="ffffff"/>
                </a:solidFill>
                <a:latin typeface="游ゴシック"/>
                <a:ea typeface="游ゴシック"/>
              </a:rPr>
              <a:t>新しい窓</a:t>
            </a: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1" name="テキスト ボックス 885"/>
          <p:cNvSpPr/>
          <p:nvPr/>
        </p:nvSpPr>
        <p:spPr>
          <a:xfrm>
            <a:off x="2844720" y="4756320"/>
            <a:ext cx="222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※</a:t>
            </a:r>
            <a:r>
              <a:rPr b="0" lang="ja-JP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樹脂製や木製のサッシには取付できません。</a:t>
            </a:r>
            <a:r>
              <a:rPr b="0" lang="en-US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※</a:t>
            </a:r>
            <a:r>
              <a:rPr b="0" lang="ja-JP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取付可否については、商品カタログをご確認ください。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672" name="グループ化 448"/>
          <p:cNvGrpSpPr/>
          <p:nvPr/>
        </p:nvGrpSpPr>
        <p:grpSpPr>
          <a:xfrm>
            <a:off x="2814480" y="5937120"/>
            <a:ext cx="449280" cy="122400"/>
            <a:chOff x="2814480" y="5937120"/>
            <a:chExt cx="449280" cy="122400"/>
          </a:xfrm>
        </p:grpSpPr>
        <p:sp>
          <p:nvSpPr>
            <p:cNvPr id="673" name="object 218"/>
            <p:cNvSpPr/>
            <p:nvPr/>
          </p:nvSpPr>
          <p:spPr>
            <a:xfrm>
              <a:off x="2814480" y="5937120"/>
              <a:ext cx="449280" cy="122400"/>
            </a:xfrm>
            <a:prstGeom prst="rect">
              <a:avLst/>
            </a:prstGeom>
            <a:noFill/>
            <a:ln w="3600">
              <a:solidFill>
                <a:srgbClr val="d79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674" name="object 218"/>
            <p:cNvSpPr/>
            <p:nvPr/>
          </p:nvSpPr>
          <p:spPr>
            <a:xfrm>
              <a:off x="2815920" y="5960880"/>
              <a:ext cx="44784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d79c56"/>
                  </a:solidFill>
                  <a:latin typeface="游ゴシック"/>
                  <a:ea typeface="游ゴシック"/>
                </a:rPr>
                <a:t>TW</a:t>
              </a:r>
              <a:r>
                <a:rPr b="1" lang="ja-JP" sz="700" spc="-1" strike="noStrike">
                  <a:solidFill>
                    <a:srgbClr val="d79c56"/>
                  </a:solidFill>
                  <a:latin typeface="游ゴシック"/>
                  <a:ea typeface="游ゴシック"/>
                </a:rPr>
                <a:t>用</a:t>
              </a:r>
              <a:endParaRPr b="0" lang="en-US" sz="7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pic>
        <p:nvPicPr>
          <p:cNvPr id="675" name="object 201" descr=""/>
          <p:cNvPicPr/>
          <p:nvPr/>
        </p:nvPicPr>
        <p:blipFill>
          <a:blip r:embed="rId28"/>
          <a:stretch/>
        </p:blipFill>
        <p:spPr>
          <a:xfrm>
            <a:off x="2897280" y="6122880"/>
            <a:ext cx="231840" cy="374760"/>
          </a:xfrm>
          <a:prstGeom prst="rect">
            <a:avLst/>
          </a:prstGeom>
          <a:ln w="0">
            <a:noFill/>
          </a:ln>
        </p:spPr>
      </p:pic>
      <p:pic>
        <p:nvPicPr>
          <p:cNvPr id="676" name="object 202" descr=""/>
          <p:cNvPicPr/>
          <p:nvPr/>
        </p:nvPicPr>
        <p:blipFill>
          <a:blip r:embed="rId29"/>
          <a:stretch/>
        </p:blipFill>
        <p:spPr>
          <a:xfrm>
            <a:off x="3792600" y="6122880"/>
            <a:ext cx="369720" cy="358920"/>
          </a:xfrm>
          <a:prstGeom prst="rect">
            <a:avLst/>
          </a:prstGeom>
          <a:ln w="0">
            <a:noFill/>
          </a:ln>
        </p:spPr>
      </p:pic>
      <p:pic>
        <p:nvPicPr>
          <p:cNvPr id="677" name="object 203" descr=""/>
          <p:cNvPicPr/>
          <p:nvPr/>
        </p:nvPicPr>
        <p:blipFill>
          <a:blip r:embed="rId30"/>
          <a:stretch/>
        </p:blipFill>
        <p:spPr>
          <a:xfrm>
            <a:off x="3351240" y="6122880"/>
            <a:ext cx="230040" cy="374760"/>
          </a:xfrm>
          <a:prstGeom prst="rect">
            <a:avLst/>
          </a:prstGeom>
          <a:ln w="0">
            <a:noFill/>
          </a:ln>
        </p:spPr>
      </p:pic>
      <p:pic>
        <p:nvPicPr>
          <p:cNvPr id="678" name="object 204" descr=""/>
          <p:cNvPicPr/>
          <p:nvPr/>
        </p:nvPicPr>
        <p:blipFill>
          <a:blip r:embed="rId31"/>
          <a:stretch/>
        </p:blipFill>
        <p:spPr>
          <a:xfrm>
            <a:off x="4384800" y="6129360"/>
            <a:ext cx="183960" cy="361800"/>
          </a:xfrm>
          <a:prstGeom prst="rect">
            <a:avLst/>
          </a:prstGeom>
          <a:ln w="0">
            <a:noFill/>
          </a:ln>
        </p:spPr>
      </p:pic>
      <p:pic>
        <p:nvPicPr>
          <p:cNvPr id="679" name="object 205" descr=""/>
          <p:cNvPicPr/>
          <p:nvPr/>
        </p:nvPicPr>
        <p:blipFill>
          <a:blip r:embed="rId32"/>
          <a:stretch/>
        </p:blipFill>
        <p:spPr>
          <a:xfrm>
            <a:off x="4807080" y="6119640"/>
            <a:ext cx="152280" cy="379440"/>
          </a:xfrm>
          <a:prstGeom prst="rect">
            <a:avLst/>
          </a:prstGeom>
          <a:ln w="0">
            <a:noFill/>
          </a:ln>
        </p:spPr>
      </p:pic>
      <p:grpSp>
        <p:nvGrpSpPr>
          <p:cNvPr id="680" name="グループ化 462"/>
          <p:cNvGrpSpPr/>
          <p:nvPr/>
        </p:nvGrpSpPr>
        <p:grpSpPr>
          <a:xfrm>
            <a:off x="7926480" y="1162080"/>
            <a:ext cx="469800" cy="126360"/>
            <a:chOff x="7926480" y="1162080"/>
            <a:chExt cx="469800" cy="126360"/>
          </a:xfrm>
        </p:grpSpPr>
        <p:sp>
          <p:nvSpPr>
            <p:cNvPr id="681" name="object 218"/>
            <p:cNvSpPr/>
            <p:nvPr/>
          </p:nvSpPr>
          <p:spPr>
            <a:xfrm>
              <a:off x="7947000" y="1162080"/>
              <a:ext cx="449280" cy="122400"/>
            </a:xfrm>
            <a:prstGeom prst="rect">
              <a:avLst/>
            </a:prstGeom>
            <a:noFill/>
            <a:ln w="3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682" name="object 218"/>
            <p:cNvSpPr/>
            <p:nvPr/>
          </p:nvSpPr>
          <p:spPr>
            <a:xfrm>
              <a:off x="7926480" y="1181520"/>
              <a:ext cx="465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595959"/>
                  </a:solidFill>
                  <a:latin typeface="游ゴシック"/>
                  <a:ea typeface="游ゴシック"/>
                </a:rPr>
                <a:t>BEFORE</a:t>
              </a:r>
              <a:endParaRPr b="0" lang="en-US" sz="7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683" name="グループ化 465"/>
          <p:cNvGrpSpPr/>
          <p:nvPr/>
        </p:nvGrpSpPr>
        <p:grpSpPr>
          <a:xfrm>
            <a:off x="2787480" y="4422600"/>
            <a:ext cx="473400" cy="126360"/>
            <a:chOff x="2787480" y="4422600"/>
            <a:chExt cx="473400" cy="126360"/>
          </a:xfrm>
        </p:grpSpPr>
        <p:sp>
          <p:nvSpPr>
            <p:cNvPr id="684" name="object 218"/>
            <p:cNvSpPr/>
            <p:nvPr/>
          </p:nvSpPr>
          <p:spPr>
            <a:xfrm>
              <a:off x="2811240" y="4422600"/>
              <a:ext cx="449640" cy="122760"/>
            </a:xfrm>
            <a:prstGeom prst="rect">
              <a:avLst/>
            </a:prstGeom>
            <a:noFill/>
            <a:ln w="3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685" name="object 218"/>
            <p:cNvSpPr/>
            <p:nvPr/>
          </p:nvSpPr>
          <p:spPr>
            <a:xfrm>
              <a:off x="2787480" y="4442040"/>
              <a:ext cx="46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595959"/>
                  </a:solidFill>
                  <a:latin typeface="游ゴシック"/>
                  <a:ea typeface="游ゴシック"/>
                </a:rPr>
                <a:t>BEFORE</a:t>
              </a:r>
              <a:endParaRPr b="0" lang="en-US" sz="7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686" name="グループ化 468"/>
          <p:cNvGrpSpPr/>
          <p:nvPr/>
        </p:nvGrpSpPr>
        <p:grpSpPr>
          <a:xfrm>
            <a:off x="7923240" y="4402080"/>
            <a:ext cx="473040" cy="126360"/>
            <a:chOff x="7923240" y="4402080"/>
            <a:chExt cx="473040" cy="126360"/>
          </a:xfrm>
        </p:grpSpPr>
        <p:sp>
          <p:nvSpPr>
            <p:cNvPr id="687" name="object 218"/>
            <p:cNvSpPr/>
            <p:nvPr/>
          </p:nvSpPr>
          <p:spPr>
            <a:xfrm>
              <a:off x="7947000" y="4402080"/>
              <a:ext cx="449280" cy="122400"/>
            </a:xfrm>
            <a:prstGeom prst="rect">
              <a:avLst/>
            </a:prstGeom>
            <a:noFill/>
            <a:ln w="3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688" name="object 218"/>
            <p:cNvSpPr/>
            <p:nvPr/>
          </p:nvSpPr>
          <p:spPr>
            <a:xfrm>
              <a:off x="7923240" y="4421520"/>
              <a:ext cx="465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595959"/>
                  </a:solidFill>
                  <a:latin typeface="游ゴシック"/>
                  <a:ea typeface="游ゴシック"/>
                </a:rPr>
                <a:t>BEFORE</a:t>
              </a:r>
              <a:endParaRPr b="0" lang="en-US" sz="7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689" name="テキスト ボックス 885"/>
          <p:cNvSpPr/>
          <p:nvPr/>
        </p:nvSpPr>
        <p:spPr>
          <a:xfrm>
            <a:off x="7969320" y="1469880"/>
            <a:ext cx="2255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※</a:t>
            </a:r>
            <a:r>
              <a:rPr b="0" lang="ja-JP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樹脂製や木製のサッシには取付できません。</a:t>
            </a:r>
            <a:r>
              <a:rPr b="0" lang="en-US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※</a:t>
            </a:r>
            <a:r>
              <a:rPr b="0" lang="ja-JP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取付可否については、商品カタログをご確認ください。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690" name="グループ化 477"/>
          <p:cNvGrpSpPr/>
          <p:nvPr/>
        </p:nvGrpSpPr>
        <p:grpSpPr>
          <a:xfrm>
            <a:off x="7989840" y="2471760"/>
            <a:ext cx="2297160" cy="1091160"/>
            <a:chOff x="7989840" y="2471760"/>
            <a:chExt cx="2297160" cy="1091160"/>
          </a:xfrm>
        </p:grpSpPr>
        <p:pic>
          <p:nvPicPr>
            <p:cNvPr id="691" name="object 206" descr=""/>
            <p:cNvPicPr/>
            <p:nvPr/>
          </p:nvPicPr>
          <p:blipFill>
            <a:blip r:embed="rId33"/>
            <a:stretch/>
          </p:blipFill>
          <p:spPr>
            <a:xfrm>
              <a:off x="8028720" y="2483640"/>
              <a:ext cx="312480" cy="36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object 207" descr=""/>
            <p:cNvPicPr/>
            <p:nvPr/>
          </p:nvPicPr>
          <p:blipFill>
            <a:blip r:embed="rId34"/>
            <a:stretch/>
          </p:blipFill>
          <p:spPr>
            <a:xfrm>
              <a:off x="8657640" y="2472120"/>
              <a:ext cx="31572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object 208" descr=""/>
            <p:cNvPicPr/>
            <p:nvPr/>
          </p:nvPicPr>
          <p:blipFill>
            <a:blip r:embed="rId35"/>
            <a:stretch/>
          </p:blipFill>
          <p:spPr>
            <a:xfrm>
              <a:off x="9299520" y="3019320"/>
              <a:ext cx="179280" cy="3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object 209" descr=""/>
            <p:cNvPicPr/>
            <p:nvPr/>
          </p:nvPicPr>
          <p:blipFill>
            <a:blip r:embed="rId36"/>
            <a:stretch/>
          </p:blipFill>
          <p:spPr>
            <a:xfrm>
              <a:off x="9255600" y="2471760"/>
              <a:ext cx="24372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object 210" descr=""/>
            <p:cNvPicPr/>
            <p:nvPr/>
          </p:nvPicPr>
          <p:blipFill>
            <a:blip r:embed="rId37"/>
            <a:stretch/>
          </p:blipFill>
          <p:spPr>
            <a:xfrm>
              <a:off x="9846000" y="2572200"/>
              <a:ext cx="258840" cy="23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object 211" descr=""/>
            <p:cNvPicPr/>
            <p:nvPr/>
          </p:nvPicPr>
          <p:blipFill>
            <a:blip r:embed="rId38"/>
            <a:stretch/>
          </p:blipFill>
          <p:spPr>
            <a:xfrm>
              <a:off x="8067240" y="3107880"/>
              <a:ext cx="258840" cy="23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object 212" descr=""/>
            <p:cNvPicPr/>
            <p:nvPr/>
          </p:nvPicPr>
          <p:blipFill>
            <a:blip r:embed="rId39"/>
            <a:stretch/>
          </p:blipFill>
          <p:spPr>
            <a:xfrm>
              <a:off x="8735040" y="3011400"/>
              <a:ext cx="18360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object 213" descr=""/>
            <p:cNvPicPr/>
            <p:nvPr/>
          </p:nvPicPr>
          <p:blipFill>
            <a:blip r:embed="rId40"/>
            <a:stretch/>
          </p:blipFill>
          <p:spPr>
            <a:xfrm>
              <a:off x="9869040" y="2996280"/>
              <a:ext cx="209160" cy="38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object 214"/>
            <p:cNvSpPr/>
            <p:nvPr/>
          </p:nvSpPr>
          <p:spPr>
            <a:xfrm>
              <a:off x="8049960" y="2859120"/>
              <a:ext cx="306360" cy="9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760" bIns="0" anchor="t">
              <a:spAutoFit/>
            </a:bodyPr>
            <a:p>
              <a:pPr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引違い窓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700" name="object 214"/>
            <p:cNvSpPr/>
            <p:nvPr/>
          </p:nvSpPr>
          <p:spPr>
            <a:xfrm>
              <a:off x="8586720" y="2843280"/>
              <a:ext cx="51912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76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縦すべり出し窓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（オペレーター）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701" name="object 214"/>
            <p:cNvSpPr/>
            <p:nvPr/>
          </p:nvSpPr>
          <p:spPr>
            <a:xfrm>
              <a:off x="9167760" y="2843280"/>
              <a:ext cx="51732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76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縦すべり出し窓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（カムラッチ）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702" name="object 214"/>
            <p:cNvSpPr/>
            <p:nvPr/>
          </p:nvSpPr>
          <p:spPr>
            <a:xfrm>
              <a:off x="9725040" y="2843280"/>
              <a:ext cx="51732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76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横すべり出し窓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（オペレーター）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703" name="object 214"/>
            <p:cNvSpPr/>
            <p:nvPr/>
          </p:nvSpPr>
          <p:spPr>
            <a:xfrm>
              <a:off x="7989840" y="3395880"/>
              <a:ext cx="51732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76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横すべり出し窓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（カムラッチ）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704" name="object 214"/>
            <p:cNvSpPr/>
            <p:nvPr/>
          </p:nvSpPr>
          <p:spPr>
            <a:xfrm>
              <a:off x="8483400" y="3391200"/>
              <a:ext cx="63324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76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上げ下げ窓</a:t>
              </a:r>
              <a:r>
                <a:rPr b="0" lang="en-US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FS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（フラットスライド）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705" name="object 214"/>
            <p:cNvSpPr/>
            <p:nvPr/>
          </p:nvSpPr>
          <p:spPr>
            <a:xfrm>
              <a:off x="9070920" y="3391200"/>
              <a:ext cx="63504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76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FIX</a:t>
              </a: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窓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（外押縁タイプ）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706" name="object 214"/>
            <p:cNvSpPr/>
            <p:nvPr/>
          </p:nvSpPr>
          <p:spPr>
            <a:xfrm>
              <a:off x="9653760" y="3391200"/>
              <a:ext cx="63324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76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FIX</a:t>
              </a: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窓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500" spc="-1" strike="noStrike">
                  <a:solidFill>
                    <a:srgbClr val="140700"/>
                  </a:solidFill>
                  <a:latin typeface="游ゴシック"/>
                  <a:ea typeface="游ゴシック"/>
                </a:rPr>
                <a:t>（内押縁タイプ）</a:t>
              </a:r>
              <a:endParaRPr b="0" lang="en-US" sz="5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707" name="テキスト ボックス 885"/>
          <p:cNvSpPr/>
          <p:nvPr/>
        </p:nvSpPr>
        <p:spPr>
          <a:xfrm>
            <a:off x="7974000" y="4732200"/>
            <a:ext cx="2317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※</a:t>
            </a:r>
            <a:r>
              <a:rPr b="0" lang="ja-JP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既設サッシがシャッター付引違い窓・雨戸付引違い窓・出窓・外付サッシの場合は、同じ品種にのみ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    </a:t>
            </a:r>
            <a:r>
              <a:rPr b="0" lang="ja-JP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取り替えが可能です。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8" name="object 198"/>
          <p:cNvSpPr/>
          <p:nvPr/>
        </p:nvSpPr>
        <p:spPr>
          <a:xfrm>
            <a:off x="6178680" y="5567400"/>
            <a:ext cx="453960" cy="47520"/>
          </a:xfrm>
          <a:custGeom>
            <a:avLst/>
            <a:gdLst/>
            <a:ahLst/>
            <a:rect l="l" t="t" r="r" b="b"/>
            <a:pathLst>
              <a:path w="528319" h="45719">
                <a:moveTo>
                  <a:pt x="0" y="0"/>
                </a:moveTo>
                <a:lnTo>
                  <a:pt x="528307" y="0"/>
                </a:lnTo>
              </a:path>
            </a:pathLst>
          </a:custGeom>
          <a:noFill/>
          <a:ln w="9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9" name="object 199"/>
          <p:cNvSpPr/>
          <p:nvPr/>
        </p:nvSpPr>
        <p:spPr>
          <a:xfrm>
            <a:off x="6632640" y="5548320"/>
            <a:ext cx="36360" cy="36360"/>
          </a:xfrm>
          <a:custGeom>
            <a:avLst/>
            <a:gdLst/>
            <a:ahLst/>
            <a:rect l="l" t="t" r="r" b="b"/>
            <a:pathLst>
              <a:path w="36194" h="36195">
                <a:moveTo>
                  <a:pt x="17995" y="0"/>
                </a:moveTo>
                <a:lnTo>
                  <a:pt x="10988" y="1415"/>
                </a:lnTo>
                <a:lnTo>
                  <a:pt x="5268" y="5275"/>
                </a:lnTo>
                <a:lnTo>
                  <a:pt x="1413" y="10999"/>
                </a:lnTo>
                <a:lnTo>
                  <a:pt x="0" y="18008"/>
                </a:lnTo>
                <a:lnTo>
                  <a:pt x="1413" y="25010"/>
                </a:lnTo>
                <a:lnTo>
                  <a:pt x="5268" y="30730"/>
                </a:lnTo>
                <a:lnTo>
                  <a:pt x="10988" y="-30947"/>
                </a:lnTo>
                <a:lnTo>
                  <a:pt x="17995" y="-29532"/>
                </a:lnTo>
                <a:lnTo>
                  <a:pt x="25002" y="-30947"/>
                </a:lnTo>
                <a:lnTo>
                  <a:pt x="30722" y="30730"/>
                </a:lnTo>
                <a:lnTo>
                  <a:pt x="-30958" y="25010"/>
                </a:lnTo>
                <a:lnTo>
                  <a:pt x="-29545" y="18008"/>
                </a:lnTo>
                <a:lnTo>
                  <a:pt x="-30958" y="10999"/>
                </a:lnTo>
                <a:lnTo>
                  <a:pt x="30722" y="5275"/>
                </a:lnTo>
                <a:lnTo>
                  <a:pt x="25002" y="1415"/>
                </a:lnTo>
                <a:lnTo>
                  <a:pt x="179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710" name="グループ化 29"/>
          <p:cNvGrpSpPr/>
          <p:nvPr/>
        </p:nvGrpSpPr>
        <p:grpSpPr>
          <a:xfrm>
            <a:off x="5708520" y="4765680"/>
            <a:ext cx="578160" cy="471600"/>
            <a:chOff x="5708520" y="4765680"/>
            <a:chExt cx="578160" cy="471600"/>
          </a:xfrm>
        </p:grpSpPr>
        <p:sp>
          <p:nvSpPr>
            <p:cNvPr id="711" name="フリーフォーム: 図形 606"/>
            <p:cNvSpPr/>
            <p:nvPr/>
          </p:nvSpPr>
          <p:spPr>
            <a:xfrm flipH="1" rot="5400000">
              <a:off x="5914800" y="4812120"/>
              <a:ext cx="384480" cy="328680"/>
            </a:xfrm>
            <a:custGeom>
              <a:avLst/>
              <a:gdLst/>
              <a:ahLst/>
              <a:rect l="l" t="t" r="r" b="b"/>
              <a:pathLst>
                <a:path w="361336" h="235974">
                  <a:moveTo>
                    <a:pt x="361336" y="0"/>
                  </a:moveTo>
                  <a:lnTo>
                    <a:pt x="361336" y="235974"/>
                  </a:lnTo>
                  <a:lnTo>
                    <a:pt x="0" y="235974"/>
                  </a:lnTo>
                  <a:lnTo>
                    <a:pt x="0" y="235974"/>
                  </a:lnTo>
                </a:path>
              </a:pathLst>
            </a:custGeom>
            <a:noFill/>
            <a:ln w="9360">
              <a:solidFill>
                <a:srgbClr val="595959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712" name="object 55"/>
            <p:cNvSpPr/>
            <p:nvPr/>
          </p:nvSpPr>
          <p:spPr>
            <a:xfrm>
              <a:off x="6250320" y="4765680"/>
              <a:ext cx="36360" cy="34920"/>
            </a:xfrm>
            <a:custGeom>
              <a:avLst/>
              <a:gdLst/>
              <a:ahLst/>
              <a:rect l="l" t="t" r="r" b="b"/>
              <a:pathLst>
                <a:path w="36194" h="36195">
                  <a:moveTo>
                    <a:pt x="17995" y="0"/>
                  </a:moveTo>
                  <a:lnTo>
                    <a:pt x="10988" y="1415"/>
                  </a:lnTo>
                  <a:lnTo>
                    <a:pt x="5268" y="5275"/>
                  </a:lnTo>
                  <a:lnTo>
                    <a:pt x="1413" y="10999"/>
                  </a:lnTo>
                  <a:lnTo>
                    <a:pt x="0" y="18008"/>
                  </a:lnTo>
                  <a:lnTo>
                    <a:pt x="1413" y="25010"/>
                  </a:lnTo>
                  <a:lnTo>
                    <a:pt x="5268" y="30730"/>
                  </a:lnTo>
                  <a:lnTo>
                    <a:pt x="10988" y="-30947"/>
                  </a:lnTo>
                  <a:lnTo>
                    <a:pt x="17995" y="-29532"/>
                  </a:lnTo>
                  <a:lnTo>
                    <a:pt x="25002" y="-30947"/>
                  </a:lnTo>
                  <a:lnTo>
                    <a:pt x="30722" y="30730"/>
                  </a:lnTo>
                  <a:lnTo>
                    <a:pt x="-30958" y="25010"/>
                  </a:lnTo>
                  <a:lnTo>
                    <a:pt x="-29545" y="18008"/>
                  </a:lnTo>
                  <a:lnTo>
                    <a:pt x="-30958" y="10999"/>
                  </a:lnTo>
                  <a:lnTo>
                    <a:pt x="30722" y="5275"/>
                  </a:lnTo>
                  <a:lnTo>
                    <a:pt x="25002" y="1415"/>
                  </a:lnTo>
                  <a:lnTo>
                    <a:pt x="17995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713" name="object 56"/>
            <p:cNvSpPr/>
            <p:nvPr/>
          </p:nvSpPr>
          <p:spPr>
            <a:xfrm>
              <a:off x="5708520" y="5061240"/>
              <a:ext cx="468720" cy="176040"/>
            </a:xfrm>
            <a:custGeom>
              <a:avLst/>
              <a:gdLst/>
              <a:ahLst/>
              <a:rect l="l" t="t" r="r" b="b"/>
              <a:pathLst>
                <a:path w="1179195" h="495300">
                  <a:moveTo>
                    <a:pt x="1179004" y="0"/>
                  </a:moveTo>
                  <a:lnTo>
                    <a:pt x="0" y="0"/>
                  </a:lnTo>
                  <a:lnTo>
                    <a:pt x="0" y="494995"/>
                  </a:lnTo>
                  <a:lnTo>
                    <a:pt x="1179004" y="494995"/>
                  </a:lnTo>
                  <a:lnTo>
                    <a:pt x="11790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714" name="テキスト ボックス 430"/>
            <p:cNvSpPr/>
            <p:nvPr/>
          </p:nvSpPr>
          <p:spPr>
            <a:xfrm>
              <a:off x="5786280" y="5096160"/>
              <a:ext cx="3621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600" spc="-1" strike="noStrike">
                  <a:solidFill>
                    <a:srgbClr val="ffffff"/>
                  </a:solidFill>
                  <a:latin typeface="游ゴシック"/>
                  <a:ea typeface="游ゴシック"/>
                </a:rPr>
                <a:t>新しい窓</a:t>
              </a:r>
              <a:endParaRPr b="0" lang="en-US" sz="6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715" name="object 56"/>
          <p:cNvSpPr/>
          <p:nvPr/>
        </p:nvSpPr>
        <p:spPr>
          <a:xfrm>
            <a:off x="5705640" y="5478480"/>
            <a:ext cx="647640" cy="168120"/>
          </a:xfrm>
          <a:custGeom>
            <a:avLst/>
            <a:gdLst/>
            <a:ahLst/>
            <a:rect l="l" t="t" r="r" b="b"/>
            <a:pathLst>
              <a:path w="1179195" h="495300">
                <a:moveTo>
                  <a:pt x="1179004" y="0"/>
                </a:moveTo>
                <a:lnTo>
                  <a:pt x="0" y="0"/>
                </a:lnTo>
                <a:lnTo>
                  <a:pt x="0" y="494995"/>
                </a:lnTo>
                <a:lnTo>
                  <a:pt x="1179004" y="494995"/>
                </a:lnTo>
                <a:lnTo>
                  <a:pt x="117900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6" name="テキスト ボックス 430"/>
          <p:cNvSpPr/>
          <p:nvPr/>
        </p:nvSpPr>
        <p:spPr>
          <a:xfrm>
            <a:off x="5746680" y="5508720"/>
            <a:ext cx="673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600" spc="-1" strike="noStrike">
                <a:solidFill>
                  <a:srgbClr val="595959"/>
                </a:solidFill>
                <a:latin typeface="游ゴシック"/>
                <a:ea typeface="游ゴシック"/>
              </a:rPr>
              <a:t>汎用カットモール</a:t>
            </a: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717" name="テキスト ボックス 4" descr=""/>
          <p:cNvPicPr/>
          <p:nvPr/>
        </p:nvPicPr>
        <p:blipFill>
          <a:blip r:embed="rId41"/>
          <a:stretch/>
        </p:blipFill>
        <p:spPr>
          <a:xfrm>
            <a:off x="590400" y="1974960"/>
            <a:ext cx="586080" cy="139680"/>
          </a:xfrm>
          <a:prstGeom prst="rect">
            <a:avLst/>
          </a:prstGeom>
          <a:ln w="0">
            <a:noFill/>
          </a:ln>
        </p:spPr>
      </p:pic>
      <p:sp>
        <p:nvSpPr>
          <p:cNvPr id="718" name="直線コネクタ 309"/>
          <p:cNvSpPr/>
          <p:nvPr/>
        </p:nvSpPr>
        <p:spPr>
          <a:xfrm>
            <a:off x="595440" y="2139840"/>
            <a:ext cx="44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9" name="直線コネクタ 310"/>
          <p:cNvSpPr/>
          <p:nvPr/>
        </p:nvSpPr>
        <p:spPr>
          <a:xfrm>
            <a:off x="595440" y="2170080"/>
            <a:ext cx="44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0" name="object 25"/>
          <p:cNvSpPr/>
          <p:nvPr/>
        </p:nvSpPr>
        <p:spPr>
          <a:xfrm>
            <a:off x="1046160" y="628560"/>
            <a:ext cx="164772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TW</a:t>
            </a:r>
            <a:r>
              <a:rPr b="1" lang="ja-JP" sz="12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タイプ・居室仕様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1" name="object 14"/>
          <p:cNvSpPr/>
          <p:nvPr/>
        </p:nvSpPr>
        <p:spPr>
          <a:xfrm>
            <a:off x="357120" y="806400"/>
            <a:ext cx="102240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760" bIns="0" anchor="t">
            <a:spAutoFit/>
          </a:bodyPr>
          <a:p>
            <a:pPr marL="1260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2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居室仕様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2" name="テキスト ボックス 370"/>
          <p:cNvSpPr/>
          <p:nvPr/>
        </p:nvSpPr>
        <p:spPr>
          <a:xfrm>
            <a:off x="2017800" y="2917800"/>
            <a:ext cx="7189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❸ 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樹脂アングルカバー</a:t>
            </a:r>
            <a:r>
              <a:rPr b="1" lang="en-US" sz="500" spc="-1" strike="noStrike" baseline="30000">
                <a:solidFill>
                  <a:srgbClr val="140700"/>
                </a:solidFill>
                <a:latin typeface="游ゴシック"/>
                <a:ea typeface="游ゴシック"/>
              </a:rPr>
              <a:t>※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と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     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化粧カバーを取付て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     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完了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723" name="図 11" descr=""/>
          <p:cNvPicPr/>
          <p:nvPr/>
        </p:nvPicPr>
        <p:blipFill>
          <a:blip r:embed="rId42"/>
          <a:stretch/>
        </p:blipFill>
        <p:spPr>
          <a:xfrm>
            <a:off x="1433520" y="6340320"/>
            <a:ext cx="387360" cy="379440"/>
          </a:xfrm>
          <a:prstGeom prst="rect">
            <a:avLst/>
          </a:prstGeom>
          <a:ln w="0">
            <a:noFill/>
          </a:ln>
        </p:spPr>
      </p:pic>
      <p:pic>
        <p:nvPicPr>
          <p:cNvPr id="724" name="図 14" descr=""/>
          <p:cNvPicPr/>
          <p:nvPr/>
        </p:nvPicPr>
        <p:blipFill>
          <a:blip r:embed="rId43"/>
          <a:stretch/>
        </p:blipFill>
        <p:spPr>
          <a:xfrm>
            <a:off x="642960" y="6316560"/>
            <a:ext cx="360360" cy="416160"/>
          </a:xfrm>
          <a:prstGeom prst="rect">
            <a:avLst/>
          </a:prstGeom>
          <a:ln w="0">
            <a:noFill/>
          </a:ln>
        </p:spPr>
      </p:pic>
      <p:pic>
        <p:nvPicPr>
          <p:cNvPr id="725" name="図 15" descr=""/>
          <p:cNvPicPr/>
          <p:nvPr/>
        </p:nvPicPr>
        <p:blipFill>
          <a:blip r:embed="rId44"/>
          <a:stretch/>
        </p:blipFill>
        <p:spPr>
          <a:xfrm>
            <a:off x="2249640" y="6342120"/>
            <a:ext cx="406080" cy="393480"/>
          </a:xfrm>
          <a:prstGeom prst="rect">
            <a:avLst/>
          </a:prstGeom>
          <a:ln w="0">
            <a:noFill/>
          </a:ln>
        </p:spPr>
      </p:pic>
      <p:sp>
        <p:nvSpPr>
          <p:cNvPr id="726" name="テキスト ボックス 341"/>
          <p:cNvSpPr/>
          <p:nvPr/>
        </p:nvSpPr>
        <p:spPr>
          <a:xfrm>
            <a:off x="2087640" y="6157800"/>
            <a:ext cx="75888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❸  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樹脂アングルカバーと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         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化粧カバーをかぶせて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          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完了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7" name="テキスト ボックス 1556"/>
          <p:cNvSpPr/>
          <p:nvPr/>
        </p:nvSpPr>
        <p:spPr>
          <a:xfrm>
            <a:off x="2052720" y="6765840"/>
            <a:ext cx="7938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※</a:t>
            </a:r>
            <a:r>
              <a:rPr b="0" lang="ja-JP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イラストはサーモス用です。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8" name="Rectangle 9"/>
          <p:cNvSpPr/>
          <p:nvPr/>
        </p:nvSpPr>
        <p:spPr>
          <a:xfrm>
            <a:off x="1433520" y="7310520"/>
            <a:ext cx="1260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SPD_sas_22_05</a:t>
            </a: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2025.8.18</a:t>
            </a:r>
            <a:r>
              <a:rPr b="0" lang="ja-JP" sz="600" spc="-1" strike="noStrike">
                <a:solidFill>
                  <a:srgbClr val="54585a"/>
                </a:solidFill>
                <a:latin typeface="游ゴシック"/>
                <a:ea typeface="游ゴシック"/>
              </a:rPr>
              <a:t>発行</a:t>
            </a: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9" name="テキスト ボックス 369"/>
          <p:cNvSpPr/>
          <p:nvPr/>
        </p:nvSpPr>
        <p:spPr>
          <a:xfrm>
            <a:off x="6453360" y="2948040"/>
            <a:ext cx="5727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❷ 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新しい窓を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     </a:t>
            </a:r>
            <a:r>
              <a:rPr b="1" lang="ja-JP" sz="5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取付ける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730" name="グループ化 14"/>
          <p:cNvGrpSpPr/>
          <p:nvPr/>
        </p:nvGrpSpPr>
        <p:grpSpPr>
          <a:xfrm>
            <a:off x="8004240" y="6519960"/>
            <a:ext cx="2263680" cy="250560"/>
            <a:chOff x="8004240" y="6519960"/>
            <a:chExt cx="2263680" cy="250560"/>
          </a:xfrm>
        </p:grpSpPr>
        <p:pic>
          <p:nvPicPr>
            <p:cNvPr id="731" name="object 107" descr=""/>
            <p:cNvPicPr/>
            <p:nvPr/>
          </p:nvPicPr>
          <p:blipFill>
            <a:blip r:embed="rId45"/>
            <a:stretch/>
          </p:blipFill>
          <p:spPr>
            <a:xfrm>
              <a:off x="8651160" y="6519960"/>
              <a:ext cx="13140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object 108" descr=""/>
            <p:cNvPicPr/>
            <p:nvPr/>
          </p:nvPicPr>
          <p:blipFill>
            <a:blip r:embed="rId46"/>
            <a:stretch/>
          </p:blipFill>
          <p:spPr>
            <a:xfrm>
              <a:off x="9738720" y="6559560"/>
              <a:ext cx="227880" cy="1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object 109" descr=""/>
            <p:cNvPicPr/>
            <p:nvPr/>
          </p:nvPicPr>
          <p:blipFill>
            <a:blip r:embed="rId47"/>
            <a:stretch/>
          </p:blipFill>
          <p:spPr>
            <a:xfrm>
              <a:off x="9493560" y="6559560"/>
              <a:ext cx="170640" cy="1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object 110" descr=""/>
            <p:cNvPicPr/>
            <p:nvPr/>
          </p:nvPicPr>
          <p:blipFill>
            <a:blip r:embed="rId48"/>
            <a:stretch/>
          </p:blipFill>
          <p:spPr>
            <a:xfrm>
              <a:off x="9282960" y="6519960"/>
              <a:ext cx="1353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object 111" descr=""/>
            <p:cNvPicPr/>
            <p:nvPr/>
          </p:nvPicPr>
          <p:blipFill>
            <a:blip r:embed="rId49"/>
            <a:stretch/>
          </p:blipFill>
          <p:spPr>
            <a:xfrm>
              <a:off x="8442000" y="6519960"/>
              <a:ext cx="12708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object 112" descr=""/>
            <p:cNvPicPr/>
            <p:nvPr/>
          </p:nvPicPr>
          <p:blipFill>
            <a:blip r:embed="rId50"/>
            <a:stretch/>
          </p:blipFill>
          <p:spPr>
            <a:xfrm>
              <a:off x="8864640" y="6519960"/>
              <a:ext cx="12708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object 113" descr=""/>
            <p:cNvPicPr/>
            <p:nvPr/>
          </p:nvPicPr>
          <p:blipFill>
            <a:blip r:embed="rId51"/>
            <a:stretch/>
          </p:blipFill>
          <p:spPr>
            <a:xfrm>
              <a:off x="9070920" y="6519960"/>
              <a:ext cx="13644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object 114" descr=""/>
            <p:cNvPicPr/>
            <p:nvPr/>
          </p:nvPicPr>
          <p:blipFill>
            <a:blip r:embed="rId52"/>
            <a:stretch/>
          </p:blipFill>
          <p:spPr>
            <a:xfrm>
              <a:off x="10017360" y="651996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object 115" descr=""/>
            <p:cNvPicPr/>
            <p:nvPr/>
          </p:nvPicPr>
          <p:blipFill>
            <a:blip r:embed="rId53"/>
            <a:stretch/>
          </p:blipFill>
          <p:spPr>
            <a:xfrm>
              <a:off x="8004240" y="6574680"/>
              <a:ext cx="358560" cy="16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0" name="グループ化 13"/>
          <p:cNvGrpSpPr/>
          <p:nvPr/>
        </p:nvGrpSpPr>
        <p:grpSpPr>
          <a:xfrm>
            <a:off x="8004240" y="6105600"/>
            <a:ext cx="2263680" cy="338040"/>
            <a:chOff x="8004240" y="6105600"/>
            <a:chExt cx="2263680" cy="338040"/>
          </a:xfrm>
        </p:grpSpPr>
        <p:pic>
          <p:nvPicPr>
            <p:cNvPr id="741" name="object 116" descr=""/>
            <p:cNvPicPr/>
            <p:nvPr/>
          </p:nvPicPr>
          <p:blipFill>
            <a:blip r:embed="rId54"/>
            <a:stretch/>
          </p:blipFill>
          <p:spPr>
            <a:xfrm>
              <a:off x="8004240" y="6149160"/>
              <a:ext cx="20484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object 117" descr=""/>
            <p:cNvPicPr/>
            <p:nvPr/>
          </p:nvPicPr>
          <p:blipFill>
            <a:blip r:embed="rId55"/>
            <a:stretch/>
          </p:blipFill>
          <p:spPr>
            <a:xfrm>
              <a:off x="8916840" y="6149160"/>
              <a:ext cx="28224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object 118" descr=""/>
            <p:cNvPicPr/>
            <p:nvPr/>
          </p:nvPicPr>
          <p:blipFill>
            <a:blip r:embed="rId56"/>
            <a:stretch/>
          </p:blipFill>
          <p:spPr>
            <a:xfrm>
              <a:off x="8573760" y="614916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object 119" descr=""/>
            <p:cNvPicPr/>
            <p:nvPr/>
          </p:nvPicPr>
          <p:blipFill>
            <a:blip r:embed="rId57"/>
            <a:stretch/>
          </p:blipFill>
          <p:spPr>
            <a:xfrm>
              <a:off x="8300160" y="6149160"/>
              <a:ext cx="1821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object 120" descr=""/>
            <p:cNvPicPr/>
            <p:nvPr/>
          </p:nvPicPr>
          <p:blipFill>
            <a:blip r:embed="rId58"/>
            <a:stretch/>
          </p:blipFill>
          <p:spPr>
            <a:xfrm>
              <a:off x="10064520" y="6122160"/>
              <a:ext cx="2034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object 121" descr=""/>
            <p:cNvPicPr/>
            <p:nvPr/>
          </p:nvPicPr>
          <p:blipFill>
            <a:blip r:embed="rId59"/>
            <a:stretch/>
          </p:blipFill>
          <p:spPr>
            <a:xfrm>
              <a:off x="9799920" y="6122160"/>
              <a:ext cx="1972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object 122" descr=""/>
            <p:cNvPicPr/>
            <p:nvPr/>
          </p:nvPicPr>
          <p:blipFill>
            <a:blip r:embed="rId60"/>
            <a:stretch/>
          </p:blipFill>
          <p:spPr>
            <a:xfrm>
              <a:off x="9545760" y="6116400"/>
              <a:ext cx="16308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object 123" descr=""/>
            <p:cNvPicPr/>
            <p:nvPr/>
          </p:nvPicPr>
          <p:blipFill>
            <a:blip r:embed="rId61"/>
            <a:stretch/>
          </p:blipFill>
          <p:spPr>
            <a:xfrm>
              <a:off x="9291600" y="6105600"/>
              <a:ext cx="163080" cy="33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9" name="正方形/長方形 70"/>
          <p:cNvSpPr/>
          <p:nvPr/>
        </p:nvSpPr>
        <p:spPr>
          <a:xfrm>
            <a:off x="8991720" y="6948360"/>
            <a:ext cx="15984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※ </a:t>
            </a:r>
            <a:r>
              <a:rPr b="0" lang="ja-JP" sz="500" spc="-1" strike="noStrike">
                <a:solidFill>
                  <a:srgbClr val="494747"/>
                </a:solidFill>
                <a:latin typeface="Yu Gothic Medium"/>
                <a:ea typeface="Yu Gothic Medium"/>
              </a:rPr>
              <a:t>施工時間は、現場の状況により異なります。</a:t>
            </a:r>
            <a:endParaRPr b="0" lang="en-US" sz="5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0" name="object 25"/>
          <p:cNvSpPr/>
          <p:nvPr/>
        </p:nvSpPr>
        <p:spPr>
          <a:xfrm>
            <a:off x="1046160" y="790560"/>
            <a:ext cx="1020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EW</a:t>
            </a:r>
            <a:r>
              <a:rPr b="1" lang="ja-JP" sz="12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タイプ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1" name="テキスト ボックス 1556"/>
          <p:cNvSpPr/>
          <p:nvPr/>
        </p:nvSpPr>
        <p:spPr>
          <a:xfrm>
            <a:off x="2151000" y="2529000"/>
            <a:ext cx="614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" spc="-1" strike="noStrike">
                <a:solidFill>
                  <a:srgbClr val="ffffff"/>
                </a:solidFill>
                <a:latin typeface="游ゴシック"/>
                <a:ea typeface="游ゴシック"/>
              </a:rPr>
              <a:t>※</a:t>
            </a:r>
            <a:r>
              <a:rPr b="1" lang="ja-JP" sz="400" spc="-1" strike="noStrike">
                <a:solidFill>
                  <a:srgbClr val="ffffff"/>
                </a:solidFill>
                <a:latin typeface="游ゴシック"/>
                <a:ea typeface="游ゴシック"/>
              </a:rPr>
              <a:t>画像は居室仕様です。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2" name="テキスト ボックス 885"/>
          <p:cNvSpPr/>
          <p:nvPr/>
        </p:nvSpPr>
        <p:spPr>
          <a:xfrm>
            <a:off x="1897200" y="3538440"/>
            <a:ext cx="919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※</a:t>
            </a:r>
            <a:r>
              <a:rPr b="0" lang="en-US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EW</a:t>
            </a:r>
            <a:r>
              <a:rPr b="0" lang="ja-JP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タイプの場合は室内樹脂カバーです。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3" name="テキスト ボックス 885"/>
          <p:cNvSpPr/>
          <p:nvPr/>
        </p:nvSpPr>
        <p:spPr>
          <a:xfrm>
            <a:off x="2803680" y="3538440"/>
            <a:ext cx="2211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※</a:t>
            </a:r>
            <a:r>
              <a:rPr b="0" lang="ja-JP" sz="400" spc="-1" strike="noStrike">
                <a:solidFill>
                  <a:srgbClr val="140700"/>
                </a:solidFill>
                <a:latin typeface="游ゴシック"/>
                <a:ea typeface="游ゴシック"/>
              </a:rPr>
              <a:t>各シリーズで新しく設置できる窓の種類が異なります。詳細は商品カタログを参照ください。</a:t>
            </a:r>
            <a:endParaRPr b="0" lang="en-US" sz="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4" name="object 217"/>
          <p:cNvSpPr/>
          <p:nvPr/>
        </p:nvSpPr>
        <p:spPr>
          <a:xfrm>
            <a:off x="7972560" y="1338120"/>
            <a:ext cx="229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メーカー・シリーズを問わず、さまざまな種類の窓が取替可能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5" name="object 217"/>
          <p:cNvSpPr/>
          <p:nvPr/>
        </p:nvSpPr>
        <p:spPr>
          <a:xfrm>
            <a:off x="2833560" y="4602240"/>
            <a:ext cx="23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メーカー・シリーズを問わず、さまざまな種類の窓が取替可能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6" name="object 217"/>
          <p:cNvSpPr/>
          <p:nvPr/>
        </p:nvSpPr>
        <p:spPr>
          <a:xfrm>
            <a:off x="7972560" y="4572000"/>
            <a:ext cx="231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700" spc="-1" strike="noStrike">
                <a:solidFill>
                  <a:srgbClr val="4d4d4d"/>
                </a:solidFill>
                <a:latin typeface="游ゴシック"/>
                <a:ea typeface="游ゴシック"/>
              </a:rPr>
              <a:t>メーカー・シリーズを問わず、さまざまな種類の窓が取替可能。</a:t>
            </a: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2:55:25Z</dcterms:created>
  <dc:creator>INAXトステムグループ User;株式会社LIXIL</dc:creator>
  <dc:description/>
  <dc:language>en-US</dc:language>
  <cp:lastModifiedBy>前野 朋子(Tomoko Maeno)</cp:lastModifiedBy>
  <cp:lastPrinted>2021-12-20T06:25:45Z</cp:lastPrinted>
  <dcterms:modified xsi:type="dcterms:W3CDTF">2025-08-08T07:29:27Z</dcterms:modified>
  <cp:revision>1096</cp:revision>
  <dc:subject/>
  <dc:title>01_リプラス_商品提案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JPFS0378-1162114063-57496</vt:lpwstr>
  </property>
  <property fmtid="{D5CDD505-2E9C-101B-9397-08002B2CF9AE}" pid="3" name="_dlc_DocIdItemGuid">
    <vt:lpwstr>cd56dec4-7554-4b87-b4a6-bc51a0d3aed2</vt:lpwstr>
  </property>
  <property fmtid="{D5CDD505-2E9C-101B-9397-08002B2CF9AE}" pid="4" name="_dlc_DocIdUrl">
    <vt:lpwstr>https://lixilgroup.sharepoint.com/sites/JPFS0378/_layouts/15/DocIdRedir.aspx?ID=JPFS0378-1162114063-57496, JPFS0378-1162114063-57496</vt:lpwstr>
  </property>
</Properties>
</file>